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4.jpeg" ContentType="image/jpeg"/>
  <Override PartName="/ppt/media/image33.png" ContentType="image/png"/>
  <Override PartName="/ppt/media/image32.jpeg" ContentType="image/jpeg"/>
  <Override PartName="/ppt/media/image44.png" ContentType="image/png"/>
  <Override PartName="/ppt/media/image13.jpeg" ContentType="image/jpeg"/>
  <Override PartName="/ppt/media/image35.png" ContentType="image/png"/>
  <Override PartName="/ppt/media/image5.png" ContentType="image/png"/>
  <Override PartName="/ppt/media/image8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49.png" ContentType="image/png"/>
  <Override PartName="/ppt/media/image5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75.png" ContentType="image/png"/>
  <Override PartName="/ppt/media/image22.jpeg" ContentType="image/jpeg"/>
  <Override PartName="/ppt/media/image39.png" ContentType="image/png"/>
  <Override PartName="/ppt/media/image67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.wmf" ContentType="image/x-wmf"/>
  <Override PartName="/ppt/media/image30.jpeg" ContentType="image/jpeg"/>
  <Override PartName="/ppt/media/image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25.jpeg" ContentType="image/jpeg"/>
  <Override PartName="/ppt/media/image70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66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80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7.jpeg" ContentType="image/jpeg"/>
  <Override PartName="/ppt/media/image81.png" ContentType="image/png"/>
  <Override PartName="/ppt/media/image16.png" ContentType="image/png"/>
  <Override PartName="/ppt/media/image27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24.jpeg" ContentType="image/jpeg"/>
  <Override PartName="/ppt/media/image59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0EA-945D-4B7C-BEF0-B0241F7C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96432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1AD-C6DC-4773-A51A-A6D8A66A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9BE-4284-47A4-91EC-4F8FA02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413-2FFB-4A3B-8C9A-6B74FA33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9EC2-301B-4075-B183-B256A208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C6F9-BE3B-4F7D-AAFA-FDB7B4A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6BEB-A526-48B6-BFB3-F5CAD2B1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E5E-41EA-461C-86AB-6B6103F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A7BA-4856-4BE1-B8D8-01537AB6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512A-72D4-47BB-B53E-8D98980A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8460-0BD7-45DE-BE43-970AEBB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E64-2405-4ABC-8033-AD8F6FC4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30B9-89A3-4255-9B9F-020A9BC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8518-D68C-4A53-A291-504F35A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96432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9BB-31D6-4D93-BC94-0E318E66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7074-3D27-4EEF-948A-DE1BCD3E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D328-80A2-46C2-921D-E1CD9FA4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6BD0-8C86-4958-A420-43677DF9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004F-B18E-4AF9-A0FE-63E273EE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45C1-4DEB-44E3-911B-C7AD316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925A-1F9C-4EB5-9E91-ED282ED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ED4F-5978-4311-B0B9-03A24324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060-DA3E-49CA-AD4D-20F918D7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D82F-35EF-477D-8B54-1CA69DA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5B92-9EBD-4D03-814F-8CB50A0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ED9C-1441-4783-8CDE-00BD8BB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FBC1-C860-4512-B69E-6F17A54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96432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B198-EA44-4393-B8B3-A90731C2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EDE6-124E-484C-8794-71C6DEF2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160020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964320"/>
            <a:ext cx="240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D7E0-1233-4EB3-9910-937EB853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059-45DD-469B-BDB7-8712EE1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F42-0C63-4AA7-84B5-0C4A139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4F5-06D1-41D7-A92B-31C7B5C6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EFA-BB38-4297-8838-C08F07B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96432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F71-2242-42B0-AF1B-E6789E1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1600200"/>
            <a:ext cx="365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964320"/>
            <a:ext cx="748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157-DD29-4516-994C-2335081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4EA-B93C-494E-BD2E-5C30A658281E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>
            <a:off x="88920" y="915840"/>
            <a:ext cx="35244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88920" y="915840"/>
            <a:ext cx="352440" cy="835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3A9B-7579-4B0E-B285-9828F4746A8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88920" y="915840"/>
            <a:ext cx="352440" cy="83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160020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D435-CCC9-439C-8472-02B3CB4F96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u-emi.eu/" TargetMode="External"/><Relationship Id="rId2" Type="http://schemas.openxmlformats.org/officeDocument/2006/relationships/hyperlink" Target="http://cdsweb.cern.ch/record/1277543/files/EMI-DNA1.3.2-1277543-Technical_Development_Plan-v1.0.pdf" TargetMode="External"/><Relationship Id="rId3" Type="http://schemas.openxmlformats.org/officeDocument/2006/relationships/hyperlink" Target="https://savannah.cern.ch/task/?group=emi-req" TargetMode="Externa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.uk/imgres?imgurl=http://sdu.ictp.it/openaccess/img/cern_logo.gif&amp;imgrefurl=http://sdu.ictp.it/openaccess/book.html&amp;usg=__5lcLAI2FDFaeVUmk6eQTi1idJQQ=&amp;h=400&amp;w=400&amp;sz=8&amp;hl=en&amp;start=33&amp;um=1&amp;tbnid=J2wtlm3dZDECFM:&amp;tbnh=124&amp;tbnw=124&amp;prev=/images?q=cern&amp;ndsp=21&amp;hl=en&amp;sa=N&amp;start=21&amp;um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.uk/imgres?imgurl=http://www.liberouter.org/netfpga/images/cesnet_logo.jpg&amp;imgrefurl=http://www.liberouter.org/netfpga/managed_by.php&amp;usg=__2q_JIXuH0ZxenpI7D9_4Oxa9WNY=&amp;h=518&amp;w=1169&amp;sz=37&amp;hl=en&amp;start=2&amp;um=1&amp;tbnid=nkpG8t4XUTlWlM:&amp;tbnh=66&amp;tbnw=150&amp;prev=/images?q=cesnet&amp;hl=en&amp;sa=N&amp;um=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.uk/imgres?imgurl=http://www.infn.it/cfett/eventi/innovaction_2007/logo-infn-nuovo.gif&amp;imgrefurl=http://www.infn.it/cfett/eventi/innovaction_2007/seminari.htm&amp;usg=__XNmrkspNhZc4HjAOwCzbNwT64cA=&amp;h=392&amp;w=400&amp;sz=9&amp;hl=en&amp;start=3&amp;um=1&amp;tbnid=dbeh-4ykVhoP8M:&amp;tbnh=122&amp;tbnw=124&amp;prev=/images?q=infn&amp;hl=en&amp;um=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.uk/imgres?imgurl=http://www.grnet.gr/templates/default/images/grnet-logo.jpg&amp;imgrefurl=http://www.grnet.gr/default.asp?pid=1&amp;la=2&amp;usg=__p1rZtqqZToA0rnYbG5q5beurBqQ=&amp;h=130&amp;w=330&amp;sz=20&amp;hl=en&amp;start=2&amp;um=1&amp;tbnid=jOUb4B56ZuDunM:&amp;tbnh=47&amp;tbnw=119&amp;prev=/images?q=grnet&amp;hl=en&amp;sa=N&amp;um=1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hyperlink" Target="http://www.uu.se/en" TargetMode="External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images.google.co.uk/imgres?imgurl=http://th.physik.uni-frankfurt.de/~huovinen/nikhef.png&amp;imgrefurl=http://th.physik.uni-frankfurt.de/~huovinen/ect.html&amp;usg=__zEX3N53_4BzrCQKA2YVfOh7bS5s=&amp;h=264&amp;w=597&amp;sz=2&amp;hl=en&amp;start=14&amp;um=1&amp;tbnid=8FWZRz7b8WanrM:&amp;tbnh=60&amp;tbnw=135&amp;prev=/images?q=nikhef&amp;hl=en&amp;um=1" TargetMode="External"/><Relationship Id="rId15" Type="http://schemas.openxmlformats.org/officeDocument/2006/relationships/image" Target="../media/image17.jpeg"/><Relationship Id="rId16" Type="http://schemas.openxmlformats.org/officeDocument/2006/relationships/hyperlink" Target="http://images.google.co.uk/imgres?imgurl=http://www.culturaitalia.it/pico/system/galleries/pics/alkacon-documentation/LogoCineca.jpg&amp;imgrefurl=http://www.culturaitalia.it/pico/modules/focus/it/focus_0183.html?print=true&amp;usg=__RiW7QxrsWPYl7iVX3qGcdNFYB-o=&amp;h=271&amp;w=250&amp;sz=35&amp;hl=en&amp;start=3&amp;um=1&amp;tbnid=9wntp0_sBTdRdM:&amp;tbnh=113&amp;tbnw=104&amp;prev=/images?q=cineca&amp;hl=en&amp;um=1" TargetMode="External"/><Relationship Id="rId17" Type="http://schemas.openxmlformats.org/officeDocument/2006/relationships/image" Target="../media/image18.jpeg"/><Relationship Id="rId18" Type="http://schemas.openxmlformats.org/officeDocument/2006/relationships/hyperlink" Target="http://www.scitech.ac.uk/home.aspx" TargetMode="External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hyperlink" Target="http://www.ku.dk/english" TargetMode="External"/><Relationship Id="rId22" Type="http://schemas.openxmlformats.org/officeDocument/2006/relationships/image" Target="../media/image21.png"/><Relationship Id="rId23" Type="http://schemas.openxmlformats.org/officeDocument/2006/relationships/hyperlink" Target="http://images.google.co.uk/imgres?imgurl=http://www.sofsem.sk/sofsem05/figs/UPJS.gif&amp;imgrefurl=http://www.sofsem.sk/sofsem05/main.html&amp;usg=__l4KljGFpYmaxNMmLGBhCQJI0xT4=&amp;h=292&amp;w=296&amp;sz=45&amp;hl=en&amp;start=3&amp;um=1&amp;tbnid=PufPAsVtBLkxMM:&amp;tbnh=114&amp;tbnw=116&amp;prev=/images?q=upjs&amp;hl=en&amp;sa=N&amp;um=1" TargetMode="External"/><Relationship Id="rId24" Type="http://schemas.openxmlformats.org/officeDocument/2006/relationships/image" Target="../media/image22.jpeg"/><Relationship Id="rId25" Type="http://schemas.openxmlformats.org/officeDocument/2006/relationships/hyperlink" Target="http://www.niif.hu/" TargetMode="External"/><Relationship Id="rId26" Type="http://schemas.openxmlformats.org/officeDocument/2006/relationships/image" Target="../media/image23.jpeg"/><Relationship Id="rId27" Type="http://schemas.openxmlformats.org/officeDocument/2006/relationships/hyperlink" Target="http://images.google.co.uk/imgres?imgurl=http://www.aal-persona.org/images/logos/logo_CSIC(Gray).gif&amp;imgrefurl=http://www.aal-persona.org/consortiumSpain.html&amp;usg=__MCExqNASBYzn7xQ4nxfZZvVxEMo=&amp;h=438&amp;w=300&amp;sz=43&amp;hl=en&amp;start=6&amp;um=1&amp;tbnid=MBUgVG9rraPTiM:&amp;tbnh=127&amp;tbnw=87&amp;prev=/images?q=csic+spain&amp;hl=en&amp;um=1" TargetMode="External"/><Relationship Id="rId28" Type="http://schemas.openxmlformats.org/officeDocument/2006/relationships/image" Target="../media/image24.jpeg"/><Relationship Id="rId29" Type="http://schemas.openxmlformats.org/officeDocument/2006/relationships/hyperlink" Target="http://images.google.co.uk/imgres?imgurl=http://www.retelab.org/retelab/UserFiles/Image/Participantes/cesga_logo.gif&amp;imgrefurl=http://www.retelab.org/retelab/retelab/web/web_portal.action?menu_selected=9&amp;usg=__BniEWaiml0FOEUCnzKjF2_hlXic=&amp;h=122&amp;w=390&amp;sz=6&amp;hl=en&amp;start=1&amp;um=1&amp;tbnid=8BZO3k3gu7lJkM:&amp;tbnh=38&amp;tbnw=123&amp;prev=/images?q=cesga&amp;hl=en&amp;um=1" TargetMode="External"/><Relationship Id="rId30" Type="http://schemas.openxmlformats.org/officeDocument/2006/relationships/image" Target="../media/image25.jpeg"/><Relationship Id="rId31" Type="http://schemas.openxmlformats.org/officeDocument/2006/relationships/hyperlink" Target="http://images.google.co.uk/imgres?imgurl=http://www.terena.nl/activities/training/pert/switch/gfx/switch-logo.gif&amp;imgrefurl=http://www.terena.org/activities/training/pert/switch/&amp;usg=__njm5siRnB9Fzu37mcQUih-_0GiU=&amp;h=44&amp;w=161&amp;sz=2&amp;hl=en&amp;start=11&amp;um=1&amp;tbnid=-hc_ppBbOnNumM:&amp;tbnh=27&amp;tbnw=98&amp;prev=/images?q=switch+switzerland+nren&amp;hl=en&amp;um=1" TargetMode="External"/><Relationship Id="rId32" Type="http://schemas.openxmlformats.org/officeDocument/2006/relationships/image" Target="../media/image26.jpeg"/><Relationship Id="rId33" Type="http://schemas.openxmlformats.org/officeDocument/2006/relationships/hyperlink" Target="http://images.google.co.uk/imgres?imgurl=http://www.helsinki.fi/~tlinden/NorduGridWS2002/1rgb0000.gif&amp;imgrefurl=http://www.helsinki.fi/~tlinden/NorduGridWS2002/&amp;usg=__eMhHlCF5G7wn7BwyrVeqUucSkF0=&amp;h=229&amp;w=227&amp;sz=7&amp;hl=en&amp;start=5&amp;um=1&amp;tbnid=egpEyvmGcc-3iM:&amp;tbnh=108&amp;tbnw=107&amp;prev=/images?q=university+helsinki+hip&amp;hl=en&amp;um=1" TargetMode="External"/><Relationship Id="rId34" Type="http://schemas.openxmlformats.org/officeDocument/2006/relationships/image" Target="../media/image27.jpeg"/><Relationship Id="rId35" Type="http://schemas.openxmlformats.org/officeDocument/2006/relationships/hyperlink" Target="http://images.google.co.uk/imgres?imgurl=http://ict-reeb.eu/objects2/TUD-logo.jpg&amp;imgrefurl=http://ict-reeb.eu/tud.html&amp;usg=__PftWJF55ddbTzoiHPWhgao2IelE=&amp;h=63&amp;w=177&amp;sz=7&amp;hl=en&amp;start=28&amp;um=1&amp;tbnid=3Fy3AZrByqI6PM:&amp;tbnh=36&amp;tbnw=101&amp;prev=/images?q=tud+dresda&amp;ndsp=21&amp;hl=en&amp;sa=N&amp;start=21&amp;um=1" TargetMode="External"/><Relationship Id="rId36" Type="http://schemas.openxmlformats.org/officeDocument/2006/relationships/image" Target="../media/image28.jpeg"/><Relationship Id="rId37" Type="http://schemas.openxmlformats.org/officeDocument/2006/relationships/hyperlink" Target="http://images.google.co.uk/imgres?imgurl=http://mural.uv.es/hecfran/gif/tcd.gif&amp;imgrefurl=http://mural.uv.es/hecfran/cvHectorFranco.html&amp;usg=__1WIWvAPlXJrHvA_2or8OEA33TXk=&amp;h=709&amp;w=709&amp;sz=167&amp;hl=en&amp;start=4&amp;um=1&amp;tbnid=dcXBqpyRWfpwBM:&amp;tbnh=140&amp;tbnw=140&amp;prev=/images?q=trinity+college+dublin+logo&amp;hl=en&amp;um=1" TargetMode="External"/><Relationship Id="rId38" Type="http://schemas.openxmlformats.org/officeDocument/2006/relationships/image" Target="../media/image29.jpeg"/><Relationship Id="rId39" Type="http://schemas.openxmlformats.org/officeDocument/2006/relationships/hyperlink" Target="http://images.google.co.uk/imgres?imgurl=http://www.w3.org/2001/sw/sweo/public/UseCases/OntoFrame/logo-small.jpg&amp;imgrefurl=http://www.w3.org/2001/sw/sweo/public/UseCases/OntoFrame/&amp;usg=__Qj4gZb-kFqAkJAOE88omhxMtM-0=&amp;h=75&amp;w=142&amp;sz=4&amp;hl=en&amp;start=13&amp;um=1&amp;tbnid=K8FHTlYDNwoMhM:&amp;tbnh=50&amp;tbnw=94&amp;prev=/images?q=kisti+korea+logo&amp;hl=en&amp;sa=N&amp;um=1" TargetMode="External"/><Relationship Id="rId40" Type="http://schemas.openxmlformats.org/officeDocument/2006/relationships/image" Target="../media/image30.jpeg"/><Relationship Id="rId41" Type="http://schemas.openxmlformats.org/officeDocument/2006/relationships/image" Target="../media/image31.png"/><Relationship Id="rId42" Type="http://schemas.openxmlformats.org/officeDocument/2006/relationships/hyperlink" Target="http://en.wikipedia.org/wiki/File:TAIWAN_Karte_Gross.jpg" TargetMode="External"/><Relationship Id="rId43" Type="http://schemas.openxmlformats.org/officeDocument/2006/relationships/image" Target="../media/image32.jpeg"/><Relationship Id="rId44" Type="http://schemas.openxmlformats.org/officeDocument/2006/relationships/image" Target="../media/image33.png"/><Relationship Id="rId45" Type="http://schemas.openxmlformats.org/officeDocument/2006/relationships/image" Target="../media/image34.jpeg"/><Relationship Id="rId46" Type="http://schemas.openxmlformats.org/officeDocument/2006/relationships/image" Target="../media/image35.png"/><Relationship Id="rId47" Type="http://schemas.openxmlformats.org/officeDocument/2006/relationships/image" Target="../media/image36.png"/><Relationship Id="rId48" Type="http://schemas.openxmlformats.org/officeDocument/2006/relationships/hyperlink" Target="http://www.desy.de/index_ger.html" TargetMode="External"/><Relationship Id="rId49" Type="http://schemas.openxmlformats.org/officeDocument/2006/relationships/image" Target="../media/image37.png"/><Relationship Id="rId5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image" Target="../media/image76.png"/><Relationship Id="rId14" Type="http://schemas.openxmlformats.org/officeDocument/2006/relationships/image" Target="../media/image77.png"/><Relationship Id="rId15" Type="http://schemas.openxmlformats.org/officeDocument/2006/relationships/image" Target="../media/image78.jpeg"/><Relationship Id="rId16" Type="http://schemas.openxmlformats.org/officeDocument/2006/relationships/image" Target="../media/image79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197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EMI</a:t>
            </a:r>
            <a:br>
              <a:rPr sz="3200"/>
            </a:b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Structure, Plans, Deliverables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57200" y="3675240"/>
            <a:ext cx="6400800" cy="22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253f"/>
                </a:solidFill>
                <a:latin typeface="Calibri"/>
              </a:rPr>
              <a:t>Alberto Di Meglio (CER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253f"/>
                </a:solidFill>
                <a:latin typeface="Calibri"/>
              </a:rPr>
              <a:t>Project Direct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0253f"/>
                </a:solidFill>
                <a:latin typeface="Calibri"/>
              </a:rPr>
              <a:t>ATLAS Software &amp; Computing Week</a:t>
            </a:r>
            <a:endParaRPr b="0" lang="en-US" sz="2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0253f"/>
                </a:solidFill>
                <a:latin typeface="Calibri"/>
              </a:rPr>
              <a:t>Geneva, 21 July 2011</a:t>
            </a:r>
            <a:endParaRPr b="0" lang="en-US" sz="2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7" descr="EMI_Logo_white 2.jpg"/>
          <p:cNvPicPr/>
          <p:nvPr/>
        </p:nvPicPr>
        <p:blipFill>
          <a:blip r:embed="rId2"/>
          <a:stretch/>
        </p:blipFill>
        <p:spPr>
          <a:xfrm>
            <a:off x="3378240" y="743040"/>
            <a:ext cx="2365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Technical Objectives DNA1.3.1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08000" y="765000"/>
          <a:ext cx="8856720" cy="6045480"/>
        </p:xfrm>
        <a:graphic>
          <a:graphicData uri="http://schemas.openxmlformats.org/drawingml/2006/table">
            <a:tbl>
              <a:tblPr/>
              <a:tblGrid>
                <a:gridCol w="388800"/>
                <a:gridCol w="3498840"/>
                <a:gridCol w="2171880"/>
                <a:gridCol w="777960"/>
                <a:gridCol w="2019240"/>
              </a:tblGrid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onents /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ad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e 2.0 support in job management services and client tool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REX, CREAM, UNICORE Services Environments, UCC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, arc*, arclib_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/6 -  50% achieved (not WMS and no clients yet), all clients in Y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storage elements publishing initial GLUE 2.0 storag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ache, DPM, St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https instead of httpg for the SRM protocol as a prototype implementation in one storage element and client (libra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ache server and 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storage elements offering support for the http(s) proto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ache, DPM, St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storage elements offering at least a prototype-level support for the "file://" access proto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ache, DPM, St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 Catalogue Access from UNICOR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CORE Services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/1 Prototype exi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eement on a minimal common set of security attributes to be used in poli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ACML Policy Agre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early internal guidelines for integrating messaging into potential EMI target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lines exi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a common EMI service registry that is required in order to discover all the service endpoints of the different middleware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 Service Registry Design exi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e possible use cases for a common standard messaging system in the accounting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Use Case Survey exi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e possible use cases for a common standard messaging system for the service monitoring and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initial stud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5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e possible use cases for a common standard messaging system for the information services and L&amp;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Case Survey exi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achie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39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8CF-A330-4E19-9DCD-5777138E8A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c000"/>
                </a:solidFill>
                <a:latin typeface="Arial"/>
              </a:rPr>
              <a:t>Year 2 top technical priorities (1/2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00000" y="907560"/>
            <a:ext cx="7786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Compute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EMI Execution Service: implementation of the agreed common job management method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GLUE2 support in compute client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Data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Client-side GLUE2 support implementatio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EMI Data Access Library design and implementatio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Storage Element and Catalogue synchronizatio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Security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implified management of security credentials (AAI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EMI Authentication Library implementatio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EMI delegation agreement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231-CC51-4CD1-BE6B-8F13C3E832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c000"/>
                </a:solidFill>
                <a:latin typeface="Arial"/>
              </a:rPr>
              <a:t>Year 2 top technical priorities (2/2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00000" y="1052280"/>
            <a:ext cx="77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Infrastructure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EMI service registry implementatio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Cloud strategy definitio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Delivery of service monitoring via NAGIOS for all servic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All: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Consolidation plans (removal of duplicate and obsolete components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Port to SL6 and Debian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Usability improvements 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Command line parameter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Error messag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39B-E3FF-4A2B-A93E-965C7E6C00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000"/>
                </a:solidFill>
                <a:latin typeface="Arial"/>
              </a:rPr>
              <a:t>User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0DC2-A829-4519-AE90-9F889241C2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55280" y="779040"/>
            <a:ext cx="793116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GUS used as single entry point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411" name="Picture 11" descr=""/>
          <p:cNvPicPr/>
          <p:nvPr/>
        </p:nvPicPr>
        <p:blipFill>
          <a:blip r:embed="rId1"/>
          <a:srcRect l="8569" t="11802" r="6643" b="13695"/>
          <a:stretch/>
        </p:blipFill>
        <p:spPr>
          <a:xfrm>
            <a:off x="1803240" y="1341360"/>
            <a:ext cx="6340680" cy="393696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744480" y="5316480"/>
            <a:ext cx="7931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edicated Support Unit for each Product or sets of relat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c000"/>
                </a:solidFill>
                <a:latin typeface="Arial"/>
              </a:rPr>
              <a:t>Time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00000" y="1052280"/>
            <a:ext cx="77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10920"/>
                </a:solidFill>
                <a:latin typeface="Calibri"/>
              </a:rPr>
              <a:t>July 2011</a:t>
            </a: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: Development plan details defined, Product Teams start working on new major functional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10920"/>
                </a:solidFill>
                <a:latin typeface="Calibri"/>
              </a:rPr>
              <a:t>Dec 2011</a:t>
            </a: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: Beta versions of all new services and functional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10920"/>
                </a:solidFill>
                <a:latin typeface="Calibri"/>
              </a:rPr>
              <a:t>April 2012</a:t>
            </a: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: EMI 2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10920"/>
                </a:solidFill>
                <a:latin typeface="Calibri"/>
              </a:rPr>
              <a:t>Continuous activity</a:t>
            </a:r>
            <a:r>
              <a:rPr b="0" lang="sv-SE" sz="2800" spc="-1" strike="noStrike">
                <a:solidFill>
                  <a:srgbClr val="010920"/>
                </a:solidFill>
                <a:latin typeface="Calibri"/>
              </a:rPr>
              <a:t>: bug fixing, release of minor, backward compatible features depending on user needs (independent service release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4A6-4E70-4186-9A00-5A4A67C626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c000"/>
                </a:solidFill>
                <a:latin typeface="Arial"/>
              </a:rPr>
              <a:t>Useful link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00000" y="1052280"/>
            <a:ext cx="77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EMI Web Site</a:t>
            </a:r>
            <a:br>
              <a:rPr sz="2000"/>
            </a:br>
            <a:r>
              <a:rPr b="1" lang="sv-SE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u-emi.eu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Y2 Technical Plan</a:t>
            </a:r>
            <a:br>
              <a:rPr sz="2000"/>
            </a:br>
            <a:r>
              <a:rPr b="1" lang="sv-SE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dsweb.cern.ch/record/1277543/files/EMI-DNA1.3.2-1277543-Technical_Development_Plan-v1.0.pdf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Requirements Tracker</a:t>
            </a:r>
            <a:br>
              <a:rPr sz="2000"/>
            </a:br>
            <a:r>
              <a:rPr b="1" lang="sv-SE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savannah.cern.ch/task/?group=emi-req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EMI Software Repository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ttp://emisoft.web.cern.ch/emisoft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EMI Documentation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ttp://www.eu-emi.eu/en/emi-1-kebnekaise-docs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GGUS (for submitting bugs and new requirements)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ttps://ggus.org/pages/home.ph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10920"/>
                </a:solidFill>
                <a:latin typeface="Calibri"/>
              </a:rPr>
              <a:t>Announce mailing list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http://mail.eu-emi.eu/mailman/listinfo/emi-announce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1475-DDEE-4315-872E-FF22A3ECE4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E86-CEF7-4594-AEE2-66445A67D83F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255600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1730520" y="1244520"/>
            <a:ext cx="6629400" cy="2781360"/>
          </a:xfrm>
          <a:prstGeom prst="rect">
            <a:avLst/>
          </a:prstGeom>
          <a:ln w="0">
            <a:noFill/>
          </a:ln>
        </p:spPr>
      </p:pic>
      <p:sp>
        <p:nvSpPr>
          <p:cNvPr id="428" name="Title 13"/>
          <p:cNvSpPr/>
          <p:nvPr/>
        </p:nvSpPr>
        <p:spPr>
          <a:xfrm>
            <a:off x="7383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092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What is EMI?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2" name="Date Placeholder 7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C88-B1D2-41C5-A87B-DF78AF493BCF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egee2.eu-egee.org/egee07/resolveUid/9b21156632ea82b47be000ac7ceef098"/>
          <p:cNvPicPr/>
          <p:nvPr/>
        </p:nvPicPr>
        <p:blipFill>
          <a:blip r:embed="rId1"/>
          <a:stretch/>
        </p:blipFill>
        <p:spPr>
          <a:xfrm>
            <a:off x="2855880" y="5445000"/>
            <a:ext cx="1108080" cy="731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http://www.unicore.eu/unicore/img/UNICORE-Logo-PPT-300dpi-transparent.png"/>
          <p:cNvPicPr/>
          <p:nvPr/>
        </p:nvPicPr>
        <p:blipFill>
          <a:blip r:embed="rId2"/>
          <a:stretch/>
        </p:blipFill>
        <p:spPr>
          <a:xfrm>
            <a:off x="4699080" y="5640480"/>
            <a:ext cx="1620720" cy="33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rcRect l="39163" t="0" r="39384" b="0"/>
          <a:stretch/>
        </p:blipFill>
        <p:spPr>
          <a:xfrm>
            <a:off x="7054920" y="5384880"/>
            <a:ext cx="1047600" cy="852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RC logo"/>
          <p:cNvPicPr/>
          <p:nvPr/>
        </p:nvPicPr>
        <p:blipFill>
          <a:blip r:embed="rId4"/>
          <a:stretch/>
        </p:blipFill>
        <p:spPr>
          <a:xfrm>
            <a:off x="1547640" y="5430960"/>
            <a:ext cx="578160" cy="760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1187280" y="907920"/>
            <a:ext cx="74883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European Middlewar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ollaboration among the four major European middlew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hree-year project, 24 M EUR, 50% from the European Commission, 50% from the partn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26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Work in three major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  <a:ea typeface="Arial"/>
              </a:rPr>
              <a:t>Consolidation of common libraries, clients, interfaces across the four MW stacks, decommissioning of unu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  <a:ea typeface="Arial"/>
              </a:rPr>
              <a:t>Development of new functionality based on 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  <a:ea typeface="Arial"/>
              </a:rPr>
              <a:t>User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software112.com/images/Web-Development/Flash-Tools/Screenshots/38193-europe-map-locator.jpg"/>
          <p:cNvPicPr/>
          <p:nvPr/>
        </p:nvPicPr>
        <p:blipFill>
          <a:blip r:embed="rId1"/>
          <a:stretch/>
        </p:blipFill>
        <p:spPr>
          <a:xfrm>
            <a:off x="1154160" y="1239840"/>
            <a:ext cx="6429240" cy="5186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Partners (26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2" name="Date Placeholder 61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C330-ECA0-4630-B631-F0EFE9507AA2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http://t1.gstatic.com/images?q=tbn:J2wtlm3dZDECFM:http://sdu.ictp.it/openaccess/img/cern_logo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2640" y="4062240"/>
            <a:ext cx="544680" cy="544680"/>
          </a:xfrm>
          <a:prstGeom prst="rect">
            <a:avLst/>
          </a:prstGeom>
          <a:ln w="0">
            <a:noFill/>
          </a:ln>
        </p:spPr>
      </p:pic>
      <p:cxnSp>
        <p:nvCxnSpPr>
          <p:cNvPr id="156" name="Elbow Connector 8"/>
          <p:cNvCxnSpPr/>
          <p:nvPr/>
        </p:nvCxnSpPr>
        <p:spPr>
          <a:xfrm>
            <a:off x="1327320" y="4334040"/>
            <a:ext cx="1713600" cy="227520"/>
          </a:xfrm>
          <a:prstGeom prst="bentConnector3">
            <a:avLst>
              <a:gd name="adj1" fmla="val 49989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57" name="Picture 16" descr="http://t2.gstatic.com/images?q=tbn:nkpG8t4XUTlWlM:http://www.liberouter.org/netfpga/images/cesnet_lo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4780080"/>
            <a:ext cx="1136880" cy="500040"/>
          </a:xfrm>
          <a:prstGeom prst="rect">
            <a:avLst/>
          </a:prstGeom>
          <a:ln w="0">
            <a:noFill/>
          </a:ln>
        </p:spPr>
      </p:pic>
      <p:cxnSp>
        <p:nvCxnSpPr>
          <p:cNvPr id="158" name="Shape 11"/>
          <p:cNvCxnSpPr/>
          <p:nvPr/>
        </p:nvCxnSpPr>
        <p:spPr>
          <a:xfrm rot="10800000">
            <a:off x="3818880" y="4244400"/>
            <a:ext cx="676800" cy="786240"/>
          </a:xfrm>
          <a:prstGeom prst="bentConnector2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59" name="Picture 22" descr="http://t1.gstatic.com/images?q=tbn:dbeh-4ykVhoP8M:http://www.infn.it/cfett/eventi/innovaction_2007/logo-infn-nuovo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36600" y="5492880"/>
            <a:ext cx="654120" cy="642960"/>
          </a:xfrm>
          <a:prstGeom prst="rect">
            <a:avLst/>
          </a:prstGeom>
          <a:ln w="0">
            <a:noFill/>
          </a:ln>
        </p:spPr>
      </p:pic>
      <p:cxnSp>
        <p:nvCxnSpPr>
          <p:cNvPr id="160" name="Shape 16"/>
          <p:cNvCxnSpPr/>
          <p:nvPr/>
        </p:nvCxnSpPr>
        <p:spPr>
          <a:xfrm flipV="1">
            <a:off x="2790360" y="4717800"/>
            <a:ext cx="554760" cy="1095840"/>
          </a:xfrm>
          <a:prstGeom prst="bentConnector2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61" name="Picture 32" descr="http://t3.gstatic.com/images?q=tbn:jOUb4B56ZuDunM:http://www.grnet.gr/templates/default/images/grnet-logo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45200" y="5607000"/>
            <a:ext cx="1322280" cy="522360"/>
          </a:xfrm>
          <a:prstGeom prst="rect">
            <a:avLst/>
          </a:prstGeom>
          <a:ln w="0">
            <a:noFill/>
          </a:ln>
        </p:spPr>
      </p:pic>
      <p:cxnSp>
        <p:nvCxnSpPr>
          <p:cNvPr id="162" name="Elbow Connector 19"/>
          <p:cNvCxnSpPr/>
          <p:nvPr/>
        </p:nvCxnSpPr>
        <p:spPr>
          <a:xfrm rot="10800000">
            <a:off x="4541040" y="5834880"/>
            <a:ext cx="70416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63" name="Picture 2" descr="Lund University"/>
          <p:cNvPicPr/>
          <p:nvPr/>
        </p:nvPicPr>
        <p:blipFill>
          <a:blip r:embed="rId10"/>
          <a:stretch/>
        </p:blipFill>
        <p:spPr>
          <a:xfrm>
            <a:off x="3435480" y="1149480"/>
            <a:ext cx="785520" cy="498240"/>
          </a:xfrm>
          <a:prstGeom prst="rect">
            <a:avLst/>
          </a:prstGeom>
          <a:ln w="0">
            <a:noFill/>
          </a:ln>
        </p:spPr>
      </p:pic>
      <p:cxnSp>
        <p:nvCxnSpPr>
          <p:cNvPr id="164" name="Shape 24"/>
          <p:cNvCxnSpPr/>
          <p:nvPr/>
        </p:nvCxnSpPr>
        <p:spPr>
          <a:xfrm flipH="1" rot="16200000">
            <a:off x="2925720" y="2549160"/>
            <a:ext cx="1851840" cy="48240"/>
          </a:xfrm>
          <a:prstGeom prst="bentConnector3">
            <a:avLst>
              <a:gd name="adj1" fmla="val 4999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65" name="Picture 4" descr="Uppsala universite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43360" y="1003320"/>
            <a:ext cx="857520" cy="857160"/>
          </a:xfrm>
          <a:prstGeom prst="rect">
            <a:avLst/>
          </a:prstGeom>
          <a:ln w="0">
            <a:noFill/>
          </a:ln>
        </p:spPr>
      </p:pic>
      <p:cxnSp>
        <p:nvCxnSpPr>
          <p:cNvPr id="166" name="Elbow Connector 28"/>
          <p:cNvCxnSpPr/>
          <p:nvPr/>
        </p:nvCxnSpPr>
        <p:spPr>
          <a:xfrm rot="5400000">
            <a:off x="4104720" y="1958760"/>
            <a:ext cx="1166040" cy="96912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67" name="Picture 6" descr="University of Oslo"/>
          <p:cNvPicPr/>
          <p:nvPr/>
        </p:nvPicPr>
        <p:blipFill>
          <a:blip r:embed="rId13"/>
          <a:stretch/>
        </p:blipFill>
        <p:spPr>
          <a:xfrm>
            <a:off x="693720" y="1747800"/>
            <a:ext cx="1428840" cy="384120"/>
          </a:xfrm>
          <a:prstGeom prst="rect">
            <a:avLst/>
          </a:prstGeom>
          <a:ln w="0">
            <a:noFill/>
          </a:ln>
        </p:spPr>
      </p:pic>
      <p:cxnSp>
        <p:nvCxnSpPr>
          <p:cNvPr id="168" name="Elbow Connector 33"/>
          <p:cNvCxnSpPr/>
          <p:nvPr/>
        </p:nvCxnSpPr>
        <p:spPr>
          <a:xfrm>
            <a:off x="2122560" y="1940040"/>
            <a:ext cx="1527840" cy="1018080"/>
          </a:xfrm>
          <a:prstGeom prst="bentConnector3">
            <a:avLst>
              <a:gd name="adj1" fmla="val 49988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69" name="Picture 24" descr="http://t1.gstatic.com/images?q=tbn:8FWZRz7b8WanrM:http://th.physik.uni-frankfurt.de/~huovinen/nikhef.pn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90600" y="3649680"/>
            <a:ext cx="912960" cy="406440"/>
          </a:xfrm>
          <a:prstGeom prst="rect">
            <a:avLst/>
          </a:prstGeom>
          <a:ln w="0">
            <a:noFill/>
          </a:ln>
        </p:spPr>
      </p:pic>
      <p:cxnSp>
        <p:nvCxnSpPr>
          <p:cNvPr id="170" name="Elbow Connector 44"/>
          <p:cNvCxnSpPr/>
          <p:nvPr/>
        </p:nvCxnSpPr>
        <p:spPr>
          <a:xfrm flipV="1">
            <a:off x="2203560" y="3815640"/>
            <a:ext cx="984960" cy="37080"/>
          </a:xfrm>
          <a:prstGeom prst="bentConnector3">
            <a:avLst>
              <a:gd name="adj1" fmla="val 49981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71" name="Picture 34" descr="http://t1.gstatic.com/images?q=tbn:9wntp0_sBTdRdM:http://www.culturaitalia.it/pico/system/galleries/pics/alkacon-documentation/LogoCineca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583080" y="5715000"/>
            <a:ext cx="525240" cy="571680"/>
          </a:xfrm>
          <a:prstGeom prst="rect">
            <a:avLst/>
          </a:prstGeom>
          <a:ln w="0">
            <a:noFill/>
          </a:ln>
        </p:spPr>
      </p:pic>
      <p:cxnSp>
        <p:nvCxnSpPr>
          <p:cNvPr id="172" name="Elbow Connector 47"/>
          <p:cNvCxnSpPr/>
          <p:nvPr/>
        </p:nvCxnSpPr>
        <p:spPr>
          <a:xfrm flipV="1" rot="16200000">
            <a:off x="3231720" y="5101560"/>
            <a:ext cx="861120" cy="365760"/>
          </a:xfrm>
          <a:prstGeom prst="bentConnector3">
            <a:avLst>
              <a:gd name="adj1" fmla="val 49979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73" name="Elbow Connector 53"/>
          <p:cNvCxnSpPr/>
          <p:nvPr/>
        </p:nvCxnSpPr>
        <p:spPr>
          <a:xfrm flipH="1" rot="16200000">
            <a:off x="2865240" y="3594960"/>
            <a:ext cx="65484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74" name="Picture 26" descr="STFC Home P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1200" y="2854440"/>
            <a:ext cx="14288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75" name="Elbow Connector 56"/>
          <p:cNvCxnSpPr/>
          <p:nvPr/>
        </p:nvCxnSpPr>
        <p:spPr>
          <a:xfrm>
            <a:off x="1940040" y="3036960"/>
            <a:ext cx="705240" cy="47520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76" name="Picture 3" descr=""/>
          <p:cNvPicPr/>
          <p:nvPr/>
        </p:nvPicPr>
        <p:blipFill>
          <a:blip r:embed="rId20"/>
          <a:stretch/>
        </p:blipFill>
        <p:spPr>
          <a:xfrm>
            <a:off x="4867200" y="3008160"/>
            <a:ext cx="746280" cy="479520"/>
          </a:xfrm>
          <a:prstGeom prst="rect">
            <a:avLst/>
          </a:prstGeom>
          <a:ln w="0">
            <a:noFill/>
          </a:ln>
        </p:spPr>
      </p:pic>
      <p:cxnSp>
        <p:nvCxnSpPr>
          <p:cNvPr id="177" name="Elbow Connector 62"/>
          <p:cNvCxnSpPr/>
          <p:nvPr/>
        </p:nvCxnSpPr>
        <p:spPr>
          <a:xfrm flipV="1" rot="10800000">
            <a:off x="4315680" y="3247560"/>
            <a:ext cx="551520" cy="704160"/>
          </a:xfrm>
          <a:prstGeom prst="bentConnector2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78" name="Picture 8" descr="University of Copenhagen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84400" y="1792440"/>
            <a:ext cx="600120" cy="657000"/>
          </a:xfrm>
          <a:prstGeom prst="rect">
            <a:avLst/>
          </a:prstGeom>
          <a:ln w="0">
            <a:noFill/>
          </a:ln>
        </p:spPr>
      </p:pic>
      <p:cxnSp>
        <p:nvCxnSpPr>
          <p:cNvPr id="179" name="Elbow Connector 36"/>
          <p:cNvCxnSpPr/>
          <p:nvPr/>
        </p:nvCxnSpPr>
        <p:spPr>
          <a:xfrm flipH="1" rot="16200000">
            <a:off x="2986920" y="2746800"/>
            <a:ext cx="1062720" cy="467280"/>
          </a:xfrm>
          <a:prstGeom prst="bentConnector3">
            <a:avLst>
              <a:gd name="adj1" fmla="val 49983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80" name="Picture 10" descr="http://t3.gstatic.com/images?q=tbn:PufPAsVtBLkxMM:http://www.sofsem.sk/sofsem05/figs/UPJS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86280" y="3603600"/>
            <a:ext cx="547560" cy="539640"/>
          </a:xfrm>
          <a:prstGeom prst="rect">
            <a:avLst/>
          </a:prstGeom>
          <a:ln w="0">
            <a:noFill/>
          </a:ln>
        </p:spPr>
      </p:pic>
      <p:cxnSp>
        <p:nvCxnSpPr>
          <p:cNvPr id="181" name="Elbow Connector 40"/>
          <p:cNvCxnSpPr/>
          <p:nvPr/>
        </p:nvCxnSpPr>
        <p:spPr>
          <a:xfrm rot="5400000">
            <a:off x="4320360" y="3922560"/>
            <a:ext cx="588240" cy="464400"/>
          </a:xfrm>
          <a:prstGeom prst="bentConnector3">
            <a:avLst>
              <a:gd name="adj1" fmla="val 49969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82" name="Picture 12" descr="Hom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718240" y="4054320"/>
            <a:ext cx="765000" cy="462240"/>
          </a:xfrm>
          <a:prstGeom prst="rect">
            <a:avLst/>
          </a:prstGeom>
          <a:ln w="0">
            <a:noFill/>
          </a:ln>
        </p:spPr>
      </p:pic>
      <p:cxnSp>
        <p:nvCxnSpPr>
          <p:cNvPr id="183" name="Elbow Connector 50"/>
          <p:cNvCxnSpPr/>
          <p:nvPr/>
        </p:nvCxnSpPr>
        <p:spPr>
          <a:xfrm flipV="1" rot="10800000">
            <a:off x="4179240" y="4284360"/>
            <a:ext cx="15390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84" name="Picture 2" descr="http://t0.gstatic.com/images?q=tbn:MBUgVG9rraPTiM:http://www.aal-persona.org/images/logos/logo_CSIC(Gray).gif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847800" y="5776920"/>
            <a:ext cx="388800" cy="566640"/>
          </a:xfrm>
          <a:prstGeom prst="rect">
            <a:avLst/>
          </a:prstGeom>
          <a:ln w="0">
            <a:noFill/>
          </a:ln>
        </p:spPr>
      </p:pic>
      <p:cxnSp>
        <p:nvCxnSpPr>
          <p:cNvPr id="185" name="Shape 59"/>
          <p:cNvCxnSpPr/>
          <p:nvPr/>
        </p:nvCxnSpPr>
        <p:spPr>
          <a:xfrm flipV="1">
            <a:off x="1236600" y="5046120"/>
            <a:ext cx="675360" cy="1014840"/>
          </a:xfrm>
          <a:prstGeom prst="bentConnector2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86" name="Picture 20" descr="http://t2.gstatic.com/images?q=tbn:8BZO3k3gu7lJkM:http://www.retelab.org/retelab/UserFiles/Image/Participantes/cesga_logo.gif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73040" y="5079960"/>
            <a:ext cx="951120" cy="2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8" descr="http://t3.gstatic.com/images?q=tbn:-hc_ppBbOnNumM:http://www.terena.nl/activities/training/pert/switch/gfx/switch-logo.gif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2228760" y="5097600"/>
            <a:ext cx="933480" cy="257040"/>
          </a:xfrm>
          <a:prstGeom prst="rect">
            <a:avLst/>
          </a:prstGeom>
          <a:ln w="0">
            <a:noFill/>
          </a:ln>
        </p:spPr>
      </p:pic>
      <p:cxnSp>
        <p:nvCxnSpPr>
          <p:cNvPr id="188" name="Elbow Connector 69"/>
          <p:cNvCxnSpPr/>
          <p:nvPr/>
        </p:nvCxnSpPr>
        <p:spPr>
          <a:xfrm flipH="1" flipV="1" rot="5400000">
            <a:off x="2649960" y="4537800"/>
            <a:ext cx="605520" cy="514440"/>
          </a:xfrm>
          <a:prstGeom prst="bentConnector3">
            <a:avLst>
              <a:gd name="adj1" fmla="val 4997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89" name="Picture 30" descr="http://t0.gstatic.com/images?q=tbn:egpEyvmGcc-3iM:http://www.helsinki.fi/~tlinden/NorduGridWS2002/1rgb0000.gif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5425920" y="1927080"/>
            <a:ext cx="567000" cy="571680"/>
          </a:xfrm>
          <a:prstGeom prst="rect">
            <a:avLst/>
          </a:prstGeom>
          <a:ln w="0">
            <a:noFill/>
          </a:ln>
        </p:spPr>
      </p:pic>
      <p:cxnSp>
        <p:nvCxnSpPr>
          <p:cNvPr id="190" name="Elbow Connector 73"/>
          <p:cNvCxnSpPr/>
          <p:nvPr/>
        </p:nvCxnSpPr>
        <p:spPr>
          <a:xfrm rot="5400000">
            <a:off x="4957200" y="2217600"/>
            <a:ext cx="470520" cy="1032480"/>
          </a:xfrm>
          <a:prstGeom prst="bentConnector2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91" name="Picture 40" descr="http://t3.gstatic.com/images?q=tbn:3Fy3AZrByqI6PM:http://ict-reeb.eu/objects2/TUD-logo.jpg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2362320" y="4068720"/>
            <a:ext cx="961920" cy="343080"/>
          </a:xfrm>
          <a:prstGeom prst="rect">
            <a:avLst/>
          </a:prstGeom>
          <a:ln w="0">
            <a:noFill/>
          </a:ln>
        </p:spPr>
      </p:pic>
      <p:cxnSp>
        <p:nvCxnSpPr>
          <p:cNvPr id="192" name="Elbow Connector 80"/>
          <p:cNvCxnSpPr/>
          <p:nvPr/>
        </p:nvCxnSpPr>
        <p:spPr>
          <a:xfrm flipV="1">
            <a:off x="3324240" y="4085640"/>
            <a:ext cx="473760" cy="154440"/>
          </a:xfrm>
          <a:prstGeom prst="bentConnector3">
            <a:avLst>
              <a:gd name="adj1" fmla="val 49961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93" name="Picture 6" descr="http://t1.gstatic.com/images?q=tbn:dcXBqpyRWfpwBM:http://mural.uv.es/hecfran/gif/tcd.gif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746280" y="3409920"/>
            <a:ext cx="474480" cy="473040"/>
          </a:xfrm>
          <a:prstGeom prst="rect">
            <a:avLst/>
          </a:prstGeom>
          <a:ln w="0">
            <a:noFill/>
          </a:ln>
        </p:spPr>
      </p:pic>
      <p:cxnSp>
        <p:nvCxnSpPr>
          <p:cNvPr id="194" name="Shape 90"/>
          <p:cNvCxnSpPr/>
          <p:nvPr/>
        </p:nvCxnSpPr>
        <p:spPr>
          <a:xfrm flipH="1" flipV="1" rot="5400000">
            <a:off x="1626840" y="2719080"/>
            <a:ext cx="46800" cy="1335600"/>
          </a:xfrm>
          <a:prstGeom prst="bentConnector2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95" name="Picture 2" descr="http://t3.gstatic.com/images?q=tbn:K8FHTlYDNwoMhM:http://www.w3.org/2001/sw/sweo/public/UseCases/OntoFrame/logo-small.jpg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589800" y="386856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41"/>
          <a:stretch/>
        </p:blipFill>
        <p:spPr>
          <a:xfrm>
            <a:off x="6564240" y="5440320"/>
            <a:ext cx="1303560" cy="1417680"/>
          </a:xfrm>
          <a:prstGeom prst="rect">
            <a:avLst/>
          </a:prstGeom>
          <a:ln w="0">
            <a:noFill/>
          </a:ln>
        </p:spPr>
      </p:pic>
      <p:cxnSp>
        <p:nvCxnSpPr>
          <p:cNvPr id="197" name="Elbow Connector 55"/>
          <p:cNvCxnSpPr/>
          <p:nvPr/>
        </p:nvCxnSpPr>
        <p:spPr>
          <a:xfrm flipH="1" rot="16200000">
            <a:off x="6345720" y="5035680"/>
            <a:ext cx="1491480" cy="10872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198" name="Picture 57" descr="http://upload.wikimedia.org/wikipedia/commons/thumb/0/02/TAIWAN_Karte_Gross.jpg/180px-TAIWAN_Karte_Gross.jp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7997760" y="5451480"/>
            <a:ext cx="1146240" cy="140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8" descr=""/>
          <p:cNvPicPr/>
          <p:nvPr/>
        </p:nvPicPr>
        <p:blipFill>
          <a:blip r:embed="rId44"/>
          <a:stretch/>
        </p:blipFill>
        <p:spPr>
          <a:xfrm>
            <a:off x="8050320" y="3789360"/>
            <a:ext cx="600120" cy="600120"/>
          </a:xfrm>
          <a:prstGeom prst="rect">
            <a:avLst/>
          </a:prstGeom>
          <a:ln w="0">
            <a:noFill/>
          </a:ln>
        </p:spPr>
      </p:pic>
      <p:cxnSp>
        <p:nvCxnSpPr>
          <p:cNvPr id="200" name="Elbow Connector 57"/>
          <p:cNvCxnSpPr/>
          <p:nvPr/>
        </p:nvCxnSpPr>
        <p:spPr>
          <a:xfrm flipH="1" rot="16200000">
            <a:off x="7608600" y="5129640"/>
            <a:ext cx="1956600" cy="47556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201" name="Picture 3" descr=""/>
          <p:cNvPicPr/>
          <p:nvPr/>
        </p:nvPicPr>
        <p:blipFill>
          <a:blip r:embed="rId45"/>
          <a:stretch/>
        </p:blipFill>
        <p:spPr>
          <a:xfrm>
            <a:off x="2666880" y="3019320"/>
            <a:ext cx="1020960" cy="341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8" descr=""/>
          <p:cNvPicPr/>
          <p:nvPr/>
        </p:nvPicPr>
        <p:blipFill>
          <a:blip r:embed="rId46"/>
          <a:stretch/>
        </p:blipFill>
        <p:spPr>
          <a:xfrm>
            <a:off x="5375160" y="6207120"/>
            <a:ext cx="376200" cy="485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47"/>
          <a:stretch/>
        </p:blipFill>
        <p:spPr>
          <a:xfrm>
            <a:off x="5870520" y="6205680"/>
            <a:ext cx="595440" cy="49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Logo von DESY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3778200" y="3562200"/>
            <a:ext cx="482760" cy="471600"/>
          </a:xfrm>
          <a:prstGeom prst="rect">
            <a:avLst/>
          </a:prstGeom>
          <a:ln w="0">
            <a:noFill/>
          </a:ln>
        </p:spPr>
      </p:pic>
      <p:cxnSp>
        <p:nvCxnSpPr>
          <p:cNvPr id="205" name="Elbow Connector 66"/>
          <p:cNvCxnSpPr/>
          <p:nvPr/>
        </p:nvCxnSpPr>
        <p:spPr>
          <a:xfrm rot="10800000">
            <a:off x="3645720" y="3755160"/>
            <a:ext cx="132480" cy="43560"/>
          </a:xfrm>
          <a:prstGeom prst="bentConnector3">
            <a:avLst>
              <a:gd name="adj1" fmla="val 49863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2"/>
          <p:cNvSpPr/>
          <p:nvPr/>
        </p:nvSpPr>
        <p:spPr>
          <a:xfrm>
            <a:off x="6227640" y="3773520"/>
            <a:ext cx="2519640" cy="987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a452a"/>
                </a:solidFill>
                <a:latin typeface="Calibri"/>
              </a:rPr>
              <a:t>EMI Baselin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4"/>
          <p:cNvSpPr/>
          <p:nvPr/>
        </p:nvSpPr>
        <p:spPr>
          <a:xfrm>
            <a:off x="6227640" y="1700280"/>
            <a:ext cx="2173320" cy="18763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920"/>
                </a:solidFill>
                <a:latin typeface="Calibri"/>
              </a:rPr>
              <a:t>Applications Integrators, System Administ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9"/>
          <p:cNvSpPr/>
          <p:nvPr/>
        </p:nvSpPr>
        <p:spPr>
          <a:xfrm>
            <a:off x="1042920" y="1627200"/>
            <a:ext cx="1441440" cy="410544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4105440"/>
              <a:gd name="textAreaBottom" fmla="*/ 4035240 h 4105440"/>
            </a:gdLst>
            <a:ahLst/>
            <a:rect l="textAreaLeft" t="textAreaTop" r="textAreaRight" b="textAreaBottom"/>
            <a:pathLst>
              <a:path w="21600" h="61510">
                <a:moveTo>
                  <a:pt x="3600" y="0"/>
                </a:moveTo>
                <a:arcTo wR="3600" hR="3600" stAng="16200000" swAng="-5400000"/>
                <a:lnTo>
                  <a:pt x="0" y="57910"/>
                </a:lnTo>
                <a:arcTo wR="3600" hR="3600" stAng="10800000" swAng="-5400000"/>
                <a:lnTo>
                  <a:pt x="18000" y="61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EMI Middleware Evolu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0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2332-750D-415C-8D8A-269EEED39A0D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http://www.hep.lu.se/knowarc/logo-knowarc.png"/>
          <p:cNvPicPr/>
          <p:nvPr/>
        </p:nvPicPr>
        <p:blipFill>
          <a:blip r:embed="rId1"/>
          <a:stretch/>
        </p:blipFill>
        <p:spPr>
          <a:xfrm>
            <a:off x="1403280" y="1844640"/>
            <a:ext cx="520920" cy="496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egee2.eu-egee.org/egee07/resolveUid/9b21156632ea82b47be000ac7ceef098"/>
          <p:cNvPicPr/>
          <p:nvPr/>
        </p:nvPicPr>
        <p:blipFill>
          <a:blip r:embed="rId2"/>
          <a:stretch/>
        </p:blipFill>
        <p:spPr>
          <a:xfrm>
            <a:off x="1258920" y="2852640"/>
            <a:ext cx="749160" cy="493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www.unicore.eu/unicore/img/UNICORE-Logo-PPT-300dpi-transparent.png"/>
          <p:cNvPicPr/>
          <p:nvPr/>
        </p:nvPicPr>
        <p:blipFill>
          <a:blip r:embed="rId3"/>
          <a:stretch/>
        </p:blipFill>
        <p:spPr>
          <a:xfrm>
            <a:off x="1187280" y="3917880"/>
            <a:ext cx="1095480" cy="230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rcRect l="39163" t="0" r="39384" b="0"/>
          <a:stretch/>
        </p:blipFill>
        <p:spPr>
          <a:xfrm>
            <a:off x="1403280" y="4795920"/>
            <a:ext cx="708120" cy="576360"/>
          </a:xfrm>
          <a:prstGeom prst="rect">
            <a:avLst/>
          </a:prstGeom>
          <a:ln w="0">
            <a:noFill/>
          </a:ln>
        </p:spPr>
      </p:pic>
      <p:sp>
        <p:nvSpPr>
          <p:cNvPr id="217" name="Rounded Rectangle 10"/>
          <p:cNvSpPr/>
          <p:nvPr/>
        </p:nvSpPr>
        <p:spPr>
          <a:xfrm>
            <a:off x="3203640" y="1627200"/>
            <a:ext cx="2736720" cy="30258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025800"/>
              <a:gd name="textAreaBottom" fmla="*/ 2892240 h 3025800"/>
            </a:gdLst>
            <a:ahLst/>
            <a:rect l="textAreaLeft" t="textAreaTop" r="textAreaRight" b="textAreaBottom"/>
            <a:pathLst>
              <a:path w="21600" h="23881">
                <a:moveTo>
                  <a:pt x="3600" y="0"/>
                </a:moveTo>
                <a:arcTo wR="3600" hR="3600" stAng="16200000" swAng="-5400000"/>
                <a:lnTo>
                  <a:pt x="0" y="20281"/>
                </a:lnTo>
                <a:arcTo wR="3600" hR="3600" stAng="10800000" swAng="-5400000"/>
                <a:lnTo>
                  <a:pt x="18000" y="238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Dokumente und Einstellungen\nl\Eigene Dateien\Aufträge 2009-JSC\EMI-PPT-Template\EMI_Logo_newest.png"/>
          <p:cNvPicPr/>
          <p:nvPr/>
        </p:nvPicPr>
        <p:blipFill>
          <a:blip r:embed="rId5"/>
          <a:stretch/>
        </p:blipFill>
        <p:spPr>
          <a:xfrm>
            <a:off x="3492360" y="1844640"/>
            <a:ext cx="2286000" cy="959040"/>
          </a:xfrm>
          <a:prstGeom prst="rect">
            <a:avLst/>
          </a:prstGeom>
          <a:ln w="0">
            <a:noFill/>
          </a:ln>
        </p:spPr>
      </p:pic>
      <p:cxnSp>
        <p:nvCxnSpPr>
          <p:cNvPr id="219" name="Straight Arrow Connector 13"/>
          <p:cNvCxnSpPr/>
          <p:nvPr/>
        </p:nvCxnSpPr>
        <p:spPr>
          <a:xfrm>
            <a:off x="1923840" y="2092320"/>
            <a:ext cx="1856520" cy="10483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220" name="Straight Arrow Connector 15"/>
          <p:cNvCxnSpPr/>
          <p:nvPr/>
        </p:nvCxnSpPr>
        <p:spPr>
          <a:xfrm>
            <a:off x="2050560" y="3211560"/>
            <a:ext cx="1729800" cy="4341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221" name="Straight Arrow Connector 17"/>
          <p:cNvCxnSpPr/>
          <p:nvPr/>
        </p:nvCxnSpPr>
        <p:spPr>
          <a:xfrm flipV="1">
            <a:off x="2282400" y="4003560"/>
            <a:ext cx="1497960" cy="306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222" name="Straight Arrow Connector 19"/>
          <p:cNvCxnSpPr/>
          <p:nvPr/>
        </p:nvCxnSpPr>
        <p:spPr>
          <a:xfrm flipV="1">
            <a:off x="2111040" y="4434840"/>
            <a:ext cx="1669320" cy="6498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223" name="Rounded Rectangle 22"/>
          <p:cNvSpPr/>
          <p:nvPr/>
        </p:nvSpPr>
        <p:spPr>
          <a:xfrm>
            <a:off x="3203640" y="5011560"/>
            <a:ext cx="2736720" cy="108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Users and infrastructure requir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tandards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ew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own Arrow 23"/>
          <p:cNvSpPr/>
          <p:nvPr/>
        </p:nvSpPr>
        <p:spPr>
          <a:xfrm rot="10800000">
            <a:off x="4356000" y="4435200"/>
            <a:ext cx="503280" cy="64908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4"/>
          <p:cNvSpPr/>
          <p:nvPr/>
        </p:nvSpPr>
        <p:spPr>
          <a:xfrm>
            <a:off x="3924360" y="2995560"/>
            <a:ext cx="21600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>
            <a:off x="3924360" y="3500280"/>
            <a:ext cx="21600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6"/>
          <p:cNvSpPr/>
          <p:nvPr/>
        </p:nvSpPr>
        <p:spPr>
          <a:xfrm>
            <a:off x="3924360" y="3932280"/>
            <a:ext cx="21600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7"/>
          <p:cNvSpPr/>
          <p:nvPr/>
        </p:nvSpPr>
        <p:spPr>
          <a:xfrm>
            <a:off x="3924360" y="4292640"/>
            <a:ext cx="21600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2050920" y="1844640"/>
            <a:ext cx="217440" cy="142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Isosceles Triangle 29"/>
          <p:cNvSpPr/>
          <p:nvPr/>
        </p:nvSpPr>
        <p:spPr>
          <a:xfrm>
            <a:off x="2124000" y="2924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iamond 31"/>
          <p:cNvSpPr/>
          <p:nvPr/>
        </p:nvSpPr>
        <p:spPr>
          <a:xfrm>
            <a:off x="2124000" y="5372280"/>
            <a:ext cx="216000" cy="21564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rapezoid 32"/>
          <p:cNvSpPr/>
          <p:nvPr/>
        </p:nvSpPr>
        <p:spPr>
          <a:xfrm>
            <a:off x="2050920" y="4292640"/>
            <a:ext cx="217440" cy="142920"/>
          </a:xfrm>
          <a:custGeom>
            <a:avLst/>
            <a:gdLst>
              <a:gd name="textAreaLeft" fmla="*/ 23760 w 217440"/>
              <a:gd name="textAreaRight" fmla="*/ 193680 w 217440"/>
              <a:gd name="textAreaTop" fmla="*/ 15480 h 142920"/>
              <a:gd name="textAreaBottom" fmla="*/ 143280 h 142920"/>
            </a:gdLst>
            <a:ahLst/>
            <a:rect l="textAreaLeft" t="textAreaTop" r="textAreaRight" b="textAreaBottom"/>
            <a:pathLst>
              <a:path w="217488" h="142875">
                <a:moveTo>
                  <a:pt x="0" y="142875"/>
                </a:moveTo>
                <a:lnTo>
                  <a:pt x="35719" y="0"/>
                </a:lnTo>
                <a:lnTo>
                  <a:pt x="181769" y="0"/>
                </a:lnTo>
                <a:lnTo>
                  <a:pt x="217488" y="142875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3"/>
          <p:cNvSpPr/>
          <p:nvPr/>
        </p:nvSpPr>
        <p:spPr>
          <a:xfrm>
            <a:off x="5003640" y="299556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4"/>
          <p:cNvSpPr/>
          <p:nvPr/>
        </p:nvSpPr>
        <p:spPr>
          <a:xfrm>
            <a:off x="5364000" y="350028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5"/>
          <p:cNvSpPr/>
          <p:nvPr/>
        </p:nvSpPr>
        <p:spPr>
          <a:xfrm>
            <a:off x="4643280" y="350028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6"/>
          <p:cNvSpPr/>
          <p:nvPr/>
        </p:nvSpPr>
        <p:spPr>
          <a:xfrm>
            <a:off x="5002200" y="4003560"/>
            <a:ext cx="2174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own Arrow 38"/>
          <p:cNvSpPr/>
          <p:nvPr/>
        </p:nvSpPr>
        <p:spPr>
          <a:xfrm>
            <a:off x="7236000" y="453852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eft-Right Arrow 39"/>
          <p:cNvSpPr/>
          <p:nvPr/>
        </p:nvSpPr>
        <p:spPr>
          <a:xfrm>
            <a:off x="3203640" y="1268280"/>
            <a:ext cx="2736720" cy="216000"/>
          </a:xfrm>
          <a:prstGeom prst="leftRigh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Calibri"/>
              </a:rPr>
              <a:t>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Red Hat Home"/>
          <p:cNvPicPr/>
          <p:nvPr/>
        </p:nvPicPr>
        <p:blipFill>
          <a:blip r:embed="rId6"/>
          <a:stretch/>
        </p:blipFill>
        <p:spPr>
          <a:xfrm>
            <a:off x="6443640" y="5330880"/>
            <a:ext cx="914400" cy="295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www.hep.lu.se/knowarc/logo-knowarc.png"/>
          <p:cNvPicPr/>
          <p:nvPr/>
        </p:nvPicPr>
        <p:blipFill>
          <a:blip r:embed="rId7"/>
          <a:stretch/>
        </p:blipFill>
        <p:spPr>
          <a:xfrm>
            <a:off x="8604360" y="3035160"/>
            <a:ext cx="260280" cy="24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2" descr="http://egee2.eu-egee.org/egee07/resolveUid/9b21156632ea82b47be000ac7ceef098"/>
          <p:cNvPicPr/>
          <p:nvPr/>
        </p:nvPicPr>
        <p:blipFill>
          <a:blip r:embed="rId8"/>
          <a:stretch/>
        </p:blipFill>
        <p:spPr>
          <a:xfrm>
            <a:off x="8532720" y="3325680"/>
            <a:ext cx="374760" cy="24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http://www.unicore.eu/unicore/img/UNICORE-Logo-PPT-300dpi-transparent.png"/>
          <p:cNvPicPr/>
          <p:nvPr/>
        </p:nvPicPr>
        <p:blipFill>
          <a:blip r:embed="rId9"/>
          <a:stretch/>
        </p:blipFill>
        <p:spPr>
          <a:xfrm>
            <a:off x="8459640" y="2521080"/>
            <a:ext cx="547920" cy="114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0"/>
          <a:srcRect l="39163" t="0" r="39384" b="0"/>
          <a:stretch/>
        </p:blipFill>
        <p:spPr>
          <a:xfrm>
            <a:off x="8604360" y="2708280"/>
            <a:ext cx="353880" cy="287280"/>
          </a:xfrm>
          <a:prstGeom prst="rect">
            <a:avLst/>
          </a:prstGeom>
          <a:ln w="0">
            <a:noFill/>
          </a:ln>
        </p:spPr>
      </p:pic>
      <p:sp>
        <p:nvSpPr>
          <p:cNvPr id="244" name="Right Arrow 46"/>
          <p:cNvSpPr/>
          <p:nvPr/>
        </p:nvSpPr>
        <p:spPr>
          <a:xfrm>
            <a:off x="5796000" y="396252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3"/>
          <p:cNvGrpSpPr/>
          <p:nvPr/>
        </p:nvGrpSpPr>
        <p:grpSpPr>
          <a:xfrm>
            <a:off x="7623000" y="5638680"/>
            <a:ext cx="1224000" cy="432000"/>
            <a:chOff x="7623000" y="5638680"/>
            <a:chExt cx="1224000" cy="432000"/>
          </a:xfrm>
        </p:grpSpPr>
        <p:sp>
          <p:nvSpPr>
            <p:cNvPr id="246" name="Rectangle 48"/>
            <p:cNvSpPr/>
            <p:nvPr/>
          </p:nvSpPr>
          <p:spPr>
            <a:xfrm>
              <a:off x="7623000" y="5638680"/>
              <a:ext cx="1224000" cy="4320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4" descr="Home"/>
            <p:cNvPicPr/>
            <p:nvPr/>
          </p:nvPicPr>
          <p:blipFill>
            <a:blip r:embed="rId11"/>
            <a:stretch/>
          </p:blipFill>
          <p:spPr>
            <a:xfrm>
              <a:off x="7680240" y="5699520"/>
              <a:ext cx="112428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Left-Right Arrow 49"/>
          <p:cNvSpPr/>
          <p:nvPr/>
        </p:nvSpPr>
        <p:spPr>
          <a:xfrm>
            <a:off x="1042920" y="1268280"/>
            <a:ext cx="1441440" cy="216000"/>
          </a:xfrm>
          <a:prstGeom prst="left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Calibri"/>
              </a:rPr>
              <a:t>Before 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50"/>
          <p:cNvSpPr/>
          <p:nvPr/>
        </p:nvSpPr>
        <p:spPr>
          <a:xfrm>
            <a:off x="6227640" y="1268280"/>
            <a:ext cx="2448000" cy="21600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Calibri"/>
              </a:rPr>
              <a:t>After 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6659640" y="2492280"/>
            <a:ext cx="1728720" cy="1079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920"/>
                </a:solidFill>
                <a:latin typeface="Calibri"/>
              </a:rPr>
              <a:t>Specialized services, professional support and custo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6732720" y="3500280"/>
            <a:ext cx="143964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Standard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2"/>
          <p:cNvSpPr/>
          <p:nvPr/>
        </p:nvSpPr>
        <p:spPr>
          <a:xfrm>
            <a:off x="6732720" y="2347920"/>
            <a:ext cx="143964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Standard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7" descr="Debian Project"/>
          <p:cNvPicPr/>
          <p:nvPr/>
        </p:nvPicPr>
        <p:blipFill>
          <a:blip r:embed="rId12"/>
          <a:stretch/>
        </p:blipFill>
        <p:spPr>
          <a:xfrm>
            <a:off x="6588000" y="5803920"/>
            <a:ext cx="768600" cy="26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9" descr="Windows"/>
          <p:cNvPicPr/>
          <p:nvPr/>
        </p:nvPicPr>
        <p:blipFill>
          <a:blip r:embed="rId13"/>
          <a:stretch/>
        </p:blipFill>
        <p:spPr>
          <a:xfrm>
            <a:off x="6200640" y="6308640"/>
            <a:ext cx="1143000" cy="32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1" descr="Mac OS X"/>
          <p:cNvPicPr/>
          <p:nvPr/>
        </p:nvPicPr>
        <p:blipFill>
          <a:blip r:embed="rId14"/>
          <a:stretch/>
        </p:blipFill>
        <p:spPr>
          <a:xfrm>
            <a:off x="7442280" y="6157800"/>
            <a:ext cx="1123920" cy="238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" descr=""/>
          <p:cNvPicPr/>
          <p:nvPr/>
        </p:nvPicPr>
        <p:blipFill>
          <a:blip r:embed="rId15"/>
          <a:stretch/>
        </p:blipFill>
        <p:spPr>
          <a:xfrm>
            <a:off x="7791480" y="5140440"/>
            <a:ext cx="1184400" cy="460440"/>
          </a:xfrm>
          <a:prstGeom prst="rect">
            <a:avLst/>
          </a:prstGeom>
          <a:ln w="0">
            <a:noFill/>
          </a:ln>
        </p:spPr>
      </p:pic>
      <p:sp>
        <p:nvSpPr>
          <p:cNvPr id="257" name="Oval 53"/>
          <p:cNvSpPr/>
          <p:nvPr/>
        </p:nvSpPr>
        <p:spPr>
          <a:xfrm>
            <a:off x="6513480" y="4437000"/>
            <a:ext cx="2174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5"/>
          <p:cNvSpPr/>
          <p:nvPr/>
        </p:nvSpPr>
        <p:spPr>
          <a:xfrm>
            <a:off x="6875640" y="4435560"/>
            <a:ext cx="217440" cy="215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6"/>
          <p:cNvSpPr/>
          <p:nvPr/>
        </p:nvSpPr>
        <p:spPr>
          <a:xfrm>
            <a:off x="7812000" y="4435560"/>
            <a:ext cx="217440" cy="215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7"/>
          <p:cNvSpPr/>
          <p:nvPr/>
        </p:nvSpPr>
        <p:spPr>
          <a:xfrm>
            <a:off x="8242200" y="4435560"/>
            <a:ext cx="217440" cy="215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000"/>
                </a:solidFill>
                <a:latin typeface="Arial"/>
              </a:rPr>
              <a:t>EMI Release and Software Time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C51-821D-41B6-BF4E-CD9DEF18E3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7"/>
          <p:cNvCxnSpPr/>
          <p:nvPr/>
        </p:nvCxnSpPr>
        <p:spPr>
          <a:xfrm flipH="1" flipV="1">
            <a:off x="1337760" y="1168200"/>
            <a:ext cx="23040" cy="4715280"/>
          </a:xfrm>
          <a:prstGeom prst="straightConnector1">
            <a:avLst/>
          </a:prstGeom>
          <a:ln w="25560">
            <a:solidFill>
              <a:srgbClr val="010920"/>
            </a:solidFill>
            <a:miter/>
            <a:tailEnd len="med" type="arrow" w="med"/>
          </a:ln>
        </p:spPr>
      </p:cxnSp>
      <p:cxnSp>
        <p:nvCxnSpPr>
          <p:cNvPr id="266" name="Straight Arrow Connector 8"/>
          <p:cNvCxnSpPr/>
          <p:nvPr/>
        </p:nvCxnSpPr>
        <p:spPr>
          <a:xfrm>
            <a:off x="1119240" y="5629320"/>
            <a:ext cx="7403040" cy="33840"/>
          </a:xfrm>
          <a:prstGeom prst="straightConnector1">
            <a:avLst/>
          </a:prstGeom>
          <a:ln w="25560">
            <a:solidFill>
              <a:srgbClr val="010920"/>
            </a:solidFill>
            <a:miter/>
            <a:tailEnd len="med" type="arrow" w="med"/>
          </a:ln>
        </p:spPr>
      </p:cxnSp>
      <p:sp>
        <p:nvSpPr>
          <p:cNvPr id="267" name="Straight Connector 9"/>
          <p:cNvSpPr/>
          <p:nvPr/>
        </p:nvSpPr>
        <p:spPr>
          <a:xfrm>
            <a:off x="1580400" y="2082960"/>
            <a:ext cx="33480" cy="366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0"/>
          <p:cNvSpPr/>
          <p:nvPr/>
        </p:nvSpPr>
        <p:spPr>
          <a:xfrm>
            <a:off x="3475800" y="2077920"/>
            <a:ext cx="33480" cy="366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1"/>
          <p:cNvSpPr/>
          <p:nvPr/>
        </p:nvSpPr>
        <p:spPr>
          <a:xfrm>
            <a:off x="5210280" y="2082960"/>
            <a:ext cx="33120" cy="366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2"/>
          <p:cNvSpPr/>
          <p:nvPr/>
        </p:nvSpPr>
        <p:spPr>
          <a:xfrm>
            <a:off x="7009560" y="2077920"/>
            <a:ext cx="33480" cy="366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1107360" y="58942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1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ounded Rectangle 14"/>
          <p:cNvGrpSpPr/>
          <p:nvPr/>
        </p:nvGrpSpPr>
        <p:grpSpPr>
          <a:xfrm>
            <a:off x="884160" y="1676520"/>
            <a:ext cx="1096920" cy="718920"/>
            <a:chOff x="884160" y="1676520"/>
            <a:chExt cx="1096920" cy="718920"/>
          </a:xfrm>
        </p:grpSpPr>
        <p:pic>
          <p:nvPicPr>
            <p:cNvPr id="273" name="Rounded Rectangle 14" descr=""/>
            <p:cNvPicPr/>
            <p:nvPr/>
          </p:nvPicPr>
          <p:blipFill>
            <a:blip r:embed="rId1"/>
            <a:stretch/>
          </p:blipFill>
          <p:spPr>
            <a:xfrm>
              <a:off x="884160" y="1676520"/>
              <a:ext cx="1096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268280" y="1735200"/>
              <a:ext cx="68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15"/>
          <p:cNvGrpSpPr/>
          <p:nvPr/>
        </p:nvGrpSpPr>
        <p:grpSpPr>
          <a:xfrm>
            <a:off x="2687760" y="1676520"/>
            <a:ext cx="1238040" cy="718920"/>
            <a:chOff x="2687760" y="1676520"/>
            <a:chExt cx="1238040" cy="718920"/>
          </a:xfrm>
        </p:grpSpPr>
        <p:pic>
          <p:nvPicPr>
            <p:cNvPr id="276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2687760" y="1676520"/>
              <a:ext cx="1238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068640" y="1735200"/>
              <a:ext cx="828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EM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Rounded Rectangle 16"/>
          <p:cNvGrpSpPr/>
          <p:nvPr/>
        </p:nvGrpSpPr>
        <p:grpSpPr>
          <a:xfrm>
            <a:off x="4419720" y="1676520"/>
            <a:ext cx="1238040" cy="718920"/>
            <a:chOff x="4419720" y="1676520"/>
            <a:chExt cx="1238040" cy="718920"/>
          </a:xfrm>
        </p:grpSpPr>
        <p:pic>
          <p:nvPicPr>
            <p:cNvPr id="279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4419720" y="1676520"/>
              <a:ext cx="1238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795920" y="1735200"/>
              <a:ext cx="828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EMI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Rounded Rectangle 17"/>
          <p:cNvGrpSpPr/>
          <p:nvPr/>
        </p:nvGrpSpPr>
        <p:grpSpPr>
          <a:xfrm>
            <a:off x="6218280" y="1676520"/>
            <a:ext cx="1236600" cy="718920"/>
            <a:chOff x="6218280" y="1676520"/>
            <a:chExt cx="1236600" cy="718920"/>
          </a:xfrm>
        </p:grpSpPr>
        <p:pic>
          <p:nvPicPr>
            <p:cNvPr id="282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6218280" y="1676520"/>
              <a:ext cx="12366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595920" y="1735200"/>
              <a:ext cx="828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EMI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ight Arrow 18"/>
          <p:cNvGrpSpPr/>
          <p:nvPr/>
        </p:nvGrpSpPr>
        <p:grpSpPr>
          <a:xfrm>
            <a:off x="1249200" y="4797360"/>
            <a:ext cx="3975120" cy="768240"/>
            <a:chOff x="1249200" y="4797360"/>
            <a:chExt cx="3975120" cy="768240"/>
          </a:xfrm>
        </p:grpSpPr>
        <p:pic>
          <p:nvPicPr>
            <p:cNvPr id="285" name="Right Arrow 18" descr=""/>
            <p:cNvPicPr/>
            <p:nvPr/>
          </p:nvPicPr>
          <p:blipFill>
            <a:blip r:embed="rId5"/>
            <a:stretch/>
          </p:blipFill>
          <p:spPr>
            <a:xfrm>
              <a:off x="1249200" y="4797360"/>
              <a:ext cx="3975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609560" y="4923000"/>
              <a:ext cx="349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upport &amp; Mainte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ight Arrow 19"/>
          <p:cNvGrpSpPr/>
          <p:nvPr/>
        </p:nvGrpSpPr>
        <p:grpSpPr>
          <a:xfrm>
            <a:off x="3048120" y="4194000"/>
            <a:ext cx="3975120" cy="768600"/>
            <a:chOff x="3048120" y="4194000"/>
            <a:chExt cx="3975120" cy="768600"/>
          </a:xfrm>
        </p:grpSpPr>
        <p:pic>
          <p:nvPicPr>
            <p:cNvPr id="288" name="Right Arrow 19" descr=""/>
            <p:cNvPicPr/>
            <p:nvPr/>
          </p:nvPicPr>
          <p:blipFill>
            <a:blip r:embed="rId6"/>
            <a:stretch/>
          </p:blipFill>
          <p:spPr>
            <a:xfrm>
              <a:off x="3048120" y="4194000"/>
              <a:ext cx="39751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409920" y="4322880"/>
              <a:ext cx="3492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upport &amp; Mainte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ight Arrow 20"/>
          <p:cNvGrpSpPr/>
          <p:nvPr/>
        </p:nvGrpSpPr>
        <p:grpSpPr>
          <a:xfrm>
            <a:off x="4853160" y="3597120"/>
            <a:ext cx="3966840" cy="766800"/>
            <a:chOff x="4853160" y="3597120"/>
            <a:chExt cx="3966840" cy="766800"/>
          </a:xfrm>
        </p:grpSpPr>
        <p:pic>
          <p:nvPicPr>
            <p:cNvPr id="291" name="Right Arrow 20" descr=""/>
            <p:cNvPicPr/>
            <p:nvPr/>
          </p:nvPicPr>
          <p:blipFill>
            <a:blip r:embed="rId7"/>
            <a:stretch/>
          </p:blipFill>
          <p:spPr>
            <a:xfrm>
              <a:off x="4853160" y="3597120"/>
              <a:ext cx="39668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210280" y="3722760"/>
              <a:ext cx="3492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upport &amp; Mainte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ight Arrow 21"/>
          <p:cNvGrpSpPr/>
          <p:nvPr/>
        </p:nvGrpSpPr>
        <p:grpSpPr>
          <a:xfrm>
            <a:off x="6649920" y="2992320"/>
            <a:ext cx="2281320" cy="768600"/>
            <a:chOff x="6649920" y="2992320"/>
            <a:chExt cx="2281320" cy="768600"/>
          </a:xfrm>
        </p:grpSpPr>
        <p:pic>
          <p:nvPicPr>
            <p:cNvPr id="294" name="Right Arrow 21" descr=""/>
            <p:cNvPicPr/>
            <p:nvPr/>
          </p:nvPicPr>
          <p:blipFill>
            <a:blip r:embed="rId8"/>
            <a:stretch/>
          </p:blipFill>
          <p:spPr>
            <a:xfrm>
              <a:off x="6649920" y="2992320"/>
              <a:ext cx="2281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010280" y="3122640"/>
              <a:ext cx="180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upp. &amp; Mai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Box 31"/>
          <p:cNvSpPr/>
          <p:nvPr/>
        </p:nvSpPr>
        <p:spPr>
          <a:xfrm>
            <a:off x="3109320" y="58942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2"/>
          <p:cNvSpPr/>
          <p:nvPr/>
        </p:nvSpPr>
        <p:spPr>
          <a:xfrm>
            <a:off x="4779360" y="58942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/04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3"/>
          <p:cNvSpPr/>
          <p:nvPr/>
        </p:nvSpPr>
        <p:spPr>
          <a:xfrm>
            <a:off x="6565320" y="58942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/02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Right Arrow 25"/>
          <p:cNvGrpSpPr/>
          <p:nvPr/>
        </p:nvGrpSpPr>
        <p:grpSpPr>
          <a:xfrm>
            <a:off x="2139840" y="1925640"/>
            <a:ext cx="6145200" cy="2328840"/>
            <a:chOff x="2139840" y="1925640"/>
            <a:chExt cx="6145200" cy="2328840"/>
          </a:xfrm>
        </p:grpSpPr>
        <p:pic>
          <p:nvPicPr>
            <p:cNvPr id="300" name="Right Arrow 25" descr=""/>
            <p:cNvPicPr/>
            <p:nvPr/>
          </p:nvPicPr>
          <p:blipFill>
            <a:blip r:embed="rId9"/>
            <a:stretch/>
          </p:blipFill>
          <p:spPr>
            <a:xfrm>
              <a:off x="2139840" y="1925640"/>
              <a:ext cx="614520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20630400">
              <a:off x="2428920" y="2842920"/>
              <a:ext cx="5824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Major rele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7"/>
          <p:cNvSpPr/>
          <p:nvPr/>
        </p:nvSpPr>
        <p:spPr>
          <a:xfrm>
            <a:off x="2268360" y="126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leased May 12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Technical Areas and PT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4" name="Date Placeholder 31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E20-1AF5-4C6C-849F-87E3ED4E32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Rounded Rectangle 32" descr=""/>
          <p:cNvPicPr/>
          <p:nvPr/>
        </p:nvPicPr>
        <p:blipFill>
          <a:blip r:embed="rId1"/>
          <a:stretch/>
        </p:blipFill>
        <p:spPr>
          <a:xfrm>
            <a:off x="433440" y="1652760"/>
            <a:ext cx="4467240" cy="852480"/>
          </a:xfrm>
          <a:prstGeom prst="rect">
            <a:avLst/>
          </a:prstGeom>
          <a:ln w="0">
            <a:noFill/>
          </a:ln>
        </p:spPr>
      </p:pic>
      <p:pic>
        <p:nvPicPr>
          <p:cNvPr id="308" name="Rounded Rectangle 33" descr=""/>
          <p:cNvPicPr/>
          <p:nvPr/>
        </p:nvPicPr>
        <p:blipFill>
          <a:blip r:embed="rId2"/>
          <a:stretch/>
        </p:blipFill>
        <p:spPr>
          <a:xfrm>
            <a:off x="426960" y="2620800"/>
            <a:ext cx="4469040" cy="847800"/>
          </a:xfrm>
          <a:prstGeom prst="rect">
            <a:avLst/>
          </a:prstGeom>
          <a:ln w="0">
            <a:noFill/>
          </a:ln>
        </p:spPr>
      </p:pic>
      <p:pic>
        <p:nvPicPr>
          <p:cNvPr id="309" name="Rounded Rectangle 35" descr=""/>
          <p:cNvPicPr/>
          <p:nvPr/>
        </p:nvPicPr>
        <p:blipFill>
          <a:blip r:embed="rId3"/>
          <a:stretch/>
        </p:blipFill>
        <p:spPr>
          <a:xfrm>
            <a:off x="450720" y="3584520"/>
            <a:ext cx="4469040" cy="847800"/>
          </a:xfrm>
          <a:prstGeom prst="rect">
            <a:avLst/>
          </a:prstGeom>
          <a:ln w="0">
            <a:noFill/>
          </a:ln>
        </p:spPr>
      </p:pic>
      <p:pic>
        <p:nvPicPr>
          <p:cNvPr id="310" name="Rounded Rectangle 25" descr=""/>
          <p:cNvPicPr/>
          <p:nvPr/>
        </p:nvPicPr>
        <p:blipFill>
          <a:blip r:embed="rId4"/>
          <a:stretch/>
        </p:blipFill>
        <p:spPr>
          <a:xfrm>
            <a:off x="469800" y="4548240"/>
            <a:ext cx="4467240" cy="852480"/>
          </a:xfrm>
          <a:prstGeom prst="rect">
            <a:avLst/>
          </a:prstGeom>
          <a:ln w="0">
            <a:noFill/>
          </a:ln>
        </p:spPr>
      </p:pic>
      <p:grpSp>
        <p:nvGrpSpPr>
          <p:cNvPr id="311" name="Rectangle 26"/>
          <p:cNvGrpSpPr/>
          <p:nvPr/>
        </p:nvGrpSpPr>
        <p:grpSpPr>
          <a:xfrm>
            <a:off x="4413240" y="1663560"/>
            <a:ext cx="4456080" cy="1024200"/>
            <a:chOff x="4413240" y="1663560"/>
            <a:chExt cx="4456080" cy="1024200"/>
          </a:xfrm>
        </p:grpSpPr>
        <p:pic>
          <p:nvPicPr>
            <p:cNvPr id="312" name="Rectangle 26" descr=""/>
            <p:cNvPicPr/>
            <p:nvPr/>
          </p:nvPicPr>
          <p:blipFill>
            <a:blip r:embed="rId5"/>
            <a:stretch/>
          </p:blipFill>
          <p:spPr>
            <a:xfrm>
              <a:off x="4413240" y="1663560"/>
              <a:ext cx="44560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770360" y="1684440"/>
              <a:ext cx="408636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alibri"/>
                </a:rPr>
                <a:t>ARC CE, UNICORE Services, gLite MPI , gLite Compute, 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Rectangle 27"/>
          <p:cNvGrpSpPr/>
          <p:nvPr/>
        </p:nvGrpSpPr>
        <p:grpSpPr>
          <a:xfrm>
            <a:off x="4406760" y="2620800"/>
            <a:ext cx="4462560" cy="1017720"/>
            <a:chOff x="4406760" y="2620800"/>
            <a:chExt cx="4462560" cy="1017720"/>
          </a:xfrm>
        </p:grpSpPr>
        <p:pic>
          <p:nvPicPr>
            <p:cNvPr id="315" name="Rectangle 27" descr=""/>
            <p:cNvPicPr/>
            <p:nvPr/>
          </p:nvPicPr>
          <p:blipFill>
            <a:blip r:embed="rId6"/>
            <a:stretch/>
          </p:blipFill>
          <p:spPr>
            <a:xfrm>
              <a:off x="4406760" y="2620800"/>
              <a:ext cx="44625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767120" y="2641680"/>
              <a:ext cx="40878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alibri"/>
                </a:rPr>
                <a:t>dCache, CERN Data, DGAS, StoRM ,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Rectangle 29"/>
          <p:cNvGrpSpPr/>
          <p:nvPr/>
        </p:nvGrpSpPr>
        <p:grpSpPr>
          <a:xfrm>
            <a:off x="4413240" y="3529080"/>
            <a:ext cx="4462560" cy="1128600"/>
            <a:chOff x="4413240" y="3529080"/>
            <a:chExt cx="4462560" cy="1128600"/>
          </a:xfrm>
        </p:grpSpPr>
        <p:pic>
          <p:nvPicPr>
            <p:cNvPr id="318" name="Rectangle 29" descr=""/>
            <p:cNvPicPr/>
            <p:nvPr/>
          </p:nvPicPr>
          <p:blipFill>
            <a:blip r:embed="rId7"/>
            <a:stretch/>
          </p:blipFill>
          <p:spPr>
            <a:xfrm>
              <a:off x="4413240" y="3529080"/>
              <a:ext cx="44625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775040" y="3548160"/>
              <a:ext cx="4087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alibri"/>
                </a:rPr>
                <a:t>ARC Container, UNICORE Security, Cesnet Security, Argus, VOMS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30"/>
          <p:cNvGrpSpPr/>
          <p:nvPr/>
        </p:nvGrpSpPr>
        <p:grpSpPr>
          <a:xfrm>
            <a:off x="4413240" y="4511520"/>
            <a:ext cx="4462560" cy="1194120"/>
            <a:chOff x="4413240" y="4511520"/>
            <a:chExt cx="4462560" cy="1194120"/>
          </a:xfrm>
        </p:grpSpPr>
        <p:pic>
          <p:nvPicPr>
            <p:cNvPr id="321" name="Rectangle 30" descr=""/>
            <p:cNvPicPr/>
            <p:nvPr/>
          </p:nvPicPr>
          <p:blipFill>
            <a:blip r:embed="rId8"/>
            <a:stretch/>
          </p:blipFill>
          <p:spPr>
            <a:xfrm>
              <a:off x="4413240" y="4511520"/>
              <a:ext cx="446256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773600" y="4529160"/>
              <a:ext cx="40878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alibri"/>
                </a:rPr>
                <a:t>ARC Infosys, APEL client, DGAS Client, gLite Infosys, EMI Registry, et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13"/>
          <p:cNvGrpSpPr/>
          <p:nvPr/>
        </p:nvGrpSpPr>
        <p:grpSpPr>
          <a:xfrm>
            <a:off x="5462640" y="1542960"/>
            <a:ext cx="2359080" cy="4443480"/>
            <a:chOff x="5462640" y="1542960"/>
            <a:chExt cx="2359080" cy="4443480"/>
          </a:xfrm>
        </p:grpSpPr>
        <p:pic>
          <p:nvPicPr>
            <p:cNvPr id="324" name="Rectangle 13" descr=""/>
            <p:cNvPicPr/>
            <p:nvPr/>
          </p:nvPicPr>
          <p:blipFill>
            <a:blip r:embed="rId9"/>
            <a:stretch/>
          </p:blipFill>
          <p:spPr>
            <a:xfrm>
              <a:off x="5462640" y="1542960"/>
              <a:ext cx="235908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875200" y="1563840"/>
              <a:ext cx="1871640" cy="41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Product T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Dedicate teams of exp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Fully responsible for development,  maintenance and unit/system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val 20"/>
          <p:cNvGrpSpPr/>
          <p:nvPr/>
        </p:nvGrpSpPr>
        <p:grpSpPr>
          <a:xfrm>
            <a:off x="450720" y="4475160"/>
            <a:ext cx="7723440" cy="2340000"/>
            <a:chOff x="450720" y="4475160"/>
            <a:chExt cx="7723440" cy="2340000"/>
          </a:xfrm>
        </p:grpSpPr>
        <p:pic>
          <p:nvPicPr>
            <p:cNvPr id="327" name="Oval 20" descr=""/>
            <p:cNvPicPr/>
            <p:nvPr/>
          </p:nvPicPr>
          <p:blipFill>
            <a:blip r:embed="rId1"/>
            <a:stretch/>
          </p:blipFill>
          <p:spPr>
            <a:xfrm>
              <a:off x="450720" y="4475160"/>
              <a:ext cx="77234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889280" y="4789440"/>
              <a:ext cx="519588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DCI Roadm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llabo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0" name="Date Placeholder 2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CE5-780E-438B-8B06-867BDAAEA2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5"/>
          <p:cNvGrpSpPr/>
          <p:nvPr/>
        </p:nvGrpSpPr>
        <p:grpSpPr>
          <a:xfrm>
            <a:off x="2840040" y="2889360"/>
            <a:ext cx="3110040" cy="1658880"/>
            <a:chOff x="2840040" y="2889360"/>
            <a:chExt cx="3110040" cy="1658880"/>
          </a:xfrm>
        </p:grpSpPr>
        <p:pic>
          <p:nvPicPr>
            <p:cNvPr id="334" name="Rectangle 5" descr=""/>
            <p:cNvPicPr/>
            <p:nvPr/>
          </p:nvPicPr>
          <p:blipFill>
            <a:blip r:embed="rId2"/>
            <a:stretch/>
          </p:blipFill>
          <p:spPr>
            <a:xfrm>
              <a:off x="2840040" y="2889360"/>
              <a:ext cx="31100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201840" y="2909880"/>
              <a:ext cx="273240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EM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ectangle 6"/>
          <p:cNvGrpSpPr/>
          <p:nvPr/>
        </p:nvGrpSpPr>
        <p:grpSpPr>
          <a:xfrm>
            <a:off x="2614680" y="963720"/>
            <a:ext cx="3584520" cy="1657080"/>
            <a:chOff x="2614680" y="963720"/>
            <a:chExt cx="3584520" cy="1657080"/>
          </a:xfrm>
        </p:grpSpPr>
        <p:pic>
          <p:nvPicPr>
            <p:cNvPr id="337" name="Rectangle 6" descr=""/>
            <p:cNvPicPr/>
            <p:nvPr/>
          </p:nvPicPr>
          <p:blipFill>
            <a:blip r:embed="rId3"/>
            <a:stretch/>
          </p:blipFill>
          <p:spPr>
            <a:xfrm>
              <a:off x="2614680" y="963720"/>
              <a:ext cx="358452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971800" y="981000"/>
              <a:ext cx="321624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EGI, PRACE, WLCG,OSG, et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Oval 7"/>
          <p:cNvGrpSpPr/>
          <p:nvPr/>
        </p:nvGrpSpPr>
        <p:grpSpPr>
          <a:xfrm>
            <a:off x="-109440" y="3011400"/>
            <a:ext cx="2528640" cy="1371600"/>
            <a:chOff x="-109440" y="3011400"/>
            <a:chExt cx="2528640" cy="1371600"/>
          </a:xfrm>
        </p:grpSpPr>
        <p:pic>
          <p:nvPicPr>
            <p:cNvPr id="340" name="Oval 7" descr=""/>
            <p:cNvPicPr/>
            <p:nvPr/>
          </p:nvPicPr>
          <p:blipFill>
            <a:blip r:embed="rId4"/>
            <a:stretch/>
          </p:blipFill>
          <p:spPr>
            <a:xfrm>
              <a:off x="-109440" y="3011400"/>
              <a:ext cx="25286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68440" y="3181320"/>
              <a:ext cx="152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ESFRI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VR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Rectangle 9"/>
          <p:cNvGrpSpPr/>
          <p:nvPr/>
        </p:nvGrpSpPr>
        <p:grpSpPr>
          <a:xfrm>
            <a:off x="2408400" y="5230800"/>
            <a:ext cx="1620720" cy="914400"/>
            <a:chOff x="2408400" y="5230800"/>
            <a:chExt cx="1620720" cy="914400"/>
          </a:xfrm>
        </p:grpSpPr>
        <p:pic>
          <p:nvPicPr>
            <p:cNvPr id="343" name="Rectangle 9" descr=""/>
            <p:cNvPicPr/>
            <p:nvPr/>
          </p:nvPicPr>
          <p:blipFill>
            <a:blip r:embed="rId5"/>
            <a:stretch/>
          </p:blipFill>
          <p:spPr>
            <a:xfrm>
              <a:off x="2408400" y="5230800"/>
              <a:ext cx="1620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793960" y="5246640"/>
              <a:ext cx="122544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ratus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Rectangle 10"/>
          <p:cNvGrpSpPr/>
          <p:nvPr/>
        </p:nvGrpSpPr>
        <p:grpSpPr>
          <a:xfrm>
            <a:off x="3895560" y="5230800"/>
            <a:ext cx="1498680" cy="914400"/>
            <a:chOff x="3895560" y="5230800"/>
            <a:chExt cx="1498680" cy="914400"/>
          </a:xfrm>
        </p:grpSpPr>
        <p:pic>
          <p:nvPicPr>
            <p:cNvPr id="346" name="Rectangle 10" descr=""/>
            <p:cNvPicPr/>
            <p:nvPr/>
          </p:nvPicPr>
          <p:blipFill>
            <a:blip r:embed="rId6"/>
            <a:stretch/>
          </p:blipFill>
          <p:spPr>
            <a:xfrm>
              <a:off x="3895560" y="5230800"/>
              <a:ext cx="1498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255920" y="5248440"/>
              <a:ext cx="11271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VENUS-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6364440" y="5237280"/>
            <a:ext cx="1242720" cy="914400"/>
            <a:chOff x="6364440" y="5237280"/>
            <a:chExt cx="1242720" cy="914400"/>
          </a:xfrm>
        </p:grpSpPr>
        <p:pic>
          <p:nvPicPr>
            <p:cNvPr id="349" name="Rectangle 12" descr=""/>
            <p:cNvPicPr/>
            <p:nvPr/>
          </p:nvPicPr>
          <p:blipFill>
            <a:blip r:embed="rId7"/>
            <a:stretch/>
          </p:blipFill>
          <p:spPr>
            <a:xfrm>
              <a:off x="6364440" y="5237280"/>
              <a:ext cx="1242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726240" y="5253120"/>
              <a:ext cx="8701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EDG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Down Arrow 13"/>
          <p:cNvGrpSpPr/>
          <p:nvPr/>
        </p:nvGrpSpPr>
        <p:grpSpPr>
          <a:xfrm>
            <a:off x="3548160" y="2146320"/>
            <a:ext cx="590400" cy="1060560"/>
            <a:chOff x="3548160" y="2146320"/>
            <a:chExt cx="590400" cy="1060560"/>
          </a:xfrm>
        </p:grpSpPr>
        <p:pic>
          <p:nvPicPr>
            <p:cNvPr id="352" name="Down Arrow 13" descr=""/>
            <p:cNvPicPr/>
            <p:nvPr/>
          </p:nvPicPr>
          <p:blipFill>
            <a:blip r:embed="rId8"/>
            <a:stretch/>
          </p:blipFill>
          <p:spPr>
            <a:xfrm>
              <a:off x="3548160" y="2146320"/>
              <a:ext cx="5904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728880" y="2182680"/>
              <a:ext cx="2383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14"/>
          <p:cNvSpPr/>
          <p:nvPr/>
        </p:nvSpPr>
        <p:spPr>
          <a:xfrm>
            <a:off x="1968480" y="243684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Down Arrow 15"/>
          <p:cNvGrpSpPr/>
          <p:nvPr/>
        </p:nvGrpSpPr>
        <p:grpSpPr>
          <a:xfrm>
            <a:off x="4968720" y="2023920"/>
            <a:ext cx="590760" cy="1054080"/>
            <a:chOff x="4968720" y="2023920"/>
            <a:chExt cx="590760" cy="1054080"/>
          </a:xfrm>
        </p:grpSpPr>
        <p:pic>
          <p:nvPicPr>
            <p:cNvPr id="356" name="Down Arrow 15" descr=""/>
            <p:cNvPicPr/>
            <p:nvPr/>
          </p:nvPicPr>
          <p:blipFill>
            <a:blip r:embed="rId9"/>
            <a:stretch/>
          </p:blipFill>
          <p:spPr>
            <a:xfrm>
              <a:off x="4968720" y="2023920"/>
              <a:ext cx="5907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10800000">
              <a:off x="5148000" y="2177640"/>
              <a:ext cx="23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6"/>
          <p:cNvSpPr/>
          <p:nvPr/>
        </p:nvSpPr>
        <p:spPr>
          <a:xfrm>
            <a:off x="5470560" y="24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Rel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9"/>
          <p:cNvSpPr/>
          <p:nvPr/>
        </p:nvSpPr>
        <p:spPr>
          <a:xfrm>
            <a:off x="2077920" y="37670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Requirements</a:t>
            </a:r>
            <a:br>
              <a:rPr sz="1800"/>
            </a:b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Collab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Rectangle 23"/>
          <p:cNvGrpSpPr/>
          <p:nvPr/>
        </p:nvGrpSpPr>
        <p:grpSpPr>
          <a:xfrm>
            <a:off x="5261040" y="5241960"/>
            <a:ext cx="1243080" cy="920880"/>
            <a:chOff x="5261040" y="5241960"/>
            <a:chExt cx="1243080" cy="920880"/>
          </a:xfrm>
        </p:grpSpPr>
        <p:pic>
          <p:nvPicPr>
            <p:cNvPr id="361" name="Rectangle 23" descr=""/>
            <p:cNvPicPr/>
            <p:nvPr/>
          </p:nvPicPr>
          <p:blipFill>
            <a:blip r:embed="rId10"/>
            <a:stretch/>
          </p:blipFill>
          <p:spPr>
            <a:xfrm>
              <a:off x="5261040" y="5241960"/>
              <a:ext cx="1243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619600" y="5262480"/>
              <a:ext cx="87012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I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28"/>
          <p:cNvSpPr/>
          <p:nvPr/>
        </p:nvSpPr>
        <p:spPr>
          <a:xfrm>
            <a:off x="4129200" y="2300400"/>
            <a:ext cx="10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SLA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val 30"/>
          <p:cNvGrpSpPr/>
          <p:nvPr/>
        </p:nvGrpSpPr>
        <p:grpSpPr>
          <a:xfrm>
            <a:off x="6224760" y="2786040"/>
            <a:ext cx="2938320" cy="1859040"/>
            <a:chOff x="6224760" y="2786040"/>
            <a:chExt cx="2938320" cy="1859040"/>
          </a:xfrm>
        </p:grpSpPr>
        <p:pic>
          <p:nvPicPr>
            <p:cNvPr id="365" name="Oval 30" descr=""/>
            <p:cNvPicPr/>
            <p:nvPr/>
          </p:nvPicPr>
          <p:blipFill>
            <a:blip r:embed="rId11"/>
            <a:stretch/>
          </p:blipFill>
          <p:spPr>
            <a:xfrm>
              <a:off x="6224760" y="2786040"/>
              <a:ext cx="29383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959520" y="3027240"/>
              <a:ext cx="18162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Standard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Indust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Left-Right Arrow 17"/>
          <p:cNvGrpSpPr/>
          <p:nvPr/>
        </p:nvGrpSpPr>
        <p:grpSpPr>
          <a:xfrm>
            <a:off x="2097000" y="3213000"/>
            <a:ext cx="1809720" cy="682560"/>
            <a:chOff x="2097000" y="3213000"/>
            <a:chExt cx="1809720" cy="682560"/>
          </a:xfrm>
        </p:grpSpPr>
        <p:pic>
          <p:nvPicPr>
            <p:cNvPr id="368" name="Left-Right Arrow 17" descr=""/>
            <p:cNvPicPr/>
            <p:nvPr/>
          </p:nvPicPr>
          <p:blipFill>
            <a:blip r:embed="rId12"/>
            <a:stretch/>
          </p:blipFill>
          <p:spPr>
            <a:xfrm>
              <a:off x="2097000" y="3213000"/>
              <a:ext cx="1809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297160" y="3390840"/>
              <a:ext cx="1415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31"/>
          <p:cNvSpPr/>
          <p:nvPr/>
        </p:nvSpPr>
        <p:spPr>
          <a:xfrm>
            <a:off x="5491080" y="378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Requirements</a:t>
            </a:r>
            <a:br>
              <a:rPr sz="1800"/>
            </a:br>
            <a:r>
              <a:rPr b="0" lang="en-GB" sz="1800" spc="-1" strike="noStrike">
                <a:solidFill>
                  <a:srgbClr val="010920"/>
                </a:solidFill>
                <a:latin typeface="Arial"/>
              </a:rPr>
              <a:t>Collab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Left-Right Arrow 32"/>
          <p:cNvGrpSpPr/>
          <p:nvPr/>
        </p:nvGrpSpPr>
        <p:grpSpPr>
          <a:xfrm>
            <a:off x="5400720" y="3224160"/>
            <a:ext cx="1811160" cy="682560"/>
            <a:chOff x="5400720" y="3224160"/>
            <a:chExt cx="1811160" cy="682560"/>
          </a:xfrm>
        </p:grpSpPr>
        <p:pic>
          <p:nvPicPr>
            <p:cNvPr id="372" name="Left-Right Arrow 32" descr=""/>
            <p:cNvPicPr/>
            <p:nvPr/>
          </p:nvPicPr>
          <p:blipFill>
            <a:blip r:embed="rId13"/>
            <a:stretch/>
          </p:blipFill>
          <p:spPr>
            <a:xfrm>
              <a:off x="5400720" y="3224160"/>
              <a:ext cx="1811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00880" y="3400560"/>
              <a:ext cx="1415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Left-Right Arrow 25"/>
          <p:cNvGrpSpPr/>
          <p:nvPr/>
        </p:nvGrpSpPr>
        <p:grpSpPr>
          <a:xfrm>
            <a:off x="4303800" y="3840120"/>
            <a:ext cx="549360" cy="1060560"/>
            <a:chOff x="4303800" y="3840120"/>
            <a:chExt cx="549360" cy="1060560"/>
          </a:xfrm>
        </p:grpSpPr>
        <p:pic>
          <p:nvPicPr>
            <p:cNvPr id="375" name="Left-Right Arrow 25" descr=""/>
            <p:cNvPicPr/>
            <p:nvPr/>
          </p:nvPicPr>
          <p:blipFill>
            <a:blip r:embed="rId14"/>
            <a:stretch/>
          </p:blipFill>
          <p:spPr>
            <a:xfrm>
              <a:off x="4303800" y="3840120"/>
              <a:ext cx="549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rot="16200000">
              <a:off x="4221720" y="423936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Picture 7" descr="EMI_Logo_white 2.jpg"/>
          <p:cNvPicPr/>
          <p:nvPr/>
        </p:nvPicPr>
        <p:blipFill>
          <a:blip r:embed="rId15"/>
          <a:stretch/>
        </p:blipFill>
        <p:spPr>
          <a:xfrm>
            <a:off x="3943440" y="3303720"/>
            <a:ext cx="1243080" cy="525240"/>
          </a:xfrm>
          <a:prstGeom prst="rect">
            <a:avLst/>
          </a:prstGeom>
          <a:ln w="0">
            <a:noFill/>
          </a:ln>
        </p:spPr>
      </p:pic>
      <p:grpSp>
        <p:nvGrpSpPr>
          <p:cNvPr id="378" name="Rectangle 26"/>
          <p:cNvGrpSpPr/>
          <p:nvPr/>
        </p:nvGrpSpPr>
        <p:grpSpPr>
          <a:xfrm>
            <a:off x="969840" y="5162400"/>
            <a:ext cx="1597320" cy="963720"/>
            <a:chOff x="969840" y="5162400"/>
            <a:chExt cx="1597320" cy="963720"/>
          </a:xfrm>
        </p:grpSpPr>
        <p:pic>
          <p:nvPicPr>
            <p:cNvPr id="379" name="Rectangle 26" descr=""/>
            <p:cNvPicPr/>
            <p:nvPr/>
          </p:nvPicPr>
          <p:blipFill>
            <a:blip r:embed="rId16"/>
            <a:stretch/>
          </p:blipFill>
          <p:spPr>
            <a:xfrm>
              <a:off x="969840" y="5162400"/>
              <a:ext cx="15973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1332000" y="5229360"/>
              <a:ext cx="12254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EGI-InSP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c000"/>
                </a:solidFill>
                <a:latin typeface="Arial"/>
              </a:rPr>
              <a:t>Requirements manage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4000" y="692280"/>
            <a:ext cx="82803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Sources of requirement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EGI-TCB: formal requests communicated via EGI Tracker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WLCG: requests communicated via various channels (MB, GDB, existing trackers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Users: direct communication with PT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Handling of requirement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After an initial filtering requests are recorded in the EMI Req. Tracker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PTB assesses, categorizes and prioritizes requirement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Endorsed requests are translated into objectives, then to development task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10920"/>
                </a:solidFill>
                <a:latin typeface="Calibri"/>
              </a:rPr>
              <a:t>Continous process, though requirements may not have an immediate effect on workplan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10920"/>
                </a:solidFill>
                <a:latin typeface="Calibri"/>
              </a:rPr>
              <a:t>Everything is recorded, monitored and tracked: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https://savannah.cern.ch/task/?group=emi-req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908-BF40-4CCC-B3F2-D8C94E62D2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c000"/>
                </a:solidFill>
                <a:latin typeface="Arial"/>
              </a:rPr>
              <a:t>High-level Technical Roadmap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901800" y="828720"/>
            <a:ext cx="78771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1/0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ATLAS Software &amp; Computing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0F06-2F0E-46B5-8405-DF1D214188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7:31:27Z</dcterms:created>
  <dc:creator>Alberto Di Meglio</dc:creator>
  <dc:description/>
  <dc:language>en-US</dc:language>
  <cp:lastModifiedBy>Alberto Di Meglio</cp:lastModifiedBy>
  <dcterms:modified xsi:type="dcterms:W3CDTF">2011-07-21T13:42:41Z</dcterms:modified>
  <cp:revision>745</cp:revision>
  <dc:subject/>
  <dc:title>European Middleware Initiative (EMI)</dc:title>
</cp:coreProperties>
</file>