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1177-4A00-4F27-BDE7-FCCBAA21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EAE-8187-4A29-86B3-0903B381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723-8DAF-41DB-92EB-E30DCCD1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730-0F0F-42E5-910B-CF771D01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FAD-C673-4819-A940-B1CB3D93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F9F-74E3-440B-B97D-11CA14F8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EB6-55B1-423F-B3CB-F7B8C469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6FA-71DF-49B8-B16C-AB383254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F45-6C4F-4B8A-9F41-531E9846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8F2-A784-4153-BBB4-E3D484C4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302-B8E1-4824-A4B1-BAAF5D18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5CA-FF40-4F23-8270-675681B2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04736-E48C-4105-953B-4F93112FBDB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79640" y="201600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tch_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43640" y="1224000"/>
            <a:ext cx="230364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nectivity_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59280" y="647640"/>
            <a:ext cx="194472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t_size_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36720" y="2664000"/>
            <a:ext cx="194472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agment_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415280" y="5327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647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ag_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48000" y="2376360"/>
            <a:ext cx="1656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_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2360" y="6624720"/>
            <a:ext cx="172872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smetrics_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96000" y="5975280"/>
            <a:ext cx="280836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_TXTinputBIOD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6360" y="6335640"/>
            <a:ext cx="1800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ct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56000" y="0"/>
            <a:ext cx="3887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SMetrics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3280" y="4535640"/>
            <a:ext cx="295272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ctional_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3280" y="360036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4720" y="1044720"/>
            <a:ext cx="151128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ulesre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7280" y="3995640"/>
            <a:ext cx="2303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ndscape_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75640" y="2879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_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15280" y="2232000"/>
            <a:ext cx="2303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dge_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032360" y="6624720"/>
            <a:ext cx="172872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smetrics_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84720" y="5111640"/>
            <a:ext cx="468000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280" y="6264360"/>
            <a:ext cx="2735280" cy="1224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6000" y="179280"/>
            <a:ext cx="2735280" cy="14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56000" y="0"/>
            <a:ext cx="3887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SMetrics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43640" y="71280"/>
            <a:ext cx="4392360" cy="180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79640" y="201600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tch_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43640" y="1224000"/>
            <a:ext cx="230364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nectivity_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59280" y="647640"/>
            <a:ext cx="194472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t_size_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4720" y="1044720"/>
            <a:ext cx="151128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ulesre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36720" y="2664000"/>
            <a:ext cx="194472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agment_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15280" y="5327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48720" y="647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ag_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48000" y="2376360"/>
            <a:ext cx="1656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_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96000" y="5975280"/>
            <a:ext cx="280836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_TXTinputBIOD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6360" y="6335640"/>
            <a:ext cx="1800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ct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179280"/>
            <a:ext cx="280836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un r.stats to calculate statistics and assign areas to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80" y="4535640"/>
            <a:ext cx="295272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ctional_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3280" y="360036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88000" y="82440"/>
            <a:ext cx="40323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ctions to deal with scales – distances in meters to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813720"/>
            <a:ext cx="2808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lects an output directory from the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07280" y="3995640"/>
            <a:ext cx="2303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ndscape_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75640" y="2879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_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15280" y="2232000"/>
            <a:ext cx="2303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dge_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5292720"/>
            <a:ext cx="2303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eates text file with map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67640" y="6551640"/>
            <a:ext cx="2808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eates text files for input in BioDIM 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79640" y="201600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tch_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43640" y="1224000"/>
            <a:ext cx="230364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nectivity_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59280" y="647640"/>
            <a:ext cx="194472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t_size_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6720" y="2664000"/>
            <a:ext cx="194472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agment_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15280" y="5327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647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ag_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48000" y="2376360"/>
            <a:ext cx="1656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_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32360" y="6624720"/>
            <a:ext cx="172872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smetrics_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96000" y="5975280"/>
            <a:ext cx="280836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_TXTinputBIOD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6360" y="6335640"/>
            <a:ext cx="1800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ct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56000" y="0"/>
            <a:ext cx="3887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SMetrics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7640" y="2232000"/>
            <a:ext cx="2519640" cy="1800360"/>
          </a:xfrm>
          <a:prstGeom prst="rect">
            <a:avLst/>
          </a:prstGeom>
          <a:noFill/>
          <a:ln w="1908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03640" y="3024360"/>
            <a:ext cx="20160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eates binary maps from land-use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3280" y="4535640"/>
            <a:ext cx="295272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ctional_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3280" y="360036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4720" y="1044720"/>
            <a:ext cx="151128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ulesre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07280" y="3995640"/>
            <a:ext cx="2303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ndscape_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5640" y="2879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_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15280" y="2232000"/>
            <a:ext cx="2303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dge_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248000" y="2376360"/>
            <a:ext cx="1656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_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360" y="1800360"/>
            <a:ext cx="4464000" cy="381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3280" y="4535640"/>
            <a:ext cx="295272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ctional_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79640" y="201600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tch_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43640" y="1224000"/>
            <a:ext cx="230364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nectivity_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59280" y="647640"/>
            <a:ext cx="194472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t_size_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36720" y="2664000"/>
            <a:ext cx="194472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agment_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15280" y="5327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3280" y="360036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647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ag_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2360" y="6624720"/>
            <a:ext cx="172872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smetrics_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96000" y="5975280"/>
            <a:ext cx="280836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_TXTinputBIOD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6360" y="6335640"/>
            <a:ext cx="1800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ct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56000" y="0"/>
            <a:ext cx="3887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SMetrics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2360" y="1944720"/>
            <a:ext cx="2016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lculates patch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35280" y="2735280"/>
            <a:ext cx="187164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lculates fragment size and structural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3280" y="4103640"/>
            <a:ext cx="381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lculates percentage of ha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1640" y="5018040"/>
            <a:ext cx="3816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lculates functionally connected area and functional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4720" y="1044720"/>
            <a:ext cx="151128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ulesre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07280" y="3995640"/>
            <a:ext cx="2303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ndscape_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75640" y="2879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_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15280" y="2232000"/>
            <a:ext cx="2303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dge_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248000" y="2376360"/>
            <a:ext cx="1656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_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360" y="1800360"/>
            <a:ext cx="4464000" cy="381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3280" y="4535640"/>
            <a:ext cx="295272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ctional_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79640" y="201600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tch_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43640" y="1224000"/>
            <a:ext cx="230364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nectivity_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59280" y="647640"/>
            <a:ext cx="194472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t_size_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36720" y="2664000"/>
            <a:ext cx="194472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agment_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15280" y="5327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3280" y="360036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48720" y="647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ag_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32360" y="6624720"/>
            <a:ext cx="172872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smetrics_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96000" y="5975280"/>
            <a:ext cx="280836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_TXTinputBIOD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6360" y="6335640"/>
            <a:ext cx="1800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ct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56000" y="0"/>
            <a:ext cx="3887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SMetrics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2360" y="1944720"/>
            <a:ext cx="2016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lculates patch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35280" y="2735280"/>
            <a:ext cx="187164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lculates fragment size and structural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3280" y="4103640"/>
            <a:ext cx="381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lculates percentage of ha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1640" y="5018040"/>
            <a:ext cx="3816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lculates functionally connected area and functional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4720" y="1044720"/>
            <a:ext cx="151128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ulesre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1"/>
            <a:endCxn id="128" idx="1"/>
          </p:cNvCxnSpPr>
          <p:nvPr/>
        </p:nvCxnSpPr>
        <p:spPr>
          <a:xfrm flipH="1" flipV="1" rot="10800000">
            <a:off x="1044360" y="1294920"/>
            <a:ext cx="37080" cy="973800"/>
          </a:xfrm>
          <a:prstGeom prst="bentConnector3">
            <a:avLst>
              <a:gd name="adj1" fmla="val -50098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5" name=""/>
          <p:cNvCxnSpPr>
            <a:stCxn id="143" idx="1"/>
            <a:endCxn id="131" idx="1"/>
          </p:cNvCxnSpPr>
          <p:nvPr/>
        </p:nvCxnSpPr>
        <p:spPr>
          <a:xfrm flipV="1" rot="10800000">
            <a:off x="934200" y="1294920"/>
            <a:ext cx="111960" cy="1621800"/>
          </a:xfrm>
          <a:prstGeom prst="bentConnector3">
            <a:avLst>
              <a:gd name="adj1" fmla="val 266774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6" name=""/>
          <p:cNvCxnSpPr>
            <a:stCxn id="143" idx="1"/>
            <a:endCxn id="127" idx="1"/>
          </p:cNvCxnSpPr>
          <p:nvPr/>
        </p:nvCxnSpPr>
        <p:spPr>
          <a:xfrm flipV="1" rot="10800000">
            <a:off x="502560" y="1294920"/>
            <a:ext cx="543600" cy="3493440"/>
          </a:xfrm>
          <a:prstGeom prst="bentConnector3">
            <a:avLst>
              <a:gd name="adj1" fmla="val 133333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7" name=""/>
          <p:cNvCxnSpPr>
            <a:stCxn id="130" idx="2"/>
            <a:endCxn id="133" idx="3"/>
          </p:cNvCxnSpPr>
          <p:nvPr/>
        </p:nvCxnSpPr>
        <p:spPr>
          <a:xfrm rot="5400000">
            <a:off x="3024360" y="143280"/>
            <a:ext cx="2701080" cy="47188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8" name=""/>
          <p:cNvCxnSpPr>
            <a:stCxn id="134" idx="0"/>
            <a:endCxn id="131" idx="1"/>
          </p:cNvCxnSpPr>
          <p:nvPr/>
        </p:nvCxnSpPr>
        <p:spPr>
          <a:xfrm rot="5400000">
            <a:off x="3635280" y="-2053440"/>
            <a:ext cx="2269440" cy="7671600"/>
          </a:xfrm>
          <a:prstGeom prst="bentConnector4">
            <a:avLst>
              <a:gd name="adj1" fmla="val -7044"/>
              <a:gd name="adj2" fmla="val 102351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9" name=""/>
          <p:cNvCxnSpPr>
            <a:stCxn id="129" idx="1"/>
            <a:endCxn id="127" idx="3"/>
          </p:cNvCxnSpPr>
          <p:nvPr/>
        </p:nvCxnSpPr>
        <p:spPr>
          <a:xfrm flipV="1" rot="10800000">
            <a:off x="3454560" y="1476000"/>
            <a:ext cx="3891240" cy="3313800"/>
          </a:xfrm>
          <a:prstGeom prst="bentConnector3">
            <a:avLst>
              <a:gd name="adj1" fmla="val 2962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7307280" y="3995640"/>
            <a:ext cx="2303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ndscape_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75640" y="2879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_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15280" y="2232000"/>
            <a:ext cx="2303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dge_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248000" y="2376360"/>
            <a:ext cx="1656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_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08360" y="1800360"/>
            <a:ext cx="5327640" cy="345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07280" y="3995640"/>
            <a:ext cx="2303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ndscape_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75640" y="2879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_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15280" y="2232000"/>
            <a:ext cx="2303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dge_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3280" y="4535640"/>
            <a:ext cx="295272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ctional_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01600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tch_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43640" y="1224000"/>
            <a:ext cx="230364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nectivity_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59280" y="647640"/>
            <a:ext cx="194472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t_size_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36720" y="2664000"/>
            <a:ext cx="194472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agment_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15280" y="5327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3280" y="360036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647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ag_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6624720"/>
            <a:ext cx="172872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smetrics_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96000" y="5975280"/>
            <a:ext cx="280836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_TXTinputBIOD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6360" y="6335640"/>
            <a:ext cx="1800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ct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56000" y="0"/>
            <a:ext cx="3887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SMetrics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0000" y="1871640"/>
            <a:ext cx="27352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ifies matrix-edge-core, calculates area of edge/core clumps, calculates percentage of edge/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88000" y="3470400"/>
            <a:ext cx="4392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lculates distance from habitat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4545000"/>
            <a:ext cx="3816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lculates indices of landscape diversity/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4720" y="1044720"/>
            <a:ext cx="151128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ulesre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248000" y="2376360"/>
            <a:ext cx="1656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_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08360" y="1800360"/>
            <a:ext cx="5327640" cy="345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07280" y="3995640"/>
            <a:ext cx="2303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ndscape_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75640" y="2879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_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15280" y="2232000"/>
            <a:ext cx="2303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dge_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3280" y="4535640"/>
            <a:ext cx="295272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ctional_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79640" y="201600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tch_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1224000"/>
            <a:ext cx="230364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nectivity_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59280" y="647640"/>
            <a:ext cx="194472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t_size_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36720" y="2664000"/>
            <a:ext cx="194472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agment_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15280" y="5327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3280" y="360036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647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ag_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32360" y="6624720"/>
            <a:ext cx="172872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smetrics_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6000" y="5975280"/>
            <a:ext cx="280836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_TXTinputBIOD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6360" y="6335640"/>
            <a:ext cx="1800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ct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56000" y="0"/>
            <a:ext cx="3887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SMetrics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0000" y="1871640"/>
            <a:ext cx="27352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ifies matrix-edge-core, calculates area of edge/core clumps, calculates percentage of edge/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88000" y="3470400"/>
            <a:ext cx="4392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lculates distance from habitat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4545000"/>
            <a:ext cx="3816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lculates indices of landscape diversity/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44720" y="1044720"/>
            <a:ext cx="151128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ulesre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85" idx="3"/>
            <a:endCxn id="178" idx="1"/>
          </p:cNvCxnSpPr>
          <p:nvPr/>
        </p:nvCxnSpPr>
        <p:spPr>
          <a:xfrm flipV="1">
            <a:off x="2016000" y="2480760"/>
            <a:ext cx="5401440" cy="1372320"/>
          </a:xfrm>
          <a:prstGeom prst="bentConnector3">
            <a:avLst>
              <a:gd name="adj1" fmla="val 4999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6" name=""/>
          <p:cNvCxnSpPr>
            <a:stCxn id="182" idx="1"/>
            <a:endCxn id="185" idx="1"/>
          </p:cNvCxnSpPr>
          <p:nvPr/>
        </p:nvCxnSpPr>
        <p:spPr>
          <a:xfrm flipV="1" rot="10800000">
            <a:off x="500760" y="899640"/>
            <a:ext cx="5260320" cy="2953440"/>
          </a:xfrm>
          <a:prstGeom prst="bentConnector3">
            <a:avLst>
              <a:gd name="adj1" fmla="val 103428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7" name=""/>
          <p:cNvCxnSpPr>
            <a:stCxn id="186" idx="3"/>
            <a:endCxn id="178" idx="3"/>
          </p:cNvCxnSpPr>
          <p:nvPr/>
        </p:nvCxnSpPr>
        <p:spPr>
          <a:xfrm>
            <a:off x="9359640" y="899640"/>
            <a:ext cx="361080" cy="1585080"/>
          </a:xfrm>
          <a:prstGeom prst="bentConnector3">
            <a:avLst>
              <a:gd name="adj1" fmla="val 1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8" name=""/>
          <p:cNvCxnSpPr/>
          <p:nvPr/>
        </p:nvCxnSpPr>
        <p:spPr>
          <a:xfrm>
            <a:off x="2582640" y="1295280"/>
            <a:ext cx="6012360" cy="937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9" name=""/>
          <p:cNvCxnSpPr>
            <a:stCxn id="182" idx="2"/>
            <a:endCxn id="176" idx="1"/>
          </p:cNvCxnSpPr>
          <p:nvPr/>
        </p:nvCxnSpPr>
        <p:spPr>
          <a:xfrm flipH="1" rot="16200000">
            <a:off x="5472720" y="2412000"/>
            <a:ext cx="3096360" cy="576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16360" y="6551640"/>
            <a:ext cx="3778200" cy="9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79640" y="201600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tch_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43640" y="1224000"/>
            <a:ext cx="230364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nectivity_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59280" y="647640"/>
            <a:ext cx="194472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t_size_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36720" y="2664000"/>
            <a:ext cx="194472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agment_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15280" y="5327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848720" y="647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ag_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48000" y="2376360"/>
            <a:ext cx="1656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_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2360" y="6624720"/>
            <a:ext cx="172872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smetrics_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96000" y="5975280"/>
            <a:ext cx="280836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_TXTinputBIOD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6360" y="6335640"/>
            <a:ext cx="180000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ct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56000" y="0"/>
            <a:ext cx="3887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SMetrics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3280" y="4535640"/>
            <a:ext cx="295272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ctional_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3280" y="360036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44720" y="1044720"/>
            <a:ext cx="1511280" cy="50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ulesre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07280" y="3995640"/>
            <a:ext cx="2303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ndscape_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75640" y="2879640"/>
            <a:ext cx="1511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_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15280" y="2232000"/>
            <a:ext cx="2303280" cy="50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dge_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04000" y="7056360"/>
            <a:ext cx="16891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un all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2" idx="2"/>
            <a:endCxn id="208" idx="0"/>
          </p:cNvCxnSpPr>
          <p:nvPr/>
        </p:nvCxnSpPr>
        <p:spPr>
          <a:xfrm flipH="1" rot="16200000">
            <a:off x="2644560" y="4374000"/>
            <a:ext cx="1585080" cy="291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0" name=""/>
          <p:cNvCxnSpPr>
            <a:stCxn id="213" idx="3"/>
            <a:endCxn id="208" idx="0"/>
          </p:cNvCxnSpPr>
          <p:nvPr/>
        </p:nvCxnSpPr>
        <p:spPr>
          <a:xfrm>
            <a:off x="2016000" y="3850920"/>
            <a:ext cx="2880720" cy="2772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1" name=""/>
          <p:cNvCxnSpPr>
            <a:stCxn id="204" idx="2"/>
            <a:endCxn id="208" idx="0"/>
          </p:cNvCxnSpPr>
          <p:nvPr/>
        </p:nvCxnSpPr>
        <p:spPr>
          <a:xfrm flipH="1" rot="16200000">
            <a:off x="1674000" y="3402360"/>
            <a:ext cx="3456720" cy="2988720"/>
          </a:xfrm>
          <a:prstGeom prst="bentConnector3">
            <a:avLst>
              <a:gd name="adj1" fmla="val 8332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2" name=""/>
          <p:cNvCxnSpPr>
            <a:stCxn id="207" idx="2"/>
            <a:endCxn id="208" idx="0"/>
          </p:cNvCxnSpPr>
          <p:nvPr/>
        </p:nvCxnSpPr>
        <p:spPr>
          <a:xfrm rot="5400000">
            <a:off x="3112200" y="4660560"/>
            <a:ext cx="3745800" cy="183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3" name=""/>
          <p:cNvCxnSpPr>
            <a:stCxn id="201" idx="1"/>
            <a:endCxn id="208" idx="0"/>
          </p:cNvCxnSpPr>
          <p:nvPr/>
        </p:nvCxnSpPr>
        <p:spPr>
          <a:xfrm flipH="1" flipV="1" rot="10800000">
            <a:off x="1079280" y="2268000"/>
            <a:ext cx="3817080" cy="4357080"/>
          </a:xfrm>
          <a:prstGeom prst="bentConnector4">
            <a:avLst>
              <a:gd name="adj1" fmla="val -18864"/>
              <a:gd name="adj2" fmla="val 71897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4" name=""/>
          <p:cNvCxnSpPr>
            <a:stCxn id="217" idx="1"/>
            <a:endCxn id="208" idx="3"/>
          </p:cNvCxnSpPr>
          <p:nvPr/>
        </p:nvCxnSpPr>
        <p:spPr>
          <a:xfrm flipV="1" rot="10800000">
            <a:off x="5757120" y="2484000"/>
            <a:ext cx="1659600" cy="4393440"/>
          </a:xfrm>
          <a:prstGeom prst="bentConnector3">
            <a:avLst>
              <a:gd name="adj1" fmla="val 69559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5" name=""/>
          <p:cNvCxnSpPr>
            <a:stCxn id="216" idx="1"/>
            <a:endCxn id="208" idx="3"/>
          </p:cNvCxnSpPr>
          <p:nvPr/>
        </p:nvCxnSpPr>
        <p:spPr>
          <a:xfrm flipV="1" rot="10800000">
            <a:off x="5757120" y="3131640"/>
            <a:ext cx="2019960" cy="3745800"/>
          </a:xfrm>
          <a:prstGeom prst="bentConnector3">
            <a:avLst>
              <a:gd name="adj1" fmla="val 64278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6" name=""/>
          <p:cNvCxnSpPr>
            <a:stCxn id="215" idx="1"/>
            <a:endCxn id="208" idx="3"/>
          </p:cNvCxnSpPr>
          <p:nvPr/>
        </p:nvCxnSpPr>
        <p:spPr>
          <a:xfrm flipV="1" rot="10800000">
            <a:off x="5757120" y="4247640"/>
            <a:ext cx="1551600" cy="2629800"/>
          </a:xfrm>
          <a:prstGeom prst="bentConnector3">
            <a:avLst>
              <a:gd name="adj1" fmla="val 44163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08:09:16Z</dcterms:created>
  <dc:creator>B Niebuhr</dc:creator>
  <dc:description/>
  <dc:language>en-US</dc:language>
  <cp:lastModifiedBy>B Niebuhr</cp:lastModifiedBy>
  <dcterms:modified xsi:type="dcterms:W3CDTF">2017-10-10T09:06:28Z</dcterms:modified>
  <cp:revision>3</cp:revision>
  <dc:subject/>
  <dc:title/>
</cp:coreProperties>
</file>