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13.jpeg" ContentType="image/jpeg"/>
  <Override PartName="/ppt/media/image5.wmf" ContentType="image/x-wmf"/>
  <Override PartName="/ppt/media/image28.wmf" ContentType="image/x-wmf"/>
  <Override PartName="/ppt/media/image30.wmf" ContentType="image/x-wmf"/>
  <Override PartName="/ppt/media/image6.png" ContentType="image/png"/>
  <Override PartName="/ppt/media/image16.wmf" ContentType="image/x-wmf"/>
  <Override PartName="/ppt/media/image8.png" ContentType="image/png"/>
  <Override PartName="/ppt/media/image7.png" ContentType="image/png"/>
  <Override PartName="/ppt/media/image23.wmf" ContentType="image/x-wmf"/>
  <Override PartName="/ppt/media/image11.jpeg" ContentType="image/jpeg"/>
  <Override PartName="/ppt/media/image17.wmf" ContentType="image/x-wmf"/>
  <Override PartName="/ppt/media/image9.png" ContentType="image/png"/>
  <Override PartName="/ppt/media/image31.wmf" ContentType="image/x-wmf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wmf" ContentType="image/x-wmf"/>
  <Override PartName="/ppt/media/image2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22.png" ContentType="image/png"/>
  <Override PartName="/ppt/media/image24.wmf" ContentType="image/x-wmf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622-EC57-46F4-931F-32BFBAB4EE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75F-2877-49AE-B617-A35DFE9CFF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C9F-D895-40B6-A8C4-0915D6F038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780-E34B-452F-903B-DCA5258A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166-9B9C-4E5A-81F9-9F844A7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058-7687-4F84-A7D6-585A5626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949-1D0C-4C31-8BB8-2E1481AD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781-9C96-4B42-9193-45DFEDB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8EE-5815-4231-B4FC-172360E0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474-6B8C-4ECC-B620-427DF4B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507-4708-483B-856A-8AA9722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95C-0070-45F2-B009-1F282BF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A9A-B667-4354-9CA5-BE2D642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8C8-4C5D-41FC-A80E-415A25F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D5F-687E-4929-8259-26F4157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36D3-8D07-4845-9C1A-6522A4C16C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FAE-1975-4B38-93EA-2023F657C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22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12</a:t>
            </a:r>
            <a:r>
              <a:rPr b="1" lang="en-GB" sz="32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SCMNS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International Workshop </a:t>
            </a:r>
            <a:br>
              <a:rPr sz="3200"/>
            </a:b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on Anomalies in Hydrogen Loaded Met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756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_____________________________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Road Map”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for Developing Engineering Applica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of LENR Technolog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essor Igor V. Goryach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063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6040" y="1052640"/>
            <a:ext cx="8229600" cy="5472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…………………………………………………………€7,710,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.…………………………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8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Stage 1: Creation and start up of  demonstr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…........................................................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€ 62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…..............................................13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Stage 2: Creation of a pilot commercial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………………………………………………………… €5,70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.................................................2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Stage 3: Testing the pilot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........................................................... €1,39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…..............................................1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E94-DE78-45A0-BA48-E22F1F39C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TM-converter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“PYRAMI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7624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1"/>
          <p:cNvGraphicFramePr/>
          <p:nvPr/>
        </p:nvGraphicFramePr>
        <p:xfrm>
          <a:off x="324000" y="1052640"/>
          <a:ext cx="60832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052640"/>
                    <a:ext cx="60832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5076720" y="4091040"/>
          <a:ext cx="371484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4091040"/>
                    <a:ext cx="3714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5364000" y="3306600"/>
          <a:ext cx="307656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0" y="3306600"/>
                    <a:ext cx="3076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48C-E906-4718-B238-C94CE959E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8640720" cy="853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mputer simulation of “PYRAMID”  ETM-Converter  desig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Пирамида с Майком без шапки"/>
          <p:cNvPicPr/>
          <p:nvPr/>
        </p:nvPicPr>
        <p:blipFill>
          <a:blip r:embed="rId1"/>
          <a:stretch/>
        </p:blipFill>
        <p:spPr>
          <a:xfrm>
            <a:off x="2011320" y="1125360"/>
            <a:ext cx="5224680" cy="5543640"/>
          </a:xfrm>
          <a:prstGeom prst="rect">
            <a:avLst/>
          </a:prstGeom>
          <a:ln w="0">
            <a:noFill/>
          </a:ln>
        </p:spPr>
      </p:pic>
      <p:sp>
        <p:nvSpPr>
          <p:cNvPr id="11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9AB4-4E0D-4B72-BDEC-4B1AD5516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tionless version of “PYRAMID”  ETM-conve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Блок-схема стационарной Пирамиды_cr"/>
          <p:cNvPicPr/>
          <p:nvPr/>
        </p:nvPicPr>
        <p:blipFill>
          <a:blip r:embed="rId1"/>
          <a:stretch/>
        </p:blipFill>
        <p:spPr>
          <a:xfrm>
            <a:off x="2340000" y="907920"/>
            <a:ext cx="5111640" cy="5689800"/>
          </a:xfrm>
          <a:prstGeom prst="rect">
            <a:avLst/>
          </a:prstGeom>
          <a:ln w="0">
            <a:noFill/>
          </a:ln>
        </p:spPr>
      </p:pic>
      <p:sp>
        <p:nvSpPr>
          <p:cNvPr id="11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A0E-1465-4C7A-B5FF-B4C46A548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 parameters of E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Converter “Pyrami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6040" y="1413000"/>
            <a:ext cx="8229600" cy="5256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mensions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eight                                                                                750 (250)mm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ameter                                                                           500 (440)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80(100) kg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put power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50-80 (80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) k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put voltage                                                                up to 200 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C (AC) output generated                                                250-400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eed of rotation of a crystal                                      100-150 rev./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threshold min: 80 rev./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ameter of current thoroid chamber                            16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size of quartz crysta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eight х basement dimensions                                    170х170 х170m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uration of continuous work before replacing cryst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3081-DBD5-432E-B3D7-D79210F3D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9120" y="33300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tal cost ……………………………………………………€1, 078, 5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24 month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53735"/>
                </a:solidFill>
                <a:latin typeface="Calibri"/>
              </a:rPr>
              <a:t>Stage 1: Creation and starting of a convert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st …………………………………………………………… €750, 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 18 month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i="1" lang="en-US" sz="2500" spc="-1" strike="noStrike">
                <a:solidFill>
                  <a:srgbClr val="953735"/>
                </a:solidFill>
                <a:latin typeface="Calibri"/>
              </a:rPr>
              <a:t>Stage 2: Converter Resear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st…………………………………………………. …………€328, 5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6 month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AFC1-17A8-4CFC-A255-27710266C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25280"/>
            <a:ext cx="8229600" cy="7826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MW  “TIGER” Power  ETM-Unit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ТОР цепи вых питания-2"/>
          <p:cNvPicPr/>
          <p:nvPr/>
        </p:nvPicPr>
        <p:blipFill>
          <a:blip r:embed="rId1"/>
          <a:stretch/>
        </p:blipFill>
        <p:spPr>
          <a:xfrm>
            <a:off x="900000" y="996840"/>
            <a:ext cx="7417080" cy="5578560"/>
          </a:xfrm>
          <a:prstGeom prst="rect">
            <a:avLst/>
          </a:prstGeom>
          <a:ln w="0">
            <a:noFill/>
          </a:ln>
        </p:spPr>
      </p:pic>
      <p:sp>
        <p:nvSpPr>
          <p:cNvPr id="12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508F-684F-43F7-97D6-C4C6676E2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000"/>
            <a:ext cx="8229600" cy="7826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MW  “TIGER”  ETM-Un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Tor_cr"/>
          <p:cNvPicPr/>
          <p:nvPr/>
        </p:nvPicPr>
        <p:blipFill>
          <a:blip r:embed="rId1"/>
          <a:srcRect l="3704" t="4387" r="3704" b="4912"/>
          <a:stretch/>
        </p:blipFill>
        <p:spPr>
          <a:xfrm>
            <a:off x="1116000" y="907920"/>
            <a:ext cx="7128000" cy="496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1692360" y="6048000"/>
            <a:ext cx="583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onator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—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ody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—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4 — quartz </a:t>
            </a: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phase inver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— axial reactionary line of TOR, 6 — reactionary axial volum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put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annel of  burni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eam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gnetic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nopo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30AF-5717-4D9C-A7D1-D3E2DB6C1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5280"/>
            <a:ext cx="8229600" cy="78264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uter simulation of 10 MW  “TIGER”  ETM-Un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Tor%20Сеч_cr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5427720"/>
          </a:xfrm>
          <a:prstGeom prst="rect">
            <a:avLst/>
          </a:prstGeom>
          <a:ln w="0">
            <a:noFill/>
          </a:ln>
        </p:spPr>
      </p:pic>
      <p:sp>
        <p:nvSpPr>
          <p:cNvPr id="13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D3C-D986-42A7-A9F4-C32E42EE5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Parameters of “TIGER” ETM-power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6040" y="836280"/>
            <a:ext cx="8229600" cy="583236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mension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Ø5948 × 800 m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ight, without wa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~16 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ximum output pow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10 M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 AC power 8 resonators                                        800 k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 supply of activating  generator                     220 V, 50 H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 of driving generator aux equipment                25  k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ss of water                                                                       8 t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umption of wa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27 g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uration of continuous work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1-2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mperature of  water/steam  inside                          300-320 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m pressure                                                                 16-20 at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onstruction materials needed to manufacture one un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inless steel                                                                        16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rtz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108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pp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115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v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28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l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12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2895-2491-4CA8-A34E-AAB21C522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16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Possible LENR-based innovative technolog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29600" cy="5013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250920" y="620640"/>
            <a:ext cx="8281800" cy="576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enerating ecologically clean and safe he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0920" y="1341360"/>
            <a:ext cx="8281800" cy="574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enerating ecologically clean and safe electr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50920" y="2060640"/>
            <a:ext cx="8281800" cy="576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mplete neutralizing radioactive waste and spent nuclear 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50920" y="2852640"/>
            <a:ext cx="828180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eap and ecologically clean desalinating sea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50920" y="5157720"/>
            <a:ext cx="8281800" cy="574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ducing new special materials and allo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250920" y="5950080"/>
            <a:ext cx="82818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ing LENR-activating radiation for technical and med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250920" y="3645000"/>
            <a:ext cx="8281800" cy="57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utralizing  war gases and toxic hazardous waste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6"/>
          <p:cNvSpPr/>
          <p:nvPr/>
        </p:nvSpPr>
        <p:spPr>
          <a:xfrm>
            <a:off x="250920" y="4365720"/>
            <a:ext cx="8281800" cy="57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ducing precious and rare metals out of cheaper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498-ED53-40AE-AE3A-F06E38C28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850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197000"/>
            <a:ext cx="8229600" cy="5400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 ………………………………………………………….€ 10,065,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………………………………………………………………….3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Stage 1: Creation of  a pilot 350-400kW  “ТОRUS”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... € 930,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.  18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Stage 2: Creation of 10 MW “TORUS” Unit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...   €7, 05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..................................................................  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4807"/>
                </a:solidFill>
                <a:latin typeface="Calibri"/>
              </a:rPr>
              <a:t>Stage 3: Bench test of “TORUS” Power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.....  € 2,085,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...   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887-CD58-4D67-831A-7D6976DDE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9144000" cy="115416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echnology “PTDRW” for LENR deactivation of Radioactive Waste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(Plasma processing Radwaste+Transmutation Deactivating Radslag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 flipV="1">
            <a:off x="468360" y="5949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971640" y="1341360"/>
            <a:ext cx="6985080" cy="4916520"/>
            <a:chOff x="971640" y="1341360"/>
            <a:chExt cx="6985080" cy="4916520"/>
          </a:xfrm>
        </p:grpSpPr>
        <p:pic>
          <p:nvPicPr>
            <p:cNvPr id="149" name="Picture 12" descr=""/>
            <p:cNvPicPr/>
            <p:nvPr/>
          </p:nvPicPr>
          <p:blipFill>
            <a:blip r:embed="rId1"/>
            <a:stretch/>
          </p:blipFill>
          <p:spPr>
            <a:xfrm>
              <a:off x="3459240" y="1341360"/>
              <a:ext cx="3175200" cy="49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13"/>
            <p:cNvSpPr/>
            <p:nvPr/>
          </p:nvSpPr>
          <p:spPr>
            <a:xfrm>
              <a:off x="2698920" y="2249280"/>
              <a:ext cx="1319400" cy="419040"/>
            </a:xfrm>
            <a:prstGeom prst="wedgeRoundRectCallout">
              <a:avLst>
                <a:gd name="adj1" fmla="val 100662"/>
                <a:gd name="adj2" fmla="val 168560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af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>
              <a:off x="2051280" y="3070080"/>
              <a:ext cx="1942920" cy="419040"/>
            </a:xfrm>
            <a:prstGeom prst="wedgeRoundRectCallout">
              <a:avLst>
                <a:gd name="adj1" fmla="val 83087"/>
                <a:gd name="adj2" fmla="val 340532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lasma to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AutoShape 15"/>
            <p:cNvSpPr/>
            <p:nvPr/>
          </p:nvSpPr>
          <p:spPr>
            <a:xfrm>
              <a:off x="1386000" y="3859200"/>
              <a:ext cx="2254320" cy="420480"/>
            </a:xfrm>
            <a:prstGeom prst="wedgeRoundRectCallout">
              <a:avLst>
                <a:gd name="adj1" fmla="val 68171"/>
                <a:gd name="adj2" fmla="val 180564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lting chamb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AutoShape 16"/>
            <p:cNvSpPr/>
            <p:nvPr/>
          </p:nvSpPr>
          <p:spPr>
            <a:xfrm>
              <a:off x="1386000" y="4557600"/>
              <a:ext cx="2175120" cy="349200"/>
            </a:xfrm>
            <a:prstGeom prst="wedgeRoundRectCallout">
              <a:avLst>
                <a:gd name="adj1" fmla="val 83722"/>
                <a:gd name="adj2" fmla="val 175907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opp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AutoShape 17"/>
            <p:cNvSpPr/>
            <p:nvPr/>
          </p:nvSpPr>
          <p:spPr>
            <a:xfrm>
              <a:off x="971640" y="5118120"/>
              <a:ext cx="2565360" cy="419040"/>
            </a:xfrm>
            <a:prstGeom prst="wedgeRoundRectCallout">
              <a:avLst>
                <a:gd name="adj1" fmla="val 71967"/>
                <a:gd name="adj2" fmla="val 144319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ag receiving bo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AutoShape 18"/>
            <p:cNvSpPr/>
            <p:nvPr/>
          </p:nvSpPr>
          <p:spPr>
            <a:xfrm>
              <a:off x="6013800" y="1830240"/>
              <a:ext cx="1942920" cy="349200"/>
            </a:xfrm>
            <a:prstGeom prst="wedgeRoundRectCallout">
              <a:avLst>
                <a:gd name="adj1" fmla="val -65685"/>
                <a:gd name="adj2" fmla="val 179546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yrogas outl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5254920" y="5678280"/>
              <a:ext cx="1555560" cy="349200"/>
            </a:xfrm>
            <a:prstGeom prst="wedgeRoundRectCallout">
              <a:avLst>
                <a:gd name="adj1" fmla="val -76939"/>
                <a:gd name="adj2" fmla="val -212273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art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>
              <a:off x="2006640" y="1622160"/>
              <a:ext cx="2256120" cy="349200"/>
            </a:xfrm>
            <a:prstGeom prst="wedgeRoundRectCallout">
              <a:avLst>
                <a:gd name="adj1" fmla="val 79699"/>
                <a:gd name="adj2" fmla="val 85000"/>
                <a:gd name="adj3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oading un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Прямоугольник 14"/>
          <p:cNvSpPr/>
          <p:nvPr/>
        </p:nvSpPr>
        <p:spPr>
          <a:xfrm>
            <a:off x="2863080" y="623736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Shaft furnace with plasma he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33E-61E6-4044-9663-747403192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691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ouring Radslag out of shaft furnace and converting it into granulas for further treatment in transmutation rea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Object 21"/>
          <p:cNvGraphicFramePr/>
          <p:nvPr/>
        </p:nvGraphicFramePr>
        <p:xfrm>
          <a:off x="755640" y="1125360"/>
          <a:ext cx="255276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25527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Oval 24"/>
          <p:cNvSpPr/>
          <p:nvPr/>
        </p:nvSpPr>
        <p:spPr>
          <a:xfrm>
            <a:off x="2523960" y="18954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25"/>
          <p:cNvSpPr/>
          <p:nvPr/>
        </p:nvSpPr>
        <p:spPr>
          <a:xfrm>
            <a:off x="2523960" y="21114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2523960" y="232884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2523960" y="254304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2523960" y="275904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34"/>
          <p:cNvSpPr/>
          <p:nvPr/>
        </p:nvSpPr>
        <p:spPr>
          <a:xfrm>
            <a:off x="2523960" y="297648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35"/>
          <p:cNvSpPr/>
          <p:nvPr/>
        </p:nvSpPr>
        <p:spPr>
          <a:xfrm>
            <a:off x="2523960" y="31924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6"/>
          <p:cNvSpPr/>
          <p:nvPr/>
        </p:nvSpPr>
        <p:spPr>
          <a:xfrm>
            <a:off x="2523960" y="3409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37"/>
          <p:cNvSpPr/>
          <p:nvPr/>
        </p:nvSpPr>
        <p:spPr>
          <a:xfrm>
            <a:off x="2523960" y="362412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38"/>
          <p:cNvSpPr/>
          <p:nvPr/>
        </p:nvSpPr>
        <p:spPr>
          <a:xfrm>
            <a:off x="2523960" y="38401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2124000" y="5589720"/>
            <a:ext cx="316728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2124000" y="5013360"/>
            <a:ext cx="3167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54"/>
          <p:cNvSpPr/>
          <p:nvPr/>
        </p:nvSpPr>
        <p:spPr>
          <a:xfrm>
            <a:off x="2535120" y="406548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55"/>
          <p:cNvSpPr/>
          <p:nvPr/>
        </p:nvSpPr>
        <p:spPr>
          <a:xfrm>
            <a:off x="2535120" y="42814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56"/>
          <p:cNvSpPr/>
          <p:nvPr/>
        </p:nvSpPr>
        <p:spPr>
          <a:xfrm>
            <a:off x="2535120" y="4498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57"/>
          <p:cNvSpPr/>
          <p:nvPr/>
        </p:nvSpPr>
        <p:spPr>
          <a:xfrm>
            <a:off x="2535120" y="471312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58"/>
          <p:cNvSpPr/>
          <p:nvPr/>
        </p:nvSpPr>
        <p:spPr>
          <a:xfrm>
            <a:off x="2535120" y="49291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59"/>
          <p:cNvSpPr/>
          <p:nvPr/>
        </p:nvSpPr>
        <p:spPr>
          <a:xfrm>
            <a:off x="2535120" y="514656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60"/>
          <p:cNvSpPr/>
          <p:nvPr/>
        </p:nvSpPr>
        <p:spPr>
          <a:xfrm>
            <a:off x="2535120" y="536256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61"/>
          <p:cNvSpPr/>
          <p:nvPr/>
        </p:nvSpPr>
        <p:spPr>
          <a:xfrm>
            <a:off x="2535120" y="5580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62"/>
          <p:cNvSpPr/>
          <p:nvPr/>
        </p:nvSpPr>
        <p:spPr>
          <a:xfrm>
            <a:off x="2535120" y="579420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63"/>
          <p:cNvSpPr/>
          <p:nvPr/>
        </p:nvSpPr>
        <p:spPr>
          <a:xfrm>
            <a:off x="2535120" y="60102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79"/>
          <p:cNvSpPr/>
          <p:nvPr/>
        </p:nvSpPr>
        <p:spPr>
          <a:xfrm>
            <a:off x="3695760" y="5938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80"/>
          <p:cNvSpPr/>
          <p:nvPr/>
        </p:nvSpPr>
        <p:spPr>
          <a:xfrm>
            <a:off x="3983040" y="5938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81"/>
          <p:cNvSpPr/>
          <p:nvPr/>
        </p:nvSpPr>
        <p:spPr>
          <a:xfrm>
            <a:off x="4200480" y="5938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82"/>
          <p:cNvSpPr/>
          <p:nvPr/>
        </p:nvSpPr>
        <p:spPr>
          <a:xfrm>
            <a:off x="4416480" y="593892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83"/>
          <p:cNvSpPr/>
          <p:nvPr/>
        </p:nvSpPr>
        <p:spPr>
          <a:xfrm>
            <a:off x="2195640" y="5950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84"/>
          <p:cNvSpPr/>
          <p:nvPr/>
        </p:nvSpPr>
        <p:spPr>
          <a:xfrm>
            <a:off x="2340000" y="5805360"/>
            <a:ext cx="142920" cy="14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85"/>
          <p:cNvSpPr/>
          <p:nvPr/>
        </p:nvSpPr>
        <p:spPr>
          <a:xfrm>
            <a:off x="2195640" y="5661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86"/>
          <p:cNvSpPr/>
          <p:nvPr/>
        </p:nvSpPr>
        <p:spPr>
          <a:xfrm>
            <a:off x="2771640" y="5877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87"/>
          <p:cNvSpPr/>
          <p:nvPr/>
        </p:nvSpPr>
        <p:spPr>
          <a:xfrm>
            <a:off x="2987640" y="5950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88"/>
          <p:cNvSpPr/>
          <p:nvPr/>
        </p:nvSpPr>
        <p:spPr>
          <a:xfrm>
            <a:off x="3203640" y="5950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89"/>
          <p:cNvSpPr/>
          <p:nvPr/>
        </p:nvSpPr>
        <p:spPr>
          <a:xfrm>
            <a:off x="3492360" y="5734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90"/>
          <p:cNvSpPr/>
          <p:nvPr/>
        </p:nvSpPr>
        <p:spPr>
          <a:xfrm>
            <a:off x="3059280" y="5734080"/>
            <a:ext cx="14256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91"/>
          <p:cNvSpPr/>
          <p:nvPr/>
        </p:nvSpPr>
        <p:spPr>
          <a:xfrm>
            <a:off x="3287880" y="5746680"/>
            <a:ext cx="14256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92"/>
          <p:cNvSpPr/>
          <p:nvPr/>
        </p:nvSpPr>
        <p:spPr>
          <a:xfrm>
            <a:off x="3419640" y="5950080"/>
            <a:ext cx="14256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93"/>
          <p:cNvSpPr/>
          <p:nvPr/>
        </p:nvSpPr>
        <p:spPr>
          <a:xfrm>
            <a:off x="2700360" y="5661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94"/>
          <p:cNvSpPr/>
          <p:nvPr/>
        </p:nvSpPr>
        <p:spPr>
          <a:xfrm>
            <a:off x="3708360" y="5661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95"/>
          <p:cNvSpPr/>
          <p:nvPr/>
        </p:nvSpPr>
        <p:spPr>
          <a:xfrm>
            <a:off x="3995640" y="5734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96"/>
          <p:cNvSpPr/>
          <p:nvPr/>
        </p:nvSpPr>
        <p:spPr>
          <a:xfrm>
            <a:off x="4284720" y="573408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97"/>
          <p:cNvSpPr/>
          <p:nvPr/>
        </p:nvSpPr>
        <p:spPr>
          <a:xfrm>
            <a:off x="4572000" y="5661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98"/>
          <p:cNvSpPr/>
          <p:nvPr/>
        </p:nvSpPr>
        <p:spPr>
          <a:xfrm>
            <a:off x="4859280" y="5661000"/>
            <a:ext cx="14292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99"/>
          <p:cNvSpPr/>
          <p:nvPr/>
        </p:nvSpPr>
        <p:spPr>
          <a:xfrm>
            <a:off x="4641840" y="5950080"/>
            <a:ext cx="14616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00"/>
          <p:cNvSpPr/>
          <p:nvPr/>
        </p:nvSpPr>
        <p:spPr>
          <a:xfrm>
            <a:off x="4861080" y="5950080"/>
            <a:ext cx="14256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01"/>
          <p:cNvSpPr/>
          <p:nvPr/>
        </p:nvSpPr>
        <p:spPr>
          <a:xfrm>
            <a:off x="5076720" y="5950080"/>
            <a:ext cx="14292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02"/>
          <p:cNvSpPr/>
          <p:nvPr/>
        </p:nvSpPr>
        <p:spPr>
          <a:xfrm>
            <a:off x="5003640" y="5734080"/>
            <a:ext cx="14292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103"/>
          <p:cNvSpPr/>
          <p:nvPr/>
        </p:nvSpPr>
        <p:spPr>
          <a:xfrm>
            <a:off x="4716360" y="5805360"/>
            <a:ext cx="14292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104"/>
          <p:cNvSpPr/>
          <p:nvPr/>
        </p:nvSpPr>
        <p:spPr>
          <a:xfrm>
            <a:off x="2124000" y="501336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05"/>
          <p:cNvSpPr/>
          <p:nvPr/>
        </p:nvSpPr>
        <p:spPr>
          <a:xfrm>
            <a:off x="2124000" y="616572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06"/>
          <p:cNvSpPr/>
          <p:nvPr/>
        </p:nvSpPr>
        <p:spPr>
          <a:xfrm>
            <a:off x="5292720" y="501336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2124000" y="5013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8"/>
          <p:cNvSpPr/>
          <p:nvPr/>
        </p:nvSpPr>
        <p:spPr>
          <a:xfrm>
            <a:off x="3419640" y="2349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oplets of molten slag, d=5-7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09"/>
          <p:cNvSpPr/>
          <p:nvPr/>
        </p:nvSpPr>
        <p:spPr>
          <a:xfrm>
            <a:off x="1185840" y="5734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10"/>
          <p:cNvSpPr/>
          <p:nvPr/>
        </p:nvSpPr>
        <p:spPr>
          <a:xfrm>
            <a:off x="2411280" y="630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nulas of rads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111"/>
          <p:cNvSpPr/>
          <p:nvPr/>
        </p:nvSpPr>
        <p:spPr>
          <a:xfrm>
            <a:off x="6084720" y="4076640"/>
            <a:ext cx="2735280" cy="23767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12"/>
          <p:cNvSpPr/>
          <p:nvPr/>
        </p:nvSpPr>
        <p:spPr>
          <a:xfrm>
            <a:off x="6443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M-Re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AutoShape 114"/>
          <p:cNvSpPr/>
          <p:nvPr/>
        </p:nvSpPr>
        <p:spPr>
          <a:xfrm>
            <a:off x="4572000" y="3571920"/>
            <a:ext cx="3600360" cy="1441440"/>
          </a:xfrm>
          <a:custGeom>
            <a:avLst/>
            <a:gdLst>
              <a:gd name="textAreaLeft" fmla="*/ 630000 w 3600360"/>
              <a:gd name="textAreaRight" fmla="*/ 2610360 w 3600360"/>
              <a:gd name="textAreaTop" fmla="*/ 192960 h 1441440"/>
              <a:gd name="textAreaBottom" fmla="*/ 12484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16"/>
          <p:cNvSpPr/>
          <p:nvPr/>
        </p:nvSpPr>
        <p:spPr>
          <a:xfrm>
            <a:off x="4356000" y="3141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dioactive gran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09DF-5B8C-4726-96F9-E9D7E6C65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54000" y="214200"/>
          <a:ext cx="581328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214200"/>
                    <a:ext cx="581328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3"/>
          <p:cNvGraphicFramePr/>
          <p:nvPr/>
        </p:nvGraphicFramePr>
        <p:xfrm>
          <a:off x="5796000" y="1628640"/>
          <a:ext cx="3564000" cy="38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628640"/>
                    <a:ext cx="356400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4"/>
          <p:cNvSpPr/>
          <p:nvPr/>
        </p:nvSpPr>
        <p:spPr>
          <a:xfrm>
            <a:off x="179280" y="115920"/>
            <a:ext cx="8713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UMPH” Radwaste Deactivating ETM-Fac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1756-7AB7-42E1-96CF-C4A749836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rcRect l="12140" t="10955" r="8690" b="20108"/>
          <a:stretch/>
        </p:blipFill>
        <p:spPr>
          <a:xfrm>
            <a:off x="1838160" y="1600200"/>
            <a:ext cx="5467680" cy="36576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"/>
          <p:cNvPicPr/>
          <p:nvPr/>
        </p:nvPicPr>
        <p:blipFill>
          <a:blip r:embed="rId2"/>
          <a:srcRect l="0" t="79525" r="0" b="3878"/>
          <a:stretch/>
        </p:blipFill>
        <p:spPr>
          <a:xfrm>
            <a:off x="1332000" y="5229360"/>
            <a:ext cx="714672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"/>
          <p:cNvPicPr/>
          <p:nvPr/>
        </p:nvPicPr>
        <p:blipFill>
          <a:blip r:embed="rId3"/>
          <a:srcRect l="9396" t="-1918" r="20614" b="91962"/>
          <a:stretch/>
        </p:blipFill>
        <p:spPr>
          <a:xfrm>
            <a:off x="1547640" y="260280"/>
            <a:ext cx="6193080" cy="108108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937-596F-47F4-AE7C-87A1A9E55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5475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ected technical characteristics of PTDRW Un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1280" y="266760"/>
            <a:ext cx="8066160" cy="70272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250 кг/ч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apacity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             250 kg/h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(100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,000 Cu/y)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Temperature inside melting chamber            1500-1600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Electric power of plasma torches                      2×100 kW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Total electric power consumed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200 kW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pecific power consumed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        800-1000 kW-h/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pecific consumption of chemical reagents      25-30 kg/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Water consumption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                 50 l/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gree of captured radionuclides (inside slag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or  Cs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137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                90-93%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or  Co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97-99%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or  U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238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3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99-99.9%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Total amount of melted radioactive slag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to be processed in   transmutation  reactor        up to 50 kg/h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1EE-0B47-44E0-A8D3-4573B91E9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557360"/>
            <a:ext cx="8229600" cy="4967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cost (without  plasma unit)...................€5,7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 (including plasma unit)………………..2 years 6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Stage 1: Construction of installation and testing it with    </a:t>
            </a:r>
            <a:r>
              <a:rPr b="1" i="1" lang="en-US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            radioactive isotopes of small int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....................................................................... €2,7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........................................................................19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Stage 2: Transmutation of radioactivity of 1 Cur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........................................................................€1,35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..........................................................................6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Stage 3: Processing nuclear waste of over 1 Cur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....................................................................... €1,65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m.......................................................................... 5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DA6F-A6A4-4C04-B550-E97E06EDA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0" y="24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79280" y="335520"/>
            <a:ext cx="85788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alination ecologically safe DTR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on implementation of ETM-gen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1440" y="1700280"/>
            <a:ext cx="9142560" cy="2600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2482920" y="4508640"/>
            <a:ext cx="4321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eam TM-genera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nsmutation pi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alls of chamber plated with reflecting lay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irculation pum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ater poo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234-BADC-4DB9-A83A-F13A7CD1A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am Generator of Electromagnetic ETM-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553160" cy="4390920"/>
          </a:xfrm>
          <a:prstGeom prst="rect">
            <a:avLst/>
          </a:prstGeom>
          <a:ln w="0">
            <a:noFill/>
          </a:ln>
        </p:spPr>
      </p:pic>
      <p:sp>
        <p:nvSpPr>
          <p:cNvPr id="2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E6E-E455-40CC-AD29-58273CD92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technical parameter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DTR desalination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lectrical power                      500-1000k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ductivity for potable water      1300-150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l cost of potable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ed on outside power supply      0.32-0.48 $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compare to technology ba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 reverse osmosis  –                        0.5-0.6 $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ost based on autono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wer supply (e.g. TOFRUS)           0.02-0.025 $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sition of exhaust  product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no hazardous brine released back into the se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7043-4CAD-4AF0-9895-0D2750AB2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0kW “CATfish” – water fueled water heating un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Рисунок3"/>
          <p:cNvPicPr/>
          <p:nvPr/>
        </p:nvPicPr>
        <p:blipFill>
          <a:blip r:embed="rId1"/>
          <a:srcRect l="0" t="4580" r="0" b="19651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348-6361-4A7E-9676-F48DC49F5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267920"/>
            <a:ext cx="8229600" cy="525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 ………………………………………………… 3,800,0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 ……………………………………………………….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1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ation and start of a small DTR 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………………………………………………………… 1,200,0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  ……………………………………………………… 15 month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2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ation of full scale DTR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  ……………………………………………………… 1,100,0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   ……………………………………………………… 5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3: Desalinat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ea water using reactionary chamb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………………………………………………………. 1,500,0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………………………………………………………… 7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FF2-9614-4A69-9E97-87D048DF8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71520"/>
            <a:ext cx="8229600" cy="6811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tillating unit of lower capac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2160" cy="5068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Object 1"/>
          <p:cNvGraphicFramePr/>
          <p:nvPr/>
        </p:nvGraphicFramePr>
        <p:xfrm>
          <a:off x="324000" y="1557360"/>
          <a:ext cx="857556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5755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1908000" y="5229360"/>
          <a:ext cx="487692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8000" y="5229360"/>
                    <a:ext cx="48769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695-BA14-4D00-B05C-DFCFA9A63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58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tillating unit of higher capac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Object 1"/>
          <p:cNvGraphicFramePr/>
          <p:nvPr/>
        </p:nvGraphicFramePr>
        <p:xfrm>
          <a:off x="-324000" y="1773360"/>
          <a:ext cx="9468000" cy="38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1773360"/>
                    <a:ext cx="94680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0FB1-BF6F-46F3-9034-2F97FBD1F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70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STR-system  for transmuting poisonous materials and war gases into inert materials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76120" y="1255680"/>
            <a:ext cx="8686800" cy="5197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"/>
          <p:cNvSpPr/>
          <p:nvPr/>
        </p:nvSpPr>
        <p:spPr>
          <a:xfrm>
            <a:off x="-181080" y="4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8744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Объект 6"/>
          <p:cNvGraphicFramePr/>
          <p:nvPr/>
        </p:nvGraphicFramePr>
        <p:xfrm>
          <a:off x="179280" y="1628640"/>
          <a:ext cx="4808520" cy="403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Объект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628640"/>
                    <a:ext cx="48085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5"/>
          <p:cNvSpPr/>
          <p:nvPr/>
        </p:nvSpPr>
        <p:spPr>
          <a:xfrm>
            <a:off x="4284720" y="2625840"/>
            <a:ext cx="114728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" name="Object 60"/>
          <p:cNvGraphicFramePr/>
          <p:nvPr/>
        </p:nvGraphicFramePr>
        <p:xfrm>
          <a:off x="5003640" y="1660680"/>
          <a:ext cx="3889440" cy="363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Object 6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660680"/>
                    <a:ext cx="388944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Object 61"/>
          <p:cNvGraphicFramePr/>
          <p:nvPr/>
        </p:nvGraphicFramePr>
        <p:xfrm>
          <a:off x="900000" y="5516640"/>
          <a:ext cx="705348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Object 6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5516640"/>
                    <a:ext cx="70534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096-75E3-4784-A87C-B395A44BC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9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cost......................................................... …………€4,800,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……………………………………………………… …………… 2 years 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age 1: Manufacturing installation and testing it wi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oisonous materials at low concen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 …………€1,95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....1year 7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age 2: Transmutation of poisonous materials at h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st ................................................................ …………€1,35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………………………………………………………………………. …6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age 3: Transmutation of war gases and poisonous waste produ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 ………..€1,500,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.........7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34E-AFE8-487C-897E-20F13CA52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IGMA”  Unit for manufacturing stable iso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270036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Содержимое 5" descr=""/>
          <p:cNvPicPr/>
          <p:nvPr/>
        </p:nvPicPr>
        <p:blipFill>
          <a:blip r:embed="rId1"/>
          <a:srcRect l="-2557" t="7837" r="0" b="11379"/>
          <a:stretch/>
        </p:blipFill>
        <p:spPr>
          <a:xfrm>
            <a:off x="900000" y="836640"/>
            <a:ext cx="6840720" cy="51847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" descr=""/>
          <p:cNvPicPr/>
          <p:nvPr/>
        </p:nvPicPr>
        <p:blipFill>
          <a:blip r:embed="rId2"/>
          <a:srcRect l="0" t="88437" r="50803" b="0"/>
          <a:stretch/>
        </p:blipFill>
        <p:spPr>
          <a:xfrm>
            <a:off x="1835280" y="5877000"/>
            <a:ext cx="4105080" cy="72072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3BE-65AA-4967-8938-C446AFB7A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NIGMA apparatus is a transmutational  source of stable isot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initial cheap materials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uminum, silicon, iron, vanadium ox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ductivity of the installation is 1.5 kg a yea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66A-B8DD-46CA-9B92-3C97ECE18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8492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628640"/>
            <a:ext cx="8229600" cy="4608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......................................................... €1,132,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.…………………………………………………………18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1: Creation and starting of an instal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 €87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2: Study of features of installation, chemical and isotope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.. €262,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..……………………………………………………. 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EB1-C10B-49C5-90E5-D2BB24262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79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TM ALC converter for manufacturing g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pecial allo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241200" y="2627280"/>
            <a:ext cx="14995800" cy="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Объект 4"/>
          <p:cNvGraphicFramePr/>
          <p:nvPr/>
        </p:nvGraphicFramePr>
        <p:xfrm>
          <a:off x="539640" y="1773360"/>
          <a:ext cx="514044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514044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4"/>
          <p:cNvGraphicFramePr/>
          <p:nvPr/>
        </p:nvGraphicFramePr>
        <p:xfrm>
          <a:off x="5765760" y="1773360"/>
          <a:ext cx="3198960" cy="46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5760" y="1773360"/>
                    <a:ext cx="31989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770-B4CA-4E7F-B999-828E4DB48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06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technical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1197000"/>
            <a:ext cx="8424720" cy="5400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ctor ALC is intended for manufacturing precious metals and valuable alloys, in particu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old and other precious metals out of  initial cheap raw mate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ductivity for gold                                       150-200 kg /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meters of power supply                        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k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30-80kV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I=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0-9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old-tungsten alloys can be produced  using cheap initial reagent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ch alloys can be used for designing and manufacturing apparatus and systems in which the materials used should be of high strength, heat-resistivity and anticorrosive properties in line with high plastic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15920" y="-79200"/>
            <a:ext cx="752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4" name="Объект 4"/>
          <p:cNvGraphicFramePr/>
          <p:nvPr/>
        </p:nvGraphicFramePr>
        <p:xfrm>
          <a:off x="115920" y="-79200"/>
          <a:ext cx="682560" cy="27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-79200"/>
                    <a:ext cx="68256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5226-D887-4FBA-9465-ADEEED4B2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434520" cy="707544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DF6B-0FC5-4C32-AC85-9409D76E7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...................................................... €4,35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: Making of an instal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. €3,00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2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2: Research of modes of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.............................................................. €1,35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1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B72-F546-4EE5-B8E4-BE98356A3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TR Xenon transmutational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2" descr=""/>
          <p:cNvPicPr/>
          <p:nvPr/>
        </p:nvPicPr>
        <p:blipFill>
          <a:blip r:embed="rId2"/>
          <a:stretch/>
        </p:blipFill>
        <p:spPr>
          <a:xfrm>
            <a:off x="468360" y="1565280"/>
            <a:ext cx="8207280" cy="503244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67E-741E-46DE-AFB1-332AC6599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jor technical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ystem is intended for producing xenon from cheap initial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enon is used for the medical purposes and it can be used in nanotechnolog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ivity of the System is  approxim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tons of xenon a year.  Xenon is used for the medical purposes and it can be used in nanotechnolog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130-5D09-4641-BDCB-DB8DBE3E3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8680"/>
            <a:ext cx="8229600" cy="70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9640" y="907560"/>
            <a:ext cx="8229600" cy="5689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tal cost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. €4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7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95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.…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. 3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tage 1: Design of basic units of system. Manufacture o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asic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st.…….…………………………………………………………. €2,400,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.…..……………………………………………………………. 1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tage 2: Assembling of basic equipment.  Testing a pil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ystem at oper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st………….………………………………………………………… €750, 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……….…………………………………………………………….1 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tage 3: Start up of basic system.  Investigation of modes o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st………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 €784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99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rm………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. 0.5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EF7-8C65-405A-82EA-94BD9166E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ing TM-generator for medical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TMG is a source of pure TM-radi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basic implementatiom is treating such illnesses as: oncology, diabetes, AIDS, purulent surgery, all spinal lesion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ultivation of hair and teeth and rejuve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6BB0-5452-4EF1-BA07-A33930A1B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1015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eam generator of specific electromagnetic TM-radiation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47840" y="1643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-936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Объект 4"/>
          <p:cNvGraphicFramePr/>
          <p:nvPr/>
        </p:nvGraphicFramePr>
        <p:xfrm>
          <a:off x="395280" y="1413000"/>
          <a:ext cx="830088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3008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B6D-0CFB-4D6F-9647-241E5BA89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 ……..……………………………………………………€990 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.………………………………………………………….18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1: Creation and start of TM-generator and TM-dos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……….………………………………………………………….€600 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.................................................................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age 2: Research of influence of TM-radiation on biological objects and radioactive isoto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st ……….………………………………………………………….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€39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........................................................................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7203-FE82-4737-B9DF-043AE37A8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uter simulation of “CATfish” unit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rcRect l="915" t="0" r="1834" b="2856"/>
          <a:stretch/>
        </p:blipFill>
        <p:spPr>
          <a:xfrm>
            <a:off x="684360" y="1341360"/>
            <a:ext cx="7632720" cy="489600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2B2-55AA-402C-BD46-1020F66D3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366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ected technical characteristics of “CATfish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980640"/>
            <a:ext cx="8229600" cy="61930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mensions                                                         400 × 937 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ss (without water)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~ 150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put thermal power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100 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put power of activating genera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1 kW 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ating power supp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220 V, 50 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ter consum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300 mg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uration of continuous oper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2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ter temperature                                                380±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uction materials needed to manufacture one un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inless steel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150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rtz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1,65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pp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3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lve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0,45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old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10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236-D9C1-47B2-8E5F-D0AA2B73E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16000"/>
            <a:ext cx="8229600" cy="909360"/>
          </a:xfrm>
          <a:prstGeom prst="rect">
            <a:avLst/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412640"/>
            <a:ext cx="8136000" cy="5040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 cost……………………………………………………€1,59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 of fulfillment………………………………………20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       </a:t>
            </a: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Stage 1: Creation and start up of demonstr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..........................................................€55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..............................................5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Stage 2: Experimentation to achieve optimum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…….…………………………………………………46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..............................................5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Stage 3:Creation of a pilot commercial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………......................................................... €58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…………………............................................. 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BBF1-37DC-4858-AED7-72AB34108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W  “E-SteamCAT” Power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Рисунок2"/>
          <p:cNvPicPr/>
          <p:nvPr/>
        </p:nvPicPr>
        <p:blipFill>
          <a:blip r:embed="rId1"/>
          <a:srcRect l="0" t="5132" r="0" b="0"/>
          <a:stretch/>
        </p:blipFill>
        <p:spPr>
          <a:xfrm>
            <a:off x="755640" y="1268280"/>
            <a:ext cx="7632720" cy="53294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8E4-8897-43AD-8AEC-CC3190E61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476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echnical Parameters of “E-SteamCAT” Power Un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576360"/>
            <a:ext cx="8424720" cy="623736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dimensions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598 × 5000 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ight without w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6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put  thermal power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25 M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ical output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wer of AC activating generator                   62 k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ating power supp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220 V, 50 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ss of water                                                         8.4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ter consumpt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64.8 g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iod of continuous oper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1-2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mperature of steam produced                   380 ±2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am press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16-20 at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uction materials needed to manufacture one un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inless ste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16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artz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108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Coppe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115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ilver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   28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ol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20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8F83-5AE1-4BDD-9C91-876D026EC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0:10:30Z</dcterms:created>
  <dc:creator>Ирина</dc:creator>
  <dc:description/>
  <dc:language>en-US</dc:language>
  <cp:lastModifiedBy>Valued eMachines Customer</cp:lastModifiedBy>
  <dcterms:modified xsi:type="dcterms:W3CDTF">2017-05-04T07:38:37Z</dcterms:modified>
  <cp:revision>209</cp:revision>
  <dc:subject/>
  <dc:title>Слайд 1</dc:title>
</cp:coreProperties>
</file>