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9F31-97B4-40FA-B371-2B49DBF6B3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3 version of the poster can be downloaded from www.iscmns.org/work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8664-EFF5-4016-9A57-BF81D35A87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re has never been better value for mone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25D2-24F3-4A36-BEB0-A01192A54B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s leaves at 18: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7D6E-B6D3-4EFA-AD2B-DF21D16D0A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5 countries repres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538E-8ECA-45F1-A3D8-4216AFBE5B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303B-C4DF-4939-B678-0625C43B55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11B0-C0E6-46A2-9972-80FAB782EE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par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BEDCB-CF95-4070-A94E-B42DEBE6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918E-CAFE-40A2-B8B5-1B5CF99F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545D-EE53-42D2-BCDD-A4868E5E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26FE-8609-43FC-BFF5-CF81D4A0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F016-95DE-4713-9AC6-D19A35DD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5E96-9C80-4AD6-A87C-FB7B91B0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A504-C123-4ACA-9318-A9C7C23F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72FA-B532-415A-A781-43A54CC6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E7B8-3FA0-4226-ADB3-0BE2E40F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F2BA-0B94-4C55-86D5-76051D3A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4062-AE6A-4EDD-86FF-65AB2B23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9B6A-B73C-45E9-9DDA-9040D9CC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D9AA-C476-45EE-89C5-FB258F46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098A-7FD2-49BD-92DC-5C1307F8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7FE8-3AAE-489D-B0B7-F7BAC6F4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A6C4-D31D-4868-A9D8-8D1578A9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0AA1-933B-4798-8142-2EEBBE31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A462-FC29-408F-9296-09A2DEEC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9005-B864-492B-AA5E-25C75B98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FAD3-E54C-41D0-A451-59D93FD0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5FB7-25C2-4DF6-8D51-ADECE802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BDC9-F021-469E-BA4B-BBF70A41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FEBD8-16DF-4F47-AE92-707C61DD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94F1-109C-4C66-B8DE-D92F2844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9F92-5187-404B-A11E-F39A2CD5F09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065E-FD0E-464F-AF8D-1FDCFBF33853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A3B6-9D0F-4F6C-AC98-7F1EBDFB5CF0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6D89-240D-432B-8DF1-C4DF1752600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renitalia.it/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1F6F-2528-4190-9AE8-DFA8AD1EA30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F2BF-1E73-41A2-A992-0A61CB96731D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381636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The 12</a:t>
            </a:r>
            <a:r>
              <a:rPr b="1" lang="en-GB" sz="3600" spc="-1" strike="noStrike" baseline="30000">
                <a:solidFill>
                  <a:srgbClr val="7030a0"/>
                </a:solidFill>
                <a:latin typeface="Arial"/>
              </a:rPr>
              <a:t>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Workshop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Anomalies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Loaded Metals</a:t>
            </a:r>
            <a:r>
              <a:rPr b="0" lang="en-GB" sz="36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June 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2" descr=""/>
          <p:cNvPicPr/>
          <p:nvPr/>
        </p:nvPicPr>
        <p:blipFill>
          <a:blip r:embed="rId1"/>
          <a:stretch/>
        </p:blipFill>
        <p:spPr>
          <a:xfrm>
            <a:off x="4110120" y="189000"/>
            <a:ext cx="496872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D1EB-4587-424E-88CA-229579E16AA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65A8-EF3E-43DA-B9CC-1CB9414A6F70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Arial"/>
              </a:rPr>
              <a:t>Bronze Medal For the Best Poster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Whether or not your paper was selected for oral presentation, all may put up a poster and vote on the best for award of the ISCMNS bronze med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204C-5394-404F-BBAF-939C2724CAF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0216-3C12-4186-93ED-F12D6D5C399A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7030a0"/>
                </a:solidFill>
                <a:latin typeface="Arial"/>
              </a:rPr>
              <a:t>Historical Conference Fe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atania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€   600 / 7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CCF15 Rome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€1,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iena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€   5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Costigliole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2017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€   500 / 6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Meals and accommodation inclu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r aim is to provide good science, good food and wine and good val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80D0-A945-4507-A430-4F96AD32902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92B8-692A-4B84-B9F5-8A671D1BB708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7030a0"/>
                </a:solidFill>
                <a:latin typeface="Arial"/>
              </a:rPr>
              <a:t>Me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ll conference fee includes breakfast, buffet lunch and d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ffet lunches are served in the ho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sses will take us to dinner a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18:45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lots of foo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nquet on Thurs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ed non-residents may have lunch and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ease inform reception of any special dietary requirements.  </a:t>
            </a:r>
            <a:r>
              <a:rPr b="1" lang="en-GB" sz="2400" spc="-1" strike="noStrike">
                <a:solidFill>
                  <a:srgbClr val="00b050"/>
                </a:solidFill>
                <a:latin typeface="XalTerion"/>
              </a:rPr>
              <a:t>Green  text  on  menu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GB" sz="2400" spc="-1" strike="noStrike">
                <a:solidFill>
                  <a:srgbClr val="00b050"/>
                </a:solidFill>
                <a:latin typeface="XalTerion"/>
              </a:rPr>
              <a:t>veget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a1102"/>
                </a:solidFill>
                <a:latin typeface="Arial"/>
              </a:rPr>
              <a:t>Be punctual!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Lunch is at 13:00.  Dinner at 19: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7030a0"/>
                </a:solidFill>
                <a:latin typeface="Arial"/>
              </a:rPr>
              <a:t>Dinners – bus leaves at 18: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day:         Buffet reception in Oasi B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esday:        Fons Salutis, Agliano Te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dnesday:   (12 plates) Costa dei Tig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stigliole d’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ursday:       Banquet, Il Duca Bianc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lo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Don’t eat too much at lun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D2B8-42C6-4EF2-87CD-C95CA183705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B8D8-A9DB-44E9-A72F-AC8023BE43C4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GB" sz="4800" spc="-1" strike="noStrike">
                <a:solidFill>
                  <a:srgbClr val="7030a0"/>
                </a:solidFill>
                <a:latin typeface="Arial"/>
              </a:rPr>
              <a:t>The Banqu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Content Placeholder 6" descr=""/>
          <p:cNvPicPr/>
          <p:nvPr/>
        </p:nvPicPr>
        <p:blipFill>
          <a:blip r:embed="rId1"/>
          <a:stretch/>
        </p:blipFill>
        <p:spPr>
          <a:xfrm>
            <a:off x="0" y="835200"/>
            <a:ext cx="4603680" cy="5535360"/>
          </a:xfrm>
          <a:prstGeom prst="rect">
            <a:avLst/>
          </a:prstGeom>
          <a:ln w="0">
            <a:noFill/>
          </a:ln>
        </p:spPr>
      </p:pic>
      <p:sp>
        <p:nvSpPr>
          <p:cNvPr id="1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468D-93AB-45D2-9FFF-FCCC42C1164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A7C1-5E67-4194-99AC-7839752CEBD5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788000" y="1268280"/>
            <a:ext cx="403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 the summer residence of Her Serene Highness, the Countess of Castigli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ursday, 8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ne at 19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7030a0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We only have one bus capable of taking 51 passe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 we will need to use private cars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f you have a car please let me know.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B012-6FE0-4FB5-84B1-5E2DC6BD9B9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7FCC-E6CB-433B-8D10-878EA510C239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7030a0"/>
                </a:solidFill>
                <a:latin typeface="Arial"/>
              </a:rPr>
              <a:t>Lunch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uffet lunches are served at 13:00 in the Oasi Blu restaurant where we had the reception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8151-6FFB-417B-87FA-685D58DE03D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A3B6-ECB9-45B7-8401-3CCE6219457F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7030a0"/>
                </a:solidFill>
                <a:latin typeface="Arial"/>
              </a:rPr>
              <a:t>Things for accompanying persons to 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44004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ake a 10 minute walk into the vi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44004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isit the Castle and its cooke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44004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isit the wine cellars (Cantina Soci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44004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ake a swim in the pool (free for all participants – ask at reception each 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44004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Join in the coffee brea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44004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19BF-1BBD-47C1-9D75-33C29FB65CD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108F-F574-4B78-B9BE-FAE1FCA7BDF0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7030a0"/>
                </a:solidFill>
                <a:latin typeface="Arial"/>
              </a:rPr>
              <a:t>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ree WiFi in hotel without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lease don’t hog all the bandwidth at peak times (like breakf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WiFi will not be available during webcast on 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8E7F-EEB5-479C-B2E9-F4305F71F1D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14BD-1608-4400-A171-BA235560797E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7030a0"/>
                </a:solidFill>
                <a:latin typeface="Arial"/>
              </a:rPr>
              <a:t>Costigliole Castle </a:t>
            </a:r>
            <a:br>
              <a:rPr sz="36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sidence of the Countess of Castiglione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ontent Placeholder 6" descr=""/>
          <p:cNvPicPr/>
          <p:nvPr/>
        </p:nvPicPr>
        <p:blipFill>
          <a:blip r:embed="rId1"/>
          <a:stretch/>
        </p:blipFill>
        <p:spPr>
          <a:xfrm>
            <a:off x="1130400" y="1773360"/>
            <a:ext cx="7545240" cy="471636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32D3-0977-4667-B592-14DABCF196C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9828-A11E-4F97-BEDD-B0C5F6B252D1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3617-EB72-4279-9CC3-813B24DF8A6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CF86-E91D-40D3-891E-BDEE4DFE99DA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7030a0"/>
                </a:solidFill>
                <a:latin typeface="Arial"/>
              </a:rPr>
              <a:t>24 Years of Worksho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40044"/>
                </a:solidFill>
                <a:latin typeface="Arial"/>
              </a:rPr>
              <a:t>Nov 1993</a:t>
            </a:r>
            <a:r>
              <a:rPr b="0" lang="it-IT" sz="2800" spc="-1" strike="noStrike">
                <a:solidFill>
                  <a:srgbClr val="44004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440044"/>
                </a:solidFill>
                <a:latin typeface="Arial"/>
              </a:rPr>
              <a:t>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40044"/>
                </a:solidFill>
                <a:latin typeface="Arial"/>
              </a:rPr>
              <a:t>Nov 1995     </a:t>
            </a:r>
            <a:r>
              <a:rPr b="0" lang="it-IT" sz="2800" spc="-1" strike="noStrike">
                <a:solidFill>
                  <a:srgbClr val="440044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440044"/>
                </a:solidFill>
                <a:latin typeface="Arial"/>
              </a:rPr>
              <a:t>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v 1997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ct  1999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r  2004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y 2005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p 2006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p 2007      Cat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p 2010      Si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pril 2012     Si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ct 2015     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Jun 2017      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72D6-9777-4BDD-90A7-034F715A60B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B2BE-D79D-41F1-809A-271E19E6E1A9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7030a0"/>
                </a:solidFill>
                <a:latin typeface="Arial"/>
              </a:rPr>
              <a:t>Workshop Pub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a1102"/>
                </a:solidFill>
                <a:latin typeface="Arial"/>
              </a:rPr>
              <a:t>All material submitted to this workshop may be published online after 1</a:t>
            </a:r>
            <a:r>
              <a:rPr b="1" lang="en-GB" sz="3200" spc="-1" strike="noStrike" baseline="30000">
                <a:solidFill>
                  <a:srgbClr val="da1102"/>
                </a:solidFill>
                <a:latin typeface="Arial"/>
              </a:rPr>
              <a:t>st</a:t>
            </a:r>
            <a:r>
              <a:rPr b="1" lang="en-GB" sz="3200" spc="-1" strike="noStrike">
                <a:solidFill>
                  <a:srgbClr val="da1102"/>
                </a:solidFill>
                <a:latin typeface="Arial"/>
              </a:rPr>
              <a:t>  August 2017 unless withdra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ribute your digital photos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blication will probably be only electronic (DVD, www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ubmit to JCM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7030a0"/>
                </a:solidFill>
                <a:latin typeface="Arial"/>
              </a:rPr>
              <a:t>Other Pub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Content Placeholder 6" descr=""/>
          <p:cNvPicPr/>
          <p:nvPr/>
        </p:nvPicPr>
        <p:blipFill>
          <a:blip r:embed="rId1"/>
          <a:stretch/>
        </p:blipFill>
        <p:spPr>
          <a:xfrm>
            <a:off x="150840" y="1557360"/>
            <a:ext cx="1828800" cy="2173320"/>
          </a:xfrm>
          <a:prstGeom prst="rect">
            <a:avLst/>
          </a:prstGeom>
          <a:ln w="0">
            <a:noFill/>
          </a:ln>
        </p:spPr>
      </p:pic>
      <p:sp>
        <p:nvSpPr>
          <p:cNvPr id="2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E1B0-AB7A-49AE-B223-CACBEFEC57B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F919-468A-49B1-B6CE-724D7710052A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2268360" y="1560600"/>
            <a:ext cx="1440000" cy="2151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3"/>
          <a:stretch/>
        </p:blipFill>
        <p:spPr>
          <a:xfrm>
            <a:off x="4067280" y="1593720"/>
            <a:ext cx="1493640" cy="2151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4"/>
          <a:stretch/>
        </p:blipFill>
        <p:spPr>
          <a:xfrm>
            <a:off x="6372360" y="1546200"/>
            <a:ext cx="16300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96D6-468D-4A0D-86D1-E9F25CF2E30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D101-C0B2-411E-82C9-2B42BDAE8180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90571"/>
                </a:solidFill>
                <a:latin typeface="Arial"/>
              </a:rPr>
              <a:t>USB Memory 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entire ISCMNS web-site including Workshop can be distributed on USB Memory key on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Bring your own USB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lease ensure that your presentation (if any) corresponds to the name shown in the Workshop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bmit by lunch Wedn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5FBF-368A-4AFA-8063-828C203608E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76E8-9C09-4920-A2DB-B76695E6A0DB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7030a0"/>
                </a:solidFill>
                <a:latin typeface="Arial"/>
              </a:rPr>
              <a:t>Fina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ccounts for this workshop will be published on the ISCMNS web-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No financial sponsorship but we broke ev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ome participants were subsidiz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SCMNS statutory accounts for 2016 will be published and placed on the public record (in England) as well as the web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553E-7627-4A21-AAF7-6401C9FC565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4588-1787-4ED6-A703-8BAE3A21061E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90571"/>
                </a:solidFill>
                <a:latin typeface="Arial"/>
              </a:rPr>
              <a:t>Getting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k at the conference re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k any “old tim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d the Notic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kshop program updated frequently but on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7030a0"/>
                </a:solidFill>
                <a:latin typeface="Arial"/>
              </a:rPr>
              <a:t>Getting back home after the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By train: You can look up the train time table at </a:t>
            </a:r>
            <a:r>
              <a:rPr b="0" lang="it-IT" sz="3000" spc="-1" strike="noStrike" u="sng">
                <a:solidFill>
                  <a:srgbClr val="993366"/>
                </a:solidFill>
                <a:uFillTx/>
                <a:latin typeface="Arial"/>
                <a:hlinkClick r:id="rId1"/>
              </a:rPr>
              <a:t>www.trenitalia.it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Maybe ask for a lift to Asti railway st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By plane: If enough people (6-10) are interested we can arrange a private mini-bus from the Hotel to Malpensa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Failing that, the standard journey starts in Asti at 10:3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eave details of your requirements with 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D944-5722-4EBC-9FA8-E6319617D34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802F-A73B-4966-8BE6-34E9128A2CA6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D055-AE8F-43B1-99CE-19ED10CDFB1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A496-D5C6-4EB7-9D9F-588035F14821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Arial"/>
              </a:rPr>
              <a:t>Feedback on Workshop 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y comments, suggestions, compl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eak up privately (or publicly at the closing discussion on  Frida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 leave an anonymous message at rece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B876-2BB1-4CF5-B7B0-2707CA63A3C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e Placeholder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9C31-9AB0-4053-96DC-106429D68853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12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7030a0"/>
                </a:solidFill>
                <a:latin typeface="Arial"/>
              </a:rPr>
              <a:t>Sponsors – Thank you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9" descr=""/>
          <p:cNvPicPr/>
          <p:nvPr/>
        </p:nvPicPr>
        <p:blipFill>
          <a:blip r:embed="rId1"/>
          <a:stretch/>
        </p:blipFill>
        <p:spPr>
          <a:xfrm>
            <a:off x="3227400" y="2398680"/>
            <a:ext cx="2505240" cy="1417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logo-iscmns"/>
          <p:cNvPicPr/>
          <p:nvPr/>
        </p:nvPicPr>
        <p:blipFill>
          <a:blip r:embed="rId2"/>
          <a:stretch/>
        </p:blipFill>
        <p:spPr>
          <a:xfrm>
            <a:off x="736560" y="1484280"/>
            <a:ext cx="2178000" cy="1944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1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1" descr="JCFRS"/>
          <p:cNvPicPr/>
          <p:nvPr/>
        </p:nvPicPr>
        <p:blipFill>
          <a:blip r:embed="rId3"/>
          <a:stretch/>
        </p:blipFill>
        <p:spPr>
          <a:xfrm>
            <a:off x="3564000" y="476100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259" name="Content Placeholder 1" descr=""/>
          <p:cNvPicPr/>
          <p:nvPr/>
        </p:nvPicPr>
        <p:blipFill>
          <a:blip r:embed="rId4"/>
          <a:stretch/>
        </p:blipFill>
        <p:spPr>
          <a:xfrm>
            <a:off x="5451480" y="1162080"/>
            <a:ext cx="3424320" cy="93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5"/>
          <a:stretch/>
        </p:blipFill>
        <p:spPr>
          <a:xfrm>
            <a:off x="173160" y="4076640"/>
            <a:ext cx="4016160" cy="1297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6"/>
          <a:stretch/>
        </p:blipFill>
        <p:spPr>
          <a:xfrm>
            <a:off x="5362560" y="3781440"/>
            <a:ext cx="3602160" cy="979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" descr=""/>
          <p:cNvPicPr/>
          <p:nvPr/>
        </p:nvPicPr>
        <p:blipFill>
          <a:blip r:embed="rId7"/>
          <a:stretch/>
        </p:blipFill>
        <p:spPr>
          <a:xfrm>
            <a:off x="6732720" y="2181240"/>
            <a:ext cx="12650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Arial"/>
              </a:rPr>
              <a:t>Thanks to organiz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h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rb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vi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17BC-1A63-44A9-A07A-AAE8C0C0F16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ate Placeholder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FDC2-6315-41B5-9328-F48461E94AF4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Content Placeholder 8" descr=""/>
          <p:cNvPicPr/>
          <p:nvPr/>
        </p:nvPicPr>
        <p:blipFill>
          <a:blip r:embed="rId1"/>
          <a:stretch/>
        </p:blipFill>
        <p:spPr>
          <a:xfrm>
            <a:off x="-28440" y="1197000"/>
            <a:ext cx="9242280" cy="5192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 rot="10800000">
            <a:off x="8686800" y="3933720"/>
            <a:ext cx="61920" cy="66960"/>
          </a:xfrm>
          <a:prstGeom prst="rect">
            <a:avLst/>
          </a:prstGeom>
          <a:noFill/>
          <a:ln w="0">
            <a:noFill/>
          </a:ln>
        </p:spPr>
        <p:txBody>
          <a:bodyPr tIns="21240" bIns="21240" anchor="t">
            <a:normAutofit/>
          </a:bodyPr>
          <a:p>
            <a:pPr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D12C-1866-4572-9D63-0A9D94CCFC2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ate Placeholder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5255-D56F-4DA8-A4CD-35FD8F519774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7030a0"/>
                </a:solidFill>
                <a:latin typeface="Arial"/>
              </a:rPr>
              <a:t>Statistics 20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70+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° biggest Workshop 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39 Abstracts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148428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articipants from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S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lovenij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zech R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4BEE-856A-4D5C-9680-8E145B98028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9443-1641-4BE3-B2F0-0C3927450AE3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116208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38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Italy no smoking is permitted inside any building (restaurants, shops, hotel, b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You may smoke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Content Placeholder 8" descr=""/>
          <p:cNvPicPr/>
          <p:nvPr/>
        </p:nvPicPr>
        <p:blipFill>
          <a:blip r:embed="rId1"/>
          <a:stretch/>
        </p:blipFill>
        <p:spPr>
          <a:xfrm>
            <a:off x="5148360" y="768240"/>
            <a:ext cx="3744720" cy="5289840"/>
          </a:xfrm>
          <a:prstGeom prst="rect">
            <a:avLst/>
          </a:prstGeom>
          <a:ln w="0">
            <a:noFill/>
          </a:ln>
        </p:spPr>
      </p:pic>
      <p:sp>
        <p:nvSpPr>
          <p:cNvPr id="2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7126-38D6-4A8A-9CE7-E15328254FF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ate Placeholder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49BC-ECA5-4608-A2C3-05EEDA49F55F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7960" y="5660640"/>
            <a:ext cx="284040" cy="2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5E9E-B269-4B69-BB47-03C552332C8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D26D-BCE9-4B2E-A31D-C68BA5531FCB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Welcome!   What’s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stigliole d’Asti – new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 patrons from 5 n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bcast to India on 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deo of prese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kshop presentations on USB ke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ree WiFi Internet acces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ask at reception for passwor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7030a0"/>
                </a:solidFill>
                <a:latin typeface="Arial"/>
              </a:rPr>
              <a:t>Reco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e only recordings permitted will be those by the official camera woman An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f you don’t want presentation to be recorded, inform her and my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e videos will eventually be edited and published on the w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llow http://www.iscmns.org/work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9682-557B-47A3-8DF4-86F47412485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EB15-E8D2-4D60-8EC5-741967E94836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A55B-2727-4DFB-A79E-349B520573C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DA0B-3E5C-44AE-BA24-794D04628E2F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7030a0"/>
                </a:solidFill>
                <a:latin typeface="Arial"/>
              </a:rPr>
              <a:t>What’s special about Workshop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conomical, thanks to economies of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kage” solution with everyone staying in a self contained conference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dispersal of participants for meals or accommo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ter “net-work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l &amp; rela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06EA-48DE-448B-B139-5FB6D4C70A1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2ED7-7D92-41E0-B66F-BB4964DD8188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7030a0"/>
                </a:solidFill>
                <a:latin typeface="Arial"/>
              </a:rPr>
              <a:t>Theory Panel Discussion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oderator: David Na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ursday 8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J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7030a0"/>
                </a:solidFill>
                <a:latin typeface="Arial"/>
              </a:rPr>
              <a:t>A bronze medal will be awarded for the best pos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Your workshop bag contains voting instru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85A2-9220-4983-AA96-457D7740D21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221B-A073-4AB5-87DE-4C6829316FA8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l Collis: Organizer's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A34B-DC2E-4D86-B716-0C24B9D1423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2A34-FAA2-4274-9A1B-5AAE533225DE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90571"/>
                </a:solidFill>
                <a:latin typeface="Arial"/>
              </a:rPr>
              <a:t>GP Medal will be awarded at Banqu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DSC00685"/>
          <p:cNvPicPr/>
          <p:nvPr/>
        </p:nvPicPr>
        <p:blipFill>
          <a:blip r:embed="rId1"/>
          <a:stretch/>
        </p:blipFill>
        <p:spPr>
          <a:xfrm>
            <a:off x="2916360" y="1484280"/>
            <a:ext cx="38653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-xp</cp:lastModifiedBy>
  <dcterms:modified xsi:type="dcterms:W3CDTF">2017-06-06T06:09:49Z</dcterms:modified>
  <cp:revision>94</cp:revision>
  <dc:subject/>
  <dc:title>PowerPoint Presentation</dc:title>
</cp:coreProperties>
</file>