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444-516D-4AEB-98EA-5D0831BD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7B6-FFA9-4BAF-AE6E-40460355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EDEA-C3E1-4329-82C1-951DAEC9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E52-2798-4FBC-95D5-E76AFCA9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38B3-9BBC-4003-AC0B-A06027C1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AFBF-9F49-40D3-AC3A-78A9C8EB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BB8C-14A6-43A1-A2D9-608A6FBD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6E72-82E0-46E0-9259-72861DFB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312F-7536-459E-BA70-156776B9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5F18-055B-48EF-9B01-ABA20457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57E9-588B-4DAB-8FD8-1874BC95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413-689E-4045-90D5-A2BBB48F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1887-3E1B-4A72-A8FC-804215FC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C729-6D02-4577-833E-A35F4B52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3B3B-657F-40C1-806B-C18265BD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3522-802A-45B4-BE2E-BE0A9486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1F17-CE5F-45F3-8FB1-CE51466B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165-F18B-4BEB-9239-A6B5BE37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058-B687-42AB-A205-6A448359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3F9E-88BB-4BC6-A88D-A9DB5690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296-381D-4FA2-B67D-72FCA827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CAB-9B5A-4E7B-B8FF-B3D35A5D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6D1-4FAB-4023-A327-97BBF9E2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484-5814-485F-96AE-FD579843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991F-9D9B-4EAF-BA17-9F581C215847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Ap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885D-59A7-449D-91DB-CBF4412910B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9046-D448-4105-9FB1-FB5EB052DA0B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Ap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ACC5-744D-452F-8AE5-567A13707BF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mns.org/work12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C461-677F-4EBC-B3DD-CB9039D08577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Ap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8EA1-0ED3-4D24-872D-571D6BFE46D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2th International Workshop on Anomalies in Hydrogen Loaded 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losing Re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illiam Col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Depar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lease ensure your room is vacated by 12:00 if are leav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nsure that all debts are settl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DB96-18C4-4150-9454-2ABDB7AD5A48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Ap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F701-C175-4B9C-A4C5-5A3DDEAB0F6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unch today is NOT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ut tell me if you want to go out to a restaur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A02A-E19D-412F-A827-913D36CFB68C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Ap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FD45-0463-44C3-B043-DCA72138842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Present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ll presentations will be published on </a:t>
            </a:r>
            <a:r>
              <a:rPr b="0" lang="it-IT" sz="40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www.iscmns.org/work12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this weeken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et me know if you want to withdraw any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C57F-4251-4605-B70A-0EAB6B7EC074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Ap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518B-FAA6-463F-8CCB-3C12D705115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Future Meetin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4th Russian Conference on Cold Nuclear Transmutation and Ball-Lightning (RCCNT&amp;BL-24) on September 17–24, 2017 in S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SCMNS will hold their second meeting (RNBE) in France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CCF-21 USA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it-IT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Workshop in 2018 or 2019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93BA-0B1B-415C-AB22-D527E143E161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Ap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B9E1-BB03-487B-9730-0E5BC60891E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341360"/>
            <a:ext cx="79250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big thank you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thi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rb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d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o our pa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RA, AIRBUS, ISCMNS, LENRIA, JCFRS, FSCMNS, NICH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1AC1-7AFD-4EC8-96B7-B593069B5592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Ap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9293-035B-4B07-88DE-7B0ACDB2EA6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ank you for com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ve a good journ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sk if you need a lift to Asti this aftern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6748-2C24-45F2-85F8-F0C22CE5167C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Ap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9124-E06D-4772-ABF0-E749274C46E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-xp</cp:lastModifiedBy>
  <dcterms:modified xsi:type="dcterms:W3CDTF">2017-06-09T09:27:48Z</dcterms:modified>
  <cp:revision>26</cp:revision>
  <dc:subject/>
  <dc:title>PowerPoint Presentation</dc:title>
</cp:coreProperties>
</file>