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17.jpeg" ContentType="image/jpeg"/>
  <Override PartName="/ppt/media/image3.png" ContentType="image/pn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11.wmf" ContentType="image/x-wmf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9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2850-F8DD-4F56-8F0F-172838840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A3D1-34F5-446E-BEA7-7A00723A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EB9D-C69B-4890-9FE1-C244C7B69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E385-B7AA-495C-9F70-789E6D2AD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A16B-EF06-4055-AE40-567231ED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B0F7-D3BD-4CF9-A50B-BE5FC9E9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912D-EA4C-4F17-8C6C-1101A153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032D-C6AE-4484-8FE5-89F89D50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16E3-D237-45D8-8915-85FFF981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7B04-1CCE-49A4-97B5-A3AB3BE8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8B82-ACB9-47E0-9A4D-ED1B435F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80B6-1DFE-4410-95ED-EDDAC52D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B406-283D-4D4A-950B-7E3F72F0E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1040" y="233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99cc00"/>
                </a:solidFill>
                <a:latin typeface="Plump MT"/>
                <a:ea typeface="Times New Roman"/>
              </a:rPr>
              <a:t>Hydrogen loading of Nickel and related phenomen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53680" y="3454560"/>
            <a:ext cx="6102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S. Focar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Department of Physics - University of Bologna - Italy</a:t>
            </a:r>
            <a:r>
              <a:rPr b="0" lang="it-IT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V. Montalbano, </a:t>
            </a:r>
            <a:r>
              <a:rPr b="1" i="1" lang="it-IT" sz="18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F. Piante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entro I.M.O. -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Department of Physics - University of Siena - It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S. Veron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Istituto Nazionale Fisica della Materia – UdR Siena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- It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entro I.M.O. -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Department of Physics - University of Siena - It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3520" y="152280"/>
            <a:ext cx="8388360" cy="1282680"/>
          </a:xfrm>
          <a:prstGeom prst="rect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Tahoma"/>
              </a:rPr>
              <a:t>th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 International Workshop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Anomalies in Hydrogen / Deuterium loaded Metal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Tahoma"/>
              </a:rPr>
              <a:t>ISC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Tahoma"/>
              </a:rPr>
              <a:t>Siena, Certosa di Pontign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97280" y="6521400"/>
            <a:ext cx="17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14/5/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39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cc00"/>
                </a:solidFill>
                <a:latin typeface="Plump MT"/>
                <a:ea typeface="Times New Roman"/>
              </a:rPr>
              <a:t>experimental se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19400" y="17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59320" y="1295280"/>
            <a:ext cx="527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chematic lay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3840" y="1625760"/>
            <a:ext cx="6870600" cy="2525400"/>
          </a:xfrm>
          <a:custGeom>
            <a:avLst/>
            <a:gdLst/>
            <a:ahLst/>
            <a:rect l="l" t="t" r="r" b="b"/>
            <a:pathLst>
              <a:path w="4808" h="1768">
                <a:moveTo>
                  <a:pt x="4416" y="1072"/>
                </a:moveTo>
                <a:cubicBezTo>
                  <a:pt x="4612" y="760"/>
                  <a:pt x="4808" y="448"/>
                  <a:pt x="4176" y="304"/>
                </a:cubicBezTo>
                <a:cubicBezTo>
                  <a:pt x="3544" y="160"/>
                  <a:pt x="1248" y="0"/>
                  <a:pt x="624" y="208"/>
                </a:cubicBezTo>
                <a:cubicBezTo>
                  <a:pt x="0" y="416"/>
                  <a:pt x="464" y="1336"/>
                  <a:pt x="432" y="1552"/>
                </a:cubicBezTo>
                <a:cubicBezTo>
                  <a:pt x="400" y="1768"/>
                  <a:pt x="416" y="1636"/>
                  <a:pt x="432" y="15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292400" y="1927080"/>
            <a:ext cx="6172200" cy="3649680"/>
            <a:chOff x="1292400" y="1927080"/>
            <a:chExt cx="6172200" cy="3649680"/>
          </a:xfrm>
        </p:grpSpPr>
        <p:sp>
          <p:nvSpPr>
            <p:cNvPr id="83" name=""/>
            <p:cNvSpPr/>
            <p:nvPr/>
          </p:nvSpPr>
          <p:spPr>
            <a:xfrm>
              <a:off x="3808800" y="4255920"/>
              <a:ext cx="257040" cy="171360"/>
            </a:xfrm>
            <a:prstGeom prst="flowChartSummingJunction">
              <a:avLst/>
            </a:prstGeom>
            <a:solidFill>
              <a:srgbClr val="ffffff"/>
            </a:solid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0800000">
              <a:off x="4785120" y="5274720"/>
              <a:ext cx="961920" cy="16020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4378320" y="4766760"/>
              <a:ext cx="822600" cy="13644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25760" y="3108240"/>
              <a:ext cx="2538720" cy="24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070520" y="3794040"/>
              <a:ext cx="806400" cy="274680"/>
            </a:xfrm>
            <a:prstGeom prst="rect">
              <a:avLst/>
            </a:prstGeom>
            <a:noFill/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876920" y="3879720"/>
              <a:ext cx="187560" cy="13644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97360" y="3862080"/>
              <a:ext cx="173160" cy="13824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229440" y="3879720"/>
              <a:ext cx="824040" cy="13644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5064480" y="3333600"/>
              <a:ext cx="274680" cy="735120"/>
              <a:chOff x="5064480" y="3333600"/>
              <a:chExt cx="274680" cy="735120"/>
            </a:xfrm>
          </p:grpSpPr>
          <p:sp>
            <p:nvSpPr>
              <p:cNvPr id="92" name=""/>
              <p:cNvSpPr/>
              <p:nvPr/>
            </p:nvSpPr>
            <p:spPr>
              <a:xfrm>
                <a:off x="5064480" y="3823560"/>
                <a:ext cx="274680" cy="245160"/>
              </a:xfrm>
              <a:prstGeom prst="plus">
                <a:avLst>
                  <a:gd name="adj" fmla="val 25000"/>
                </a:avLst>
              </a:prstGeom>
              <a:noFill/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132880" y="3333600"/>
                <a:ext cx="137520" cy="489960"/>
              </a:xfrm>
              <a:custGeom>
                <a:avLst/>
                <a:gdLst>
                  <a:gd name="textAreaLeft" fmla="*/ 6480 w 137520"/>
                  <a:gd name="textAreaRight" fmla="*/ 131040 w 137520"/>
                  <a:gd name="textAreaTop" fmla="*/ 6480 h 489960"/>
                  <a:gd name="textAreaBottom" fmla="*/ 483480 h 489960"/>
                </a:gdLst>
                <a:ahLst/>
                <a:rect l="textAreaLeft" t="textAreaTop" r="textAreaRight" b="textAreaBottom"/>
                <a:pathLst>
                  <a:path w="21600" h="76813">
                    <a:moveTo>
                      <a:pt x="3600" y="0"/>
                    </a:moveTo>
                    <a:arcTo wR="3600" hR="3600" stAng="16200000" swAng="-5400000"/>
                    <a:lnTo>
                      <a:pt x="0" y="73213"/>
                    </a:lnTo>
                    <a:arcTo wR="3600" hR="3600" stAng="10800000" swAng="-5400000"/>
                    <a:lnTo>
                      <a:pt x="18000" y="7681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5818320" y="3333600"/>
              <a:ext cx="274680" cy="749160"/>
              <a:chOff x="5818320" y="3333600"/>
              <a:chExt cx="274680" cy="749160"/>
            </a:xfrm>
          </p:grpSpPr>
          <p:sp>
            <p:nvSpPr>
              <p:cNvPr id="95" name=""/>
              <p:cNvSpPr/>
              <p:nvPr/>
            </p:nvSpPr>
            <p:spPr>
              <a:xfrm>
                <a:off x="5818320" y="3832920"/>
                <a:ext cx="274680" cy="249840"/>
              </a:xfrm>
              <a:prstGeom prst="plus">
                <a:avLst>
                  <a:gd name="adj" fmla="val 25000"/>
                </a:avLst>
              </a:prstGeom>
              <a:noFill/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886720" y="3333600"/>
                <a:ext cx="137520" cy="499320"/>
              </a:xfrm>
              <a:custGeom>
                <a:avLst/>
                <a:gdLst>
                  <a:gd name="textAreaLeft" fmla="*/ 6480 w 137520"/>
                  <a:gd name="textAreaRight" fmla="*/ 131040 w 137520"/>
                  <a:gd name="textAreaTop" fmla="*/ 6480 h 499320"/>
                  <a:gd name="textAreaBottom" fmla="*/ 492840 h 499320"/>
                </a:gdLst>
                <a:ahLst/>
                <a:rect l="textAreaLeft" t="textAreaTop" r="textAreaRight" b="textAreaBottom"/>
                <a:pathLst>
                  <a:path w="21600" h="78279">
                    <a:moveTo>
                      <a:pt x="3600" y="0"/>
                    </a:moveTo>
                    <a:arcTo wR="3600" hR="3600" stAng="16200000" swAng="-5400000"/>
                    <a:lnTo>
                      <a:pt x="0" y="74679"/>
                    </a:lnTo>
                    <a:arcTo wR="3600" hR="3600" stAng="10800000" swAng="-5400000"/>
                    <a:lnTo>
                      <a:pt x="18000" y="7827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 flipH="1">
              <a:off x="5205600" y="2868480"/>
              <a:ext cx="201600" cy="568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31200" y="2854080"/>
              <a:ext cx="137880" cy="479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04000" y="2647800"/>
              <a:ext cx="267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14133"/>
                  </a:solidFill>
                  <a:latin typeface="Verdana"/>
                </a:rPr>
                <a:t>PRESSURE SENSO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677040" y="3796920"/>
              <a:ext cx="1276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14133"/>
                  </a:solidFill>
                  <a:latin typeface="Verdana"/>
                </a:rPr>
                <a:t>EXP. CEL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86360" y="3319200"/>
              <a:ext cx="749520" cy="405000"/>
            </a:xfrm>
            <a:prstGeom prst="roundRect">
              <a:avLst>
                <a:gd name="adj" fmla="val 16667"/>
              </a:avLst>
            </a:prstGeom>
            <a:solidFill>
              <a:srgbClr val="c0c0c0">
                <a:alpha val="50000"/>
              </a:srgbClr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61160" y="3336840"/>
              <a:ext cx="8586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14133"/>
                  </a:solidFill>
                  <a:latin typeface="Verdana"/>
                </a:rPr>
                <a:t>NaI(Tl)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14133"/>
                  </a:solidFill>
                  <a:latin typeface="Verdana"/>
                </a:rPr>
                <a:t>detec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86240" y="3930480"/>
              <a:ext cx="411120" cy="0"/>
            </a:xfrm>
            <a:prstGeom prst="line">
              <a:avLst/>
            </a:prstGeom>
            <a:ln w="7632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2800440" y="3244320"/>
              <a:ext cx="0" cy="68580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00440" y="3930480"/>
              <a:ext cx="703440" cy="0"/>
            </a:xfrm>
            <a:prstGeom prst="line">
              <a:avLst/>
            </a:prstGeom>
            <a:ln w="7632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024960" y="3862080"/>
              <a:ext cx="255240" cy="171360"/>
            </a:xfrm>
            <a:prstGeom prst="flowChartSummingJunction">
              <a:avLst/>
            </a:prstGeom>
            <a:solidFill>
              <a:srgbClr val="ffffff"/>
            </a:solid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6200000">
              <a:off x="5544720" y="4410720"/>
              <a:ext cx="822240" cy="13824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50280" y="4890960"/>
              <a:ext cx="892080" cy="6858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818320" y="4686120"/>
              <a:ext cx="255600" cy="171360"/>
            </a:xfrm>
            <a:prstGeom prst="flowChartSummingJunction">
              <a:avLst/>
            </a:prstGeom>
            <a:solidFill>
              <a:srgbClr val="ffffff"/>
            </a:solid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681880" y="5014800"/>
              <a:ext cx="10461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14133"/>
                  </a:solidFill>
                  <a:latin typeface="Verdana"/>
                </a:rPr>
                <a:t>Vacuum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14133"/>
                  </a:solidFill>
                  <a:latin typeface="Verdana"/>
                </a:rPr>
                <a:t>turbo-pum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7053480" y="3319200"/>
              <a:ext cx="274680" cy="749160"/>
              <a:chOff x="7053480" y="3319200"/>
              <a:chExt cx="274680" cy="749160"/>
            </a:xfrm>
          </p:grpSpPr>
          <p:sp>
            <p:nvSpPr>
              <p:cNvPr id="112" name=""/>
              <p:cNvSpPr/>
              <p:nvPr/>
            </p:nvSpPr>
            <p:spPr>
              <a:xfrm>
                <a:off x="7053480" y="3818520"/>
                <a:ext cx="274680" cy="249840"/>
              </a:xfrm>
              <a:prstGeom prst="plus">
                <a:avLst>
                  <a:gd name="adj" fmla="val 25000"/>
                </a:avLst>
              </a:prstGeom>
              <a:noFill/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121880" y="3319200"/>
                <a:ext cx="137520" cy="499320"/>
              </a:xfrm>
              <a:custGeom>
                <a:avLst/>
                <a:gdLst>
                  <a:gd name="textAreaLeft" fmla="*/ 6480 w 137520"/>
                  <a:gd name="textAreaRight" fmla="*/ 131040 w 137520"/>
                  <a:gd name="textAreaTop" fmla="*/ 6480 h 499320"/>
                  <a:gd name="textAreaBottom" fmla="*/ 492840 h 499320"/>
                </a:gdLst>
                <a:ahLst/>
                <a:rect l="textAreaLeft" t="textAreaTop" r="textAreaRight" b="textAreaBottom"/>
                <a:pathLst>
                  <a:path w="21600" h="78279">
                    <a:moveTo>
                      <a:pt x="3600" y="0"/>
                    </a:moveTo>
                    <a:arcTo wR="3600" hR="3600" stAng="16200000" swAng="-5400000"/>
                    <a:lnTo>
                      <a:pt x="0" y="74679"/>
                    </a:lnTo>
                    <a:arcTo wR="3600" hR="3600" stAng="10800000" swAng="-5400000"/>
                    <a:lnTo>
                      <a:pt x="18000" y="7827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 rot="16200000">
              <a:off x="6778800" y="4411440"/>
              <a:ext cx="822240" cy="13644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42640" y="2878560"/>
              <a:ext cx="507240" cy="430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71120" y="4665600"/>
              <a:ext cx="257040" cy="171360"/>
            </a:xfrm>
            <a:prstGeom prst="flowChartSummingJunction">
              <a:avLst/>
            </a:prstGeom>
            <a:solidFill>
              <a:srgbClr val="ffffff"/>
            </a:solid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985080" y="4890960"/>
              <a:ext cx="479520" cy="685800"/>
            </a:xfrm>
            <a:custGeom>
              <a:avLst/>
              <a:gdLst>
                <a:gd name="textAreaLeft" fmla="*/ 23400 w 479520"/>
                <a:gd name="textAreaRight" fmla="*/ 456120 w 479520"/>
                <a:gd name="textAreaTop" fmla="*/ 23400 h 685800"/>
                <a:gd name="textAreaBottom" fmla="*/ 662400 h 685800"/>
              </a:gdLst>
              <a:ahLst/>
              <a:rect l="textAreaLeft" t="textAreaTop" r="textAreaRight" b="textAreaBottom"/>
              <a:pathLst>
                <a:path w="21600" h="30885">
                  <a:moveTo>
                    <a:pt x="3600" y="0"/>
                  </a:moveTo>
                  <a:arcTo wR="3600" hR="3600" stAng="16200000" swAng="-5400000"/>
                  <a:lnTo>
                    <a:pt x="0" y="27285"/>
                  </a:lnTo>
                  <a:arcTo wR="3600" hR="3600" stAng="10800000" swAng="-5400000"/>
                  <a:lnTo>
                    <a:pt x="18000" y="308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985080" y="5082840"/>
              <a:ext cx="47952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14133"/>
                  </a:solidFill>
                  <a:latin typeface="Verdana"/>
                </a:rPr>
                <a:t>H</a:t>
              </a:r>
              <a:r>
                <a:rPr b="1" lang="en-US" sz="1000" spc="-1" strike="noStrike" baseline="-25000">
                  <a:solidFill>
                    <a:srgbClr val="014133"/>
                  </a:solidFill>
                  <a:latin typeface="Verdan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1292400" y="3408120"/>
              <a:ext cx="92232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 flipV="1">
              <a:off x="1978200" y="3930480"/>
              <a:ext cx="822240" cy="144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14640" y="2958840"/>
              <a:ext cx="411120" cy="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1978200" y="2973240"/>
              <a:ext cx="136440" cy="90648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25760" y="2647800"/>
              <a:ext cx="617760" cy="596880"/>
            </a:xfrm>
            <a:prstGeom prst="rect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21280" y="2682720"/>
              <a:ext cx="9604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14133"/>
                  </a:solidFill>
                  <a:latin typeface="Verdana"/>
                </a:rPr>
                <a:t>Pow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14133"/>
                  </a:solidFill>
                  <a:latin typeface="Verdana"/>
                </a:rPr>
                <a:t> </a:t>
              </a:r>
              <a:r>
                <a:rPr b="1" lang="en-US" sz="1000" spc="-1" strike="noStrike">
                  <a:solidFill>
                    <a:srgbClr val="014133"/>
                  </a:solidFill>
                  <a:latin typeface="Verdana"/>
                </a:rPr>
                <a:t>suppl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406880" y="1939680"/>
              <a:ext cx="5222880" cy="1976400"/>
            </a:xfrm>
            <a:custGeom>
              <a:avLst/>
              <a:gdLst/>
              <a:ahLst/>
              <a:rect l="l" t="t" r="r" b="b"/>
              <a:pathLst>
                <a:path w="3656" h="1384">
                  <a:moveTo>
                    <a:pt x="3208" y="952"/>
                  </a:moveTo>
                  <a:cubicBezTo>
                    <a:pt x="3432" y="680"/>
                    <a:pt x="3656" y="408"/>
                    <a:pt x="3208" y="280"/>
                  </a:cubicBezTo>
                  <a:cubicBezTo>
                    <a:pt x="2760" y="152"/>
                    <a:pt x="1040" y="0"/>
                    <a:pt x="520" y="184"/>
                  </a:cubicBezTo>
                  <a:cubicBezTo>
                    <a:pt x="0" y="368"/>
                    <a:pt x="44" y="876"/>
                    <a:pt x="88" y="1384"/>
                  </a:cubicBezTo>
                </a:path>
              </a:pathLst>
            </a:custGeom>
            <a:noFill/>
            <a:ln w="1908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325880" y="1927080"/>
              <a:ext cx="4606920" cy="1989000"/>
            </a:xfrm>
            <a:custGeom>
              <a:avLst/>
              <a:gdLst/>
              <a:ahLst/>
              <a:rect l="l" t="t" r="r" b="b"/>
              <a:pathLst>
                <a:path w="3656" h="1384">
                  <a:moveTo>
                    <a:pt x="3208" y="952"/>
                  </a:moveTo>
                  <a:cubicBezTo>
                    <a:pt x="3432" y="680"/>
                    <a:pt x="3656" y="408"/>
                    <a:pt x="3208" y="280"/>
                  </a:cubicBezTo>
                  <a:cubicBezTo>
                    <a:pt x="2760" y="152"/>
                    <a:pt x="1040" y="0"/>
                    <a:pt x="520" y="184"/>
                  </a:cubicBezTo>
                  <a:cubicBezTo>
                    <a:pt x="0" y="368"/>
                    <a:pt x="44" y="876"/>
                    <a:pt x="88" y="1384"/>
                  </a:cubicBezTo>
                </a:path>
              </a:pathLst>
            </a:custGeom>
            <a:noFill/>
            <a:ln w="1908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28000" y="3879720"/>
              <a:ext cx="307800" cy="14292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612040" y="3862080"/>
              <a:ext cx="257040" cy="171360"/>
            </a:xfrm>
            <a:prstGeom prst="flowChartSummingJunction">
              <a:avLst/>
            </a:prstGeom>
            <a:solidFill>
              <a:srgbClr val="ffffff"/>
            </a:solid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032360" y="4197240"/>
              <a:ext cx="663840" cy="30780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46880" y="4268520"/>
              <a:ext cx="257040" cy="171360"/>
            </a:xfrm>
            <a:prstGeom prst="flowChartSummingJunction">
              <a:avLst/>
            </a:prstGeom>
            <a:solidFill>
              <a:srgbClr val="ffffff"/>
            </a:solid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646880" y="5233680"/>
              <a:ext cx="295200" cy="196920"/>
            </a:xfrm>
            <a:prstGeom prst="flowChartSummingJunction">
              <a:avLst/>
            </a:prstGeom>
            <a:solidFill>
              <a:srgbClr val="ffffff"/>
            </a:solid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6200000">
              <a:off x="3822120" y="4100760"/>
              <a:ext cx="260280" cy="4284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558800" y="2103480"/>
            <a:ext cx="6177240" cy="46861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cc00"/>
                </a:solidFill>
                <a:latin typeface="Plump MT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99cc00"/>
                </a:solidFill>
                <a:latin typeface="Plump MT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99cc00"/>
                </a:solidFill>
                <a:latin typeface="Plump MT"/>
                <a:ea typeface="Times New Roman"/>
              </a:rPr>
              <a:t>Hydrogen 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ample of slow lo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cc00"/>
                </a:solidFill>
                <a:latin typeface="Plump MT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99cc00"/>
                </a:solidFill>
                <a:latin typeface="Plump MT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99cc00"/>
                </a:solidFill>
                <a:latin typeface="Plump MT"/>
                <a:ea typeface="Times New Roman"/>
              </a:rPr>
              <a:t>Hydrogen 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00280" y="1279440"/>
            <a:ext cx="7278480" cy="4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xamples of slow lo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Image8" descr=""/>
          <p:cNvPicPr/>
          <p:nvPr/>
        </p:nvPicPr>
        <p:blipFill>
          <a:blip r:embed="rId2"/>
          <a:stretch/>
        </p:blipFill>
        <p:spPr>
          <a:xfrm>
            <a:off x="184320" y="2257560"/>
            <a:ext cx="4236840" cy="3522600"/>
          </a:xfrm>
          <a:prstGeom prst="rect">
            <a:avLst/>
          </a:prstGeom>
          <a:ln w="0">
            <a:noFill/>
          </a:ln>
        </p:spPr>
      </p:pic>
      <p:pic>
        <p:nvPicPr>
          <p:cNvPr id="139" name="Image2" descr=""/>
          <p:cNvPicPr/>
          <p:nvPr/>
        </p:nvPicPr>
        <p:blipFill>
          <a:blip r:embed="rId3"/>
          <a:stretch/>
        </p:blipFill>
        <p:spPr>
          <a:xfrm>
            <a:off x="4629240" y="2246400"/>
            <a:ext cx="409896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cc00"/>
                </a:solidFill>
                <a:latin typeface="Plump MT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99cc00"/>
                </a:solidFill>
                <a:latin typeface="Plump MT"/>
                <a:ea typeface="Times New Roman"/>
              </a:rPr>
              <a:t>Hydrogen 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7360" y="1336320"/>
            <a:ext cx="8229600" cy="3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ample of fast lo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3" descr=""/>
          <p:cNvPicPr/>
          <p:nvPr/>
        </p:nvPicPr>
        <p:blipFill>
          <a:blip r:embed="rId2"/>
          <a:stretch/>
        </p:blipFill>
        <p:spPr>
          <a:xfrm>
            <a:off x="1373040" y="1817640"/>
            <a:ext cx="606600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cc00"/>
                </a:solidFill>
                <a:latin typeface="Plump MT"/>
                <a:ea typeface="Times New Roman"/>
              </a:rPr>
              <a:t>Prim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8680" y="1305000"/>
            <a:ext cx="41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ast primer by pressure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970520" y="1317600"/>
            <a:ext cx="354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low primer by temperature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02520" y="2427120"/>
            <a:ext cx="293400" cy="17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Image4" descr=""/>
          <p:cNvPicPr/>
          <p:nvPr/>
        </p:nvPicPr>
        <p:blipFill>
          <a:blip r:embed="rId2"/>
          <a:stretch/>
        </p:blipFill>
        <p:spPr>
          <a:xfrm>
            <a:off x="193680" y="1824120"/>
            <a:ext cx="4094280" cy="4500360"/>
          </a:xfrm>
          <a:prstGeom prst="rect">
            <a:avLst/>
          </a:prstGeom>
          <a:ln w="0">
            <a:noFill/>
          </a:ln>
        </p:spPr>
      </p:pic>
      <p:pic>
        <p:nvPicPr>
          <p:cNvPr id="148" name="Image5" descr=""/>
          <p:cNvPicPr/>
          <p:nvPr/>
        </p:nvPicPr>
        <p:blipFill>
          <a:blip r:embed="rId3"/>
          <a:stretch/>
        </p:blipFill>
        <p:spPr>
          <a:xfrm>
            <a:off x="4400640" y="2208240"/>
            <a:ext cx="44226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028960" y="450720"/>
            <a:ext cx="419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99cc00"/>
                </a:solidFill>
                <a:latin typeface="Arial"/>
              </a:rPr>
              <a:t>Absorption and slow primer by temperature s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486080" y="1415880"/>
            <a:ext cx="6604920" cy="5441760"/>
            <a:chOff x="1486080" y="1415880"/>
            <a:chExt cx="6604920" cy="5441760"/>
          </a:xfrm>
        </p:grpSpPr>
        <p:pic>
          <p:nvPicPr>
            <p:cNvPr id="151" name="" descr=""/>
            <p:cNvPicPr/>
            <p:nvPr/>
          </p:nvPicPr>
          <p:blipFill>
            <a:blip r:embed="rId2"/>
            <a:stretch/>
          </p:blipFill>
          <p:spPr>
            <a:xfrm>
              <a:off x="1486080" y="1415880"/>
              <a:ext cx="6604920" cy="54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4725360" y="1676160"/>
              <a:ext cx="463680" cy="27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825560" y="353880"/>
            <a:ext cx="513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cc00"/>
                </a:solidFill>
                <a:latin typeface="Arial"/>
              </a:rPr>
              <a:t>Sequence of excitation by temperature s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Image7" descr=""/>
          <p:cNvPicPr/>
          <p:nvPr/>
        </p:nvPicPr>
        <p:blipFill>
          <a:blip r:embed="rId2"/>
          <a:stretch/>
        </p:blipFill>
        <p:spPr>
          <a:xfrm>
            <a:off x="1682640" y="1417680"/>
            <a:ext cx="5703840" cy="51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66ff"/>
                </a:solidFill>
                <a:latin typeface="Arial"/>
              </a:rPr>
              <a:t>Energy production in planar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Image8" descr=""/>
          <p:cNvPicPr/>
          <p:nvPr/>
        </p:nvPicPr>
        <p:blipFill>
          <a:blip r:embed="rId2"/>
          <a:stretch/>
        </p:blipFill>
        <p:spPr>
          <a:xfrm>
            <a:off x="1596960" y="1314360"/>
            <a:ext cx="6264360" cy="46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0000"/>
                </a:solidFill>
                <a:latin typeface="Arial"/>
              </a:rPr>
              <a:t>Experiment in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Image9" descr=""/>
          <p:cNvPicPr/>
          <p:nvPr/>
        </p:nvPicPr>
        <p:blipFill>
          <a:blip r:embed="rId2"/>
          <a:stretch/>
        </p:blipFill>
        <p:spPr>
          <a:xfrm>
            <a:off x="1650960" y="1405080"/>
            <a:ext cx="624672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332000" y="18900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Arial"/>
              </a:rPr>
              <a:t>Preliminer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025640" y="804960"/>
            <a:ext cx="7165800" cy="51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1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0000"/>
                </a:solidFill>
                <a:latin typeface="Plump MT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0760" y="139176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Verdana"/>
              </a:rPr>
              <a:t>The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ydrogen loading of pure Ni.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electro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w cell designed for laminar flow of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ntitative determination of 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ading dynam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mer and energy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oton e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aboratory </a:t>
            </a:r>
            <a:r>
              <a:rPr b="1" i="1" lang="en-US" sz="1800" spc="-1" strike="noStrike">
                <a:solidFill>
                  <a:srgbClr val="660066"/>
                </a:solidFill>
                <a:latin typeface="Verdana"/>
              </a:rPr>
              <a:t>Energy from Hydrogen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tup for production of well-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haracterized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metallic surfaces still in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332000" y="18900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Arial"/>
              </a:rPr>
              <a:t>Preliminar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Image11" descr=""/>
          <p:cNvPicPr/>
          <p:nvPr/>
        </p:nvPicPr>
        <p:blipFill>
          <a:blip r:embed="rId2"/>
          <a:stretch/>
        </p:blipFill>
        <p:spPr>
          <a:xfrm>
            <a:off x="1150920" y="1014480"/>
            <a:ext cx="7246800" cy="51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332000" y="18900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Arial"/>
              </a:rPr>
              <a:t>Preliminer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905040" y="863640"/>
            <a:ext cx="7407000" cy="51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116000" y="189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Arial"/>
              </a:rPr>
              <a:t>Preliminer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927000" y="789120"/>
            <a:ext cx="7315200" cy="51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0000"/>
                </a:solidFill>
                <a:latin typeface="Arial"/>
              </a:rPr>
              <a:t>Correlation between temp1 and pt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Image14" descr=""/>
          <p:cNvPicPr/>
          <p:nvPr/>
        </p:nvPicPr>
        <p:blipFill>
          <a:blip r:embed="rId2"/>
          <a:stretch/>
        </p:blipFill>
        <p:spPr>
          <a:xfrm>
            <a:off x="2421000" y="1593720"/>
            <a:ext cx="4503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889308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0000"/>
                </a:solidFill>
                <a:latin typeface="Arial"/>
              </a:rPr>
              <a:t>Correlation between temp1 and temp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Image15" descr=""/>
          <p:cNvPicPr/>
          <p:nvPr/>
        </p:nvPicPr>
        <p:blipFill>
          <a:blip r:embed="rId2"/>
          <a:stretch/>
        </p:blipFill>
        <p:spPr>
          <a:xfrm>
            <a:off x="2178000" y="1419120"/>
            <a:ext cx="441180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cc00"/>
                </a:solidFill>
                <a:latin typeface="Plump MT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99cc00"/>
                </a:solidFill>
                <a:latin typeface="Plump MT"/>
                <a:ea typeface="Times New Roman"/>
              </a:rPr>
              <a:t>Gamma emission in previous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17680" y="1892160"/>
            <a:ext cx="6418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ell with planar s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Image16" descr=""/>
          <p:cNvPicPr/>
          <p:nvPr/>
        </p:nvPicPr>
        <p:blipFill>
          <a:blip r:embed="rId2"/>
          <a:stretch/>
        </p:blipFill>
        <p:spPr>
          <a:xfrm>
            <a:off x="1601640" y="2320920"/>
            <a:ext cx="6069240" cy="41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7960" y="0"/>
            <a:ext cx="822960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Arial"/>
              </a:rPr>
              <a:t>Photon e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Image17" descr=""/>
          <p:cNvPicPr/>
          <p:nvPr/>
        </p:nvPicPr>
        <p:blipFill>
          <a:blip r:embed="rId2"/>
          <a:stretch/>
        </p:blipFill>
        <p:spPr>
          <a:xfrm>
            <a:off x="1042920" y="765000"/>
            <a:ext cx="748656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Image18" descr=""/>
          <p:cNvPicPr/>
          <p:nvPr/>
        </p:nvPicPr>
        <p:blipFill>
          <a:blip r:embed="rId2"/>
          <a:stretch/>
        </p:blipFill>
        <p:spPr>
          <a:xfrm>
            <a:off x="2082960" y="1216080"/>
            <a:ext cx="6435720" cy="51782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817720" y="0"/>
            <a:ext cx="389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hoton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 e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63640" y="725400"/>
            <a:ext cx="22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baseline="30000">
                <a:solidFill>
                  <a:srgbClr val="000000"/>
                </a:solidFill>
                <a:latin typeface="Arial"/>
              </a:rPr>
              <a:t>137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s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32080" y="965160"/>
            <a:ext cx="3092400" cy="1941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2044800" y="601560"/>
            <a:ext cx="6418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ell with cylindrical s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ff"/>
                </a:solidFill>
                <a:latin typeface="Arial"/>
              </a:rPr>
              <a:t>Conclusions</a:t>
            </a:r>
            <a:r>
              <a:rPr b="1" i="1" lang="it-IT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i="1" lang="it-IT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it-IT" sz="2800" spc="-1" strike="noStrike">
                <a:solidFill>
                  <a:srgbClr val="ff0066"/>
                </a:solidFill>
                <a:latin typeface="Arial"/>
              </a:rPr>
              <a:t>persp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42840" y="946080"/>
            <a:ext cx="735336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ff"/>
                </a:solidFill>
                <a:latin typeface="Arial"/>
              </a:rPr>
              <a:t>*We are very close to the auto-sustenance (less than 20W introduced and 71W produced = 91W)(t=260°C)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66"/>
                </a:solidFill>
                <a:latin typeface="Book Antiqua"/>
              </a:rPr>
              <a:t>=&gt; </a:t>
            </a: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we want to evaluate the possibility to increase the produced power to more than 100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**We have seen that the energy production can be obtained between 200°C and 400°C </a:t>
            </a: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=&gt; we want to evaluate the best temperature interval inside that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***We want to evaluate the effect of a magnetic field on the absorption and on the primer of the energy e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****We have indication that the phenomenon takes place at the surface of the sample; we have seen in previous experiments a transmutation effect </a:t>
            </a: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=&gt;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we want to evaluate the residue by means of SEM-EDAX  and SIMS techniqu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*****As already done in previous experiments, </a:t>
            </a: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we want to investigate the decay of the samples extracted from the 4 cells (about 2 months) and the particle emissions by means of a Ge and Si detector and Wilson cha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-a" descr=""/>
          <p:cNvPicPr/>
          <p:nvPr/>
        </p:nvPicPr>
        <p:blipFill>
          <a:blip r:embed="rId2"/>
          <a:stretch/>
        </p:blipFill>
        <p:spPr>
          <a:xfrm>
            <a:off x="2173320" y="0"/>
            <a:ext cx="48830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843280" y="2349360"/>
            <a:ext cx="360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333360"/>
            <a:ext cx="7993080" cy="55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Experiment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4 programmed experi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2 with cylindrical samples (in progress; one working, the other outgass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2 with planar samples (in prepa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heck of the effect of an applied magnetic field (among 0 -except for the Earth field- up to more than 2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heck of the behaviour homogeneity  for different samples after annealing at 900°C and cooling down t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200°C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y step of 10°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valuation of the absorption proc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ast for 110°C&lt;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&lt;140°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low for 220°C&lt;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&lt;260°C and 340°C&lt;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&lt;380°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it is sufficient an absorption of x</a:t>
            </a:r>
            <a:r>
              <a:rPr b="0" lang="it-IT" sz="1800" spc="-1" strike="noStrike">
                <a:solidFill>
                  <a:srgbClr val="ff0000"/>
                </a:solidFill>
                <a:latin typeface="Symbol"/>
                <a:ea typeface="Symbol"/>
              </a:rPr>
              <a:t>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0.05 to have the prim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9640" y="333360"/>
            <a:ext cx="7993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Goals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imer and energy produc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ast primer starting fro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80°C by temperature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low primer starting from &gt;350°C (auto excit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imer by pressure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hoton and particle e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38280" y="1344600"/>
            <a:ext cx="7961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e study cylindrical and planar 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lnSpc>
                <a:spcPct val="12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ure 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0">
              <a:lnSpc>
                <a:spcPct val="125000"/>
              </a:lnSpc>
              <a:spcBef>
                <a:spcPts val="1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leaning: chemical and physical (out gass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nnealing cycle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 vacuum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Verdana"/>
              </a:rPr>
              <a:t>MAX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&lt; 550 °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 Hydrogen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Verdana"/>
              </a:rPr>
              <a:t>MAX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&lt; 450 °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oaded with Hydro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essur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00 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mba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&lt; 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&lt; 1000 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m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mperature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50 °C &lt; 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&lt; 450 °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5" descr=""/>
          <p:cNvPicPr/>
          <p:nvPr/>
        </p:nvPicPr>
        <p:blipFill>
          <a:blip r:embed="rId2"/>
          <a:stretch/>
        </p:blipFill>
        <p:spPr>
          <a:xfrm>
            <a:off x="2967120" y="2382840"/>
            <a:ext cx="5823000" cy="38084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cc00"/>
                </a:solidFill>
                <a:latin typeface="Plump MT"/>
                <a:ea typeface="Times New Roman"/>
              </a:rPr>
              <a:t>Experimental se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ell for a cylindrical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08720" y="378936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Pt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6443640" y="4076640"/>
            <a:ext cx="936720" cy="792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43640" y="5167440"/>
            <a:ext cx="289080" cy="718920"/>
          </a:xfrm>
          <a:prstGeom prst="line">
            <a:avLst/>
          </a:prstGeom>
          <a:ln w="25560">
            <a:solidFill>
              <a:srgbClr val="0066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4364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29240" y="513864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07040" y="34639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030640" y="3768840"/>
            <a:ext cx="522360" cy="914400"/>
          </a:xfrm>
          <a:prstGeom prst="line">
            <a:avLst/>
          </a:prstGeom>
          <a:ln w="25560">
            <a:solidFill>
              <a:srgbClr val="0066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mage3" descr=""/>
          <p:cNvPicPr/>
          <p:nvPr/>
        </p:nvPicPr>
        <p:blipFill>
          <a:blip r:embed="rId3"/>
          <a:stretch/>
        </p:blipFill>
        <p:spPr>
          <a:xfrm>
            <a:off x="225360" y="2544840"/>
            <a:ext cx="2622600" cy="1542960"/>
          </a:xfrm>
          <a:prstGeom prst="rect">
            <a:avLst/>
          </a:prstGeom>
          <a:ln w="0">
            <a:noFill/>
          </a:ln>
        </p:spPr>
      </p:pic>
      <p:pic>
        <p:nvPicPr>
          <p:cNvPr id="63" name="Image4" descr=""/>
          <p:cNvPicPr/>
          <p:nvPr/>
        </p:nvPicPr>
        <p:blipFill>
          <a:blip r:embed="rId4"/>
          <a:stretch/>
        </p:blipFill>
        <p:spPr>
          <a:xfrm>
            <a:off x="201600" y="5378400"/>
            <a:ext cx="267480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cc00"/>
                </a:solidFill>
                <a:latin typeface="Plump MT"/>
                <a:ea typeface="Times New Roman"/>
              </a:rPr>
              <a:t>Experimental se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2057400"/>
            <a:ext cx="527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Verdan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ell for 3 plane s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Image6" descr=""/>
          <p:cNvPicPr/>
          <p:nvPr/>
        </p:nvPicPr>
        <p:blipFill>
          <a:blip r:embed="rId2"/>
          <a:stretch/>
        </p:blipFill>
        <p:spPr>
          <a:xfrm>
            <a:off x="1257480" y="2557440"/>
            <a:ext cx="6607080" cy="1943280"/>
          </a:xfrm>
          <a:prstGeom prst="rect">
            <a:avLst/>
          </a:prstGeom>
          <a:ln w="0">
            <a:noFill/>
          </a:ln>
        </p:spPr>
      </p:pic>
      <p:pic>
        <p:nvPicPr>
          <p:cNvPr id="67" name="Image7" descr=""/>
          <p:cNvPicPr/>
          <p:nvPr/>
        </p:nvPicPr>
        <p:blipFill>
          <a:blip r:embed="rId3"/>
          <a:stretch/>
        </p:blipFill>
        <p:spPr>
          <a:xfrm>
            <a:off x="1311120" y="4551480"/>
            <a:ext cx="644688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776240" y="2171880"/>
            <a:ext cx="6320160" cy="46544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cc00"/>
                </a:solidFill>
                <a:latin typeface="Plump MT"/>
                <a:ea typeface="Times New Roman"/>
              </a:rPr>
              <a:t>Experimental se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70080" y="1630440"/>
            <a:ext cx="527688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Verdana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ell for a cylindrical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Verdana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09800" y="3735360"/>
            <a:ext cx="12938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Gas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03480" y="4095720"/>
            <a:ext cx="610920" cy="4680"/>
          </a:xfrm>
          <a:prstGeom prst="line">
            <a:avLst/>
          </a:prstGeom>
          <a:ln w="180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022480" y="3956400"/>
            <a:ext cx="244440" cy="290160"/>
            <a:chOff x="2022480" y="3956400"/>
            <a:chExt cx="244440" cy="290160"/>
          </a:xfrm>
        </p:grpSpPr>
        <p:sp>
          <p:nvSpPr>
            <p:cNvPr id="74" name=""/>
            <p:cNvSpPr/>
            <p:nvPr/>
          </p:nvSpPr>
          <p:spPr>
            <a:xfrm>
              <a:off x="2028960" y="3959280"/>
              <a:ext cx="23796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041560" y="3971880"/>
              <a:ext cx="22536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022480" y="3956400"/>
              <a:ext cx="225720" cy="28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279520" y="5311800"/>
            <a:ext cx="865440" cy="6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5T08:55:43Z</dcterms:created>
  <dc:creator>Silvia</dc:creator>
  <dc:description/>
  <dc:language>en-US</dc:language>
  <cp:lastModifiedBy>William</cp:lastModifiedBy>
  <dcterms:modified xsi:type="dcterms:W3CDTF">2005-06-05T19:26:26Z</dcterms:modified>
  <cp:revision>88</cp:revision>
  <dc:subject/>
  <dc:title>prova</dc:title>
</cp:coreProperties>
</file>