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58000" cy="9144000"/>
</p:presentation>
</file>

<file path=ppt/commentAuthors.xml><?xml version="1.0" encoding="utf-8"?>
<p:cmAuthorLst xmlns:p="http://schemas.openxmlformats.org/presentationml/2006/main">
  <p:cmAuthor id="0" name="nassisi" initials="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10-28T18:40:35.295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387-0358-405D-8F0A-6F44DFC1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477-3510-4F36-AD1C-9124FF04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2DC-2DE5-4D5F-8076-FF293212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9FD-A5FE-4550-A48F-9A46CC9D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7A7-EFBC-42FE-A7A2-ED062831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34D-0E8E-4CB5-BD67-F99810BC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677-1B15-4349-83D1-1752E3EB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76B-9469-4CE9-84F8-E03E9088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480-9044-43C2-AB4E-36E68099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A38-378D-4900-9C82-8CEF9CB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475-C64B-4C9B-A31B-1B16628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7D9-A341-4551-9461-6C91CD81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115E-92A2-4586-AAEF-8DE2DAC70EF9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04BA-62EE-4C28-B268-93577BE4E9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<Relationship Id="rId29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76120" y="284040"/>
          <a:ext cx="803520" cy="9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284040"/>
                    <a:ext cx="8035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8699400" y="284040"/>
            <a:ext cx="1006560" cy="7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50880" y="1989000"/>
            <a:ext cx="883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Nuclear transmutations in D-Pd films induced </a:t>
            </a:r>
            <a:endParaRPr b="0" lang="en-US" sz="24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by low power He-Ne laser beams</a:t>
            </a:r>
            <a:endParaRPr b="0" lang="en-US" sz="24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200160" y="3573360"/>
            <a:ext cx="950580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 Mastromat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Microelectronics, via Tolomeo, 1 200010 Cornaredo Milano-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 Nassisi, A. Lorusso, G. Car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ed Electronics Laboratory, Department of Physics, University of Lecce, I.N.F.N., C.P. 193, 73100 Lecce– I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. Buccolieri, G. Buccolieri, D. Manno, L. Fa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Material Science, University of Lecce, C.P. 193, 73100 Lecce-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387440" y="2962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706400" y="2779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344680" y="2779560"/>
            <a:ext cx="39600" cy="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82960" y="2779560"/>
            <a:ext cx="66600" cy="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3622680" y="2779560"/>
            <a:ext cx="27000" cy="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4259160" y="2779560"/>
            <a:ext cx="28800" cy="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4502160" y="2779560"/>
            <a:ext cx="173160" cy="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4897440" y="27795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5535720" y="2779560"/>
            <a:ext cx="28440" cy="9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6173640" y="2779560"/>
            <a:ext cx="28800" cy="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6416640" y="2962440"/>
            <a:ext cx="133560" cy="9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6735600" y="2962440"/>
            <a:ext cx="12384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7130880" y="2779560"/>
            <a:ext cx="4788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7373880" y="138240"/>
            <a:ext cx="1314360" cy="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7770960" y="2779560"/>
            <a:ext cx="792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8088480" y="2779560"/>
            <a:ext cx="18720" cy="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8407440" y="27795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3008160" y="189000"/>
            <a:ext cx="424080" cy="3348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88880" y="500040"/>
            <a:ext cx="3528720" cy="403920"/>
            <a:chOff x="488880" y="500040"/>
            <a:chExt cx="3528720" cy="403920"/>
          </a:xfrm>
        </p:grpSpPr>
        <p:sp>
          <p:nvSpPr>
            <p:cNvPr id="65" name=""/>
            <p:cNvSpPr/>
            <p:nvPr/>
          </p:nvSpPr>
          <p:spPr>
            <a:xfrm>
              <a:off x="510480" y="627120"/>
              <a:ext cx="35071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Unicode MS"/>
                </a:rPr>
                <a:t>Department of Phys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8880" y="611280"/>
              <a:ext cx="3507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Unicode MS"/>
                </a:rPr>
                <a:t>Department of Phys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3"/>
            <a:stretch/>
          </p:blipFill>
          <p:spPr>
            <a:xfrm>
              <a:off x="1070640" y="500040"/>
              <a:ext cx="59760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4"/>
            <a:stretch/>
          </p:blipFill>
          <p:spPr>
            <a:xfrm>
              <a:off x="1451880" y="500040"/>
              <a:ext cx="603360" cy="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0" y="210960"/>
            <a:ext cx="3528720" cy="403920"/>
            <a:chOff x="0" y="210960"/>
            <a:chExt cx="3528720" cy="403920"/>
          </a:xfrm>
        </p:grpSpPr>
        <p:sp>
          <p:nvSpPr>
            <p:cNvPr id="70" name=""/>
            <p:cNvSpPr/>
            <p:nvPr/>
          </p:nvSpPr>
          <p:spPr>
            <a:xfrm>
              <a:off x="21600" y="338040"/>
              <a:ext cx="35071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Unicode MS"/>
                </a:rPr>
                <a:t>University of Lec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322200"/>
              <a:ext cx="3507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Unicode MS"/>
                </a:rPr>
                <a:t>University of Lec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5"/>
            <a:stretch/>
          </p:blipFill>
          <p:spPr>
            <a:xfrm>
              <a:off x="581760" y="210960"/>
              <a:ext cx="597600" cy="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6"/>
            <a:stretch/>
          </p:blipFill>
          <p:spPr>
            <a:xfrm>
              <a:off x="963000" y="210960"/>
              <a:ext cx="603360" cy="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27"/>
          <a:stretch/>
        </p:blipFill>
        <p:spPr>
          <a:xfrm>
            <a:off x="3657600" y="260280"/>
            <a:ext cx="4822920" cy="76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D5B-2DCE-4BAD-BDAB-DF02BC20DB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395960" y="33498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54080" y="2805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95960" y="33498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9600" y="5805360"/>
            <a:ext cx="446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M micrograph of sample processed with D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gas and He-Ne 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2320" y="1484280"/>
            <a:ext cx="70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 analysis of samples loaded with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gas irradiated by He-Ne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76520" y="2349360"/>
            <a:ext cx="4681440" cy="3365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60520" y="404640"/>
            <a:ext cx="8610480" cy="70488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6A1-B7F2-4FF0-85EA-ACB71A0A03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60520" y="404640"/>
            <a:ext cx="8610480" cy="7048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000099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09600" y="1484280"/>
            <a:ext cx="70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 analysis of samples loaded with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gas irradiated by He-Ne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32160" y="2205000"/>
            <a:ext cx="4876560" cy="3505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49600" y="5805360"/>
            <a:ext cx="446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M micrograph of sample processed with D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gas and He-Ne 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8E4-D4E9-4AA8-9EB7-D6461F15FD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50680" y="1628640"/>
            <a:ext cx="70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 analysis of samples loaded with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gas irradiated by He-Ne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11440" y="2355840"/>
            <a:ext cx="4681440" cy="3365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649600" y="5805360"/>
            <a:ext cx="446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M micrograph of sample processed with D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gas and He-Ne 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0520" y="404640"/>
            <a:ext cx="8610480" cy="7048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000099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BA1-C7A4-424B-857E-AC81FA2161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50680" y="1628640"/>
            <a:ext cx="70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 analysis of samples loaded with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gas irradiated by He-Ne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60520" y="2133720"/>
            <a:ext cx="5004000" cy="3597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49600" y="5805360"/>
            <a:ext cx="446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M micrograph of sample processed with D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gas and He-Ne 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60520" y="404640"/>
            <a:ext cx="8610480" cy="7048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000099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0EA-DCA7-4D48-8BE2-9B1F6D651F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81240" y="5589720"/>
            <a:ext cx="45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-Ray spectrum of sample loaded with D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16160" y="260280"/>
            <a:ext cx="3629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EDX Analysi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706320" y="1268280"/>
            <a:ext cx="741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X spectra of samples loaded with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gas and irradiated by He-Ne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29240" y="1844640"/>
            <a:ext cx="3889440" cy="39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iquantitativ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ments                      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8.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43.0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3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0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3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0.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1.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2.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3.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31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76160" y="1916280"/>
            <a:ext cx="4581720" cy="35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59E-AC95-4533-B6F7-475B67A9DD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513240" y="59500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-Ray spectrum of sample loaded with 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152880" y="333360"/>
            <a:ext cx="328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EDX Analy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1184040" y="1197000"/>
            <a:ext cx="741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X spectra of samples loaded with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gas and irradiated by He-Ne la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16160" y="1844640"/>
            <a:ext cx="5013360" cy="386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8A5-5A1C-4187-9F3D-EBCB7F0A2B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84520" y="907920"/>
            <a:ext cx="2592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Conclus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000160" y="1773360"/>
            <a:ext cx="61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n previous works, Pd samples irrad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lasers beams show clear effect of nuc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utations. These samples were impl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pecific elements in order to highligh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ated nuclear chan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2A8-3E83-4F4D-975E-D2D5B92F64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728880" y="1844640"/>
            <a:ext cx="2016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Contents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1260360" y="2009880"/>
            <a:ext cx="138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15800" y="404640"/>
            <a:ext cx="90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Nuclear transmutations in D-Pd films induced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by low power He-Ne laser beams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3224160" y="2781360"/>
            <a:ext cx="534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appar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and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4AD-4414-47AE-9BAC-0BA0AE6C14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08160" y="404640"/>
            <a:ext cx="7202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Evidence of elements transmutati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25760" y="1590480"/>
            <a:ext cx="7200720" cy="2514600"/>
            <a:chOff x="1625760" y="1590480"/>
            <a:chExt cx="7200720" cy="2514600"/>
          </a:xfrm>
        </p:grpSpPr>
        <p:cxnSp>
          <p:nvCxnSpPr>
            <p:cNvPr id="81" name="_s35919"/>
            <p:cNvCxnSpPr/>
            <p:nvPr/>
          </p:nvCxnSpPr>
          <p:spPr>
            <a:xfrm flipH="1" flipV="1" rot="5400000">
              <a:off x="5098680" y="3571560"/>
              <a:ext cx="288000" cy="2160"/>
            </a:xfrm>
            <a:prstGeom prst="bentConnector3">
              <a:avLst>
                <a:gd name="adj1" fmla="val 3967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_s35903"/>
            <p:cNvCxnSpPr>
              <a:stCxn id="83" idx="0"/>
              <a:endCxn id="84" idx="1"/>
            </p:cNvCxnSpPr>
            <p:nvPr/>
          </p:nvCxnSpPr>
          <p:spPr>
            <a:xfrm flipV="1">
              <a:off x="5226120" y="2732760"/>
              <a:ext cx="2160" cy="229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_s35900"/>
            <p:cNvCxnSpPr>
              <a:stCxn id="84" idx="0"/>
              <a:endCxn id="86" idx="0"/>
            </p:cNvCxnSpPr>
            <p:nvPr/>
          </p:nvCxnSpPr>
          <p:spPr>
            <a:xfrm flipV="1">
              <a:off x="5226120" y="2046960"/>
              <a:ext cx="2160" cy="229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" name="_s35892"/>
            <p:cNvSpPr/>
            <p:nvPr/>
          </p:nvSpPr>
          <p:spPr>
            <a:xfrm>
              <a:off x="1625760" y="1590480"/>
              <a:ext cx="7200720" cy="457200"/>
            </a:xfrm>
            <a:prstGeom prst="bevel">
              <a:avLst>
                <a:gd name="adj" fmla="val 12500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mples of silicon with thin Pd layer implanted with B i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35899"/>
            <p:cNvSpPr/>
            <p:nvPr/>
          </p:nvSpPr>
          <p:spPr>
            <a:xfrm>
              <a:off x="1625760" y="2276280"/>
              <a:ext cx="7200720" cy="457200"/>
            </a:xfrm>
            <a:prstGeom prst="bevel">
              <a:avLst>
                <a:gd name="adj" fmla="val 12500"/>
              </a:avLst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amples loaded with deuterium gas and exposed to He-Ne laser be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_s35902"/>
            <p:cNvSpPr/>
            <p:nvPr/>
          </p:nvSpPr>
          <p:spPr>
            <a:xfrm>
              <a:off x="1625760" y="2962080"/>
              <a:ext cx="7200720" cy="45720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M, EDX analysis of samples after 76 treatment 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35918"/>
            <p:cNvSpPr/>
            <p:nvPr/>
          </p:nvSpPr>
          <p:spPr>
            <a:xfrm>
              <a:off x="1625760" y="3647880"/>
              <a:ext cx="7200720" cy="457200"/>
            </a:xfrm>
            <a:prstGeom prst="bevel">
              <a:avLst>
                <a:gd name="adj" fmla="val 12500"/>
              </a:avLst>
            </a:prstGeom>
            <a:solidFill>
              <a:srgbClr val="cccc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idence of presence of  “new” elements inexistent in samples not process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68880" y="2060640"/>
              <a:ext cx="142920" cy="288720"/>
            </a:xfrm>
            <a:prstGeom prst="downArrow">
              <a:avLst>
                <a:gd name="adj1" fmla="val 50000"/>
                <a:gd name="adj2" fmla="val 505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68880" y="3429000"/>
              <a:ext cx="142920" cy="288720"/>
            </a:xfrm>
            <a:prstGeom prst="downArrow">
              <a:avLst>
                <a:gd name="adj1" fmla="val 50000"/>
                <a:gd name="adj2" fmla="val 505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68880" y="2708280"/>
              <a:ext cx="142920" cy="288720"/>
            </a:xfrm>
            <a:prstGeom prst="downArrow">
              <a:avLst>
                <a:gd name="adj1" fmla="val 50000"/>
                <a:gd name="adj2" fmla="val 505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ABB-22FF-48E3-A235-768945219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728880" y="1844640"/>
            <a:ext cx="1874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Sample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00880" y="2781000"/>
            <a:ext cx="413352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anted wit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150 k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3240" y="4581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weight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=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3240" y="2852640"/>
            <a:ext cx="355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rate 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nm 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nm 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5800" y="404640"/>
            <a:ext cx="90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Nuclear transmutations in D-Pd films induced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by low power He-Ne laser beams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29A-081E-4129-B652-17377C64B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28880" y="1844640"/>
            <a:ext cx="1874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Sample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992160" y="2565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implantation were done in order to try to force only specific nuclear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15800" y="404640"/>
            <a:ext cx="90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Nuclear transmutations in D-Pd films induced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by low power He-Ne laser beams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303-DFC4-4619-A819-9C94D5D1BE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0520" y="1341360"/>
            <a:ext cx="1874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Sample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392880" y="2707920"/>
            <a:ext cx="302400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Implanted P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= 150 k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15800" y="404640"/>
            <a:ext cx="90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Nuclear transmutations in D-Pd film and  induced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by low power He-Ne laser beams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31800" y="2060640"/>
            <a:ext cx="4249800" cy="3230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3240" y="5445720"/>
            <a:ext cx="494244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. 1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ron ions distributions vs. target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386-27AB-4D96-AF06-30B7F1ACD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67000" y="2544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5240" y="476280"/>
            <a:ext cx="5902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Experimental apparat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2160" y="1197000"/>
            <a:ext cx="4915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Apparatus Sketch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6176880" y="2637000"/>
            <a:ext cx="2833920" cy="3133440"/>
          </a:xfrm>
          <a:prstGeom prst="rect">
            <a:avLst/>
          </a:prstGeom>
          <a:solidFill>
            <a:srgbClr val="eaeaea">
              <a:alpha val="29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1600" y="2781360"/>
            <a:ext cx="2952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2: </a:t>
            </a:r>
            <a:r>
              <a:rPr b="1" i="1" lang="en-US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Deuterium</a:t>
            </a:r>
            <a:r>
              <a:rPr b="1" i="1" lang="it-IT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 gas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       </a:t>
            </a:r>
            <a:r>
              <a:rPr b="1" i="1" lang="it-IT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pressure up to 4 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1600" y="3500280"/>
            <a:ext cx="41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: </a:t>
            </a:r>
            <a:r>
              <a:rPr b="1" i="1" lang="en-US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1600" y="4292640"/>
            <a:ext cx="51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W: </a:t>
            </a:r>
            <a:r>
              <a:rPr b="1" i="1" lang="en-US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Quartz</a:t>
            </a:r>
            <a:r>
              <a:rPr b="1" i="1" lang="it-IT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 wind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1600" y="5084640"/>
            <a:ext cx="485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: </a:t>
            </a:r>
            <a:r>
              <a:rPr b="1" i="1" lang="en-US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Convergent</a:t>
            </a:r>
            <a:r>
              <a:rPr b="1" i="1" lang="it-IT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Tahoma"/>
                <a:ea typeface="Times New Roman"/>
              </a:rPr>
              <a:t>l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15800" y="404640"/>
            <a:ext cx="90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0520" y="2492280"/>
            <a:ext cx="5256000" cy="330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DC8-25FE-4B96-983E-3ECA4FCFCC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72880" y="189000"/>
            <a:ext cx="598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0099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Arial Black"/>
              </a:rPr>
              <a:t>Experimental apparat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0099"/>
                  </a:gs>
                  <a:gs pos="100000">
                    <a:srgbClr val="b2b2b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60360" y="2009880"/>
            <a:ext cx="138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86200" y="1741320"/>
            <a:ext cx="4956120" cy="3976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708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ype</a:t>
            </a:r>
            <a:r>
              <a:rPr b="1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CW </a:t>
            </a:r>
            <a:r>
              <a:rPr b="1" i="1" lang="it-IT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He-N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λ=648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42900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Laser power density: </a:t>
            </a:r>
            <a:r>
              <a:rPr b="1" i="1" lang="en-US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2mW/cm</a:t>
            </a:r>
            <a:r>
              <a:rPr b="1" i="1" lang="en-US" sz="1800" spc="-1" strike="noStrike" baseline="30000">
                <a:solidFill>
                  <a:srgbClr val="3333cc"/>
                </a:solidFill>
                <a:latin typeface="Tahoma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C73-5ECC-4CCC-BC19-D3A0C55F12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75800" y="404640"/>
            <a:ext cx="4829400" cy="7048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000099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5800" y="2014560"/>
            <a:ext cx="4116600" cy="3030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90840" y="126828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M and EDX analysis of sample irradiated in air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881600" y="1989000"/>
            <a:ext cx="3922560" cy="302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20880" y="522936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EM micrograph of  virgin s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40320" y="5229360"/>
            <a:ext cx="44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DX  analysis of  virgin s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th International Workshop on Anomalies in Hydrogen / Deuterium loaded Met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07D-CDB1-41C3-BE4D-2A9636B4CF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09:34:35Z</dcterms:created>
  <dc:creator>Alessandro</dc:creator>
  <dc:description/>
  <dc:language>en-US</dc:language>
  <cp:lastModifiedBy>William</cp:lastModifiedBy>
  <dcterms:modified xsi:type="dcterms:W3CDTF">2005-05-25T18:13:53Z</dcterms:modified>
  <cp:revision>113</cp:revision>
  <dc:subject/>
  <dc:title>Presentazione di PowerPoint</dc:title>
</cp:coreProperties>
</file>