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599-5129-4149-8240-A198825E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407-8119-4CEC-A1CD-E34FAC91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11C-9A47-4FB2-9468-D2859945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34F-187E-406B-9AFE-3C8A9DC2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0AA-6B1C-4C4D-97B9-983C628C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F29-E8EE-41EC-9705-84B2F1C9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690-C17A-4969-A1F5-47B044F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49F-1953-4B77-8E51-F1DFBC5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657-E712-4872-8D8D-BE68139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564-532B-47DA-AF8A-1D291FA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B01-94EE-49EA-8DF0-7DDFB2E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C36-0FB6-4478-9485-13267B6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638-E8AA-4E32-8D6B-7886C942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sin@energetics.il.co" TargetMode="External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00200"/>
            <a:ext cx="914400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. Dardik, T. Zilov, H. Branover, A. El-Boher, E. Greenspan, B. Khachatur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. Krakov, S. Lesin and M. Tsi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Energetics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P.O.Box 3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Omer Industrial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Omer, 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lesin@energetics.il.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sented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6th International Workshop on Anomalies in Hydrogen / Deuterium loaded Me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13-16 May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enna -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1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EXCESS HEAT IN ELECTROLYSIS EXPERIMENTS AT ENERGETICS TECHNOLOGI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8160" y="990720"/>
            <a:ext cx="11506320" cy="586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ENERGETICS   TECHNOLOGIES 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28600" y="291960"/>
            <a:ext cx="9677520" cy="6946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182520"/>
            <a:ext cx="716292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ENERGETICS   TECHNOLOGIES 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2865240" cy="3819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Plasma Etching of Pd ca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191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Pd foil in alumina holder (cath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71600" y="3124080"/>
            <a:ext cx="380880" cy="99072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3124080"/>
            <a:ext cx="4572000" cy="99072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44956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Molybdenum 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172200" y="3352320"/>
            <a:ext cx="152280" cy="1143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410080"/>
            <a:ext cx="746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Application of Plasma etching with different gases (deuterium, argon, helium, argon – oxygen, deuterium – argon, deuterium – helium) of Pd foil before electrolytic loading, gave excess heat generation ( 10 – 73%) in 5 experiments out of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809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Quartz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343400" cy="4019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337280" cy="401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Plasma Etching of Pd ca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627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Pd surface after Ar plasma bombar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562720"/>
            <a:ext cx="3581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Pd surface after D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 plasma bombar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09120" y="1143000"/>
            <a:ext cx="3048480" cy="4571640"/>
            <a:chOff x="609120" y="1143000"/>
            <a:chExt cx="3048480" cy="4571640"/>
          </a:xfrm>
        </p:grpSpPr>
        <p:sp>
          <p:nvSpPr>
            <p:cNvPr id="173" name=""/>
            <p:cNvSpPr/>
            <p:nvPr/>
          </p:nvSpPr>
          <p:spPr>
            <a:xfrm>
              <a:off x="2015640" y="2286000"/>
              <a:ext cx="145800" cy="2571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76840" y="1476000"/>
              <a:ext cx="145908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015280" y="1143000"/>
              <a:ext cx="36360" cy="11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39080" y="1428840"/>
              <a:ext cx="1313280" cy="88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6840" y="4790880"/>
              <a:ext cx="158076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9120" y="4806000"/>
              <a:ext cx="145908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015640" y="2285640"/>
              <a:ext cx="1094400" cy="1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98160" y="4857840"/>
              <a:ext cx="911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27880" y="2286000"/>
              <a:ext cx="0" cy="257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0680" y="3000240"/>
              <a:ext cx="5468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0-55 m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3760" y="2714760"/>
              <a:ext cx="911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158200" y="2714760"/>
              <a:ext cx="364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160" y="2428920"/>
              <a:ext cx="16412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5-3.0 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914400"/>
            <a:ext cx="5486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Book Antiqua"/>
              </a:rPr>
              <a:t>Target 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Pd foil 30-35 µm, prepared by rolling of  0.5 mm Pd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Annealed at  870</a:t>
            </a:r>
            <a:r>
              <a:rPr b="1" lang="en-US" sz="1600" spc="-1" strike="noStrike" baseline="30000">
                <a:solidFill>
                  <a:srgbClr val="0066ff"/>
                </a:solidFill>
                <a:latin typeface="Book Antiqua"/>
              </a:rPr>
              <a:t>0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C in vacuum during 1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ch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in Nitric Acid 65-67%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in Aqua Regia 1:1 water solution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Rin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D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O four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hanol 95%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hanol Absolute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Dr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  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in vacuum at amb. temperature  24 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Book Antiqua"/>
              </a:rPr>
              <a:t>Electroly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0.3M LiOD in D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O Low Tritium Content 35 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908520" cy="5209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2895120" y="2895480"/>
            <a:ext cx="3048120" cy="685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24080" y="1981080"/>
            <a:ext cx="2438640" cy="1143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352680" y="5105520"/>
            <a:ext cx="3733920" cy="83808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5638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Quartz B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75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Axial Centered Cath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124080" y="4495680"/>
            <a:ext cx="3353040" cy="381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4191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Tefl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Helical Pt a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6324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Book Antiqua"/>
              </a:rPr>
              <a:t>Schematic View of Ultra Sound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14400" y="609480"/>
            <a:ext cx="6896160" cy="5715000"/>
            <a:chOff x="914400" y="609480"/>
            <a:chExt cx="6896160" cy="5715000"/>
          </a:xfrm>
        </p:grpSpPr>
        <p:sp>
          <p:nvSpPr>
            <p:cNvPr id="200" name=""/>
            <p:cNvSpPr/>
            <p:nvPr/>
          </p:nvSpPr>
          <p:spPr>
            <a:xfrm>
              <a:off x="2606760" y="1490400"/>
              <a:ext cx="325260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06760" y="1861920"/>
              <a:ext cx="3252600" cy="4462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86160" y="1614240"/>
              <a:ext cx="1692360" cy="34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6160" y="2111400"/>
              <a:ext cx="1692360" cy="2973240"/>
            </a:xfrm>
            <a:prstGeom prst="rect">
              <a:avLst/>
            </a:prstGeom>
            <a:blipFill rotWithShape="0">
              <a:blip r:embed="rId2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5600" y="5705280"/>
              <a:ext cx="2733480" cy="495360"/>
              <a:chOff x="2865600" y="5705280"/>
              <a:chExt cx="2733480" cy="49536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5600" y="5705280"/>
                <a:ext cx="2733480" cy="24768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65600" y="5952960"/>
                <a:ext cx="2733480" cy="24768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776760" y="2482560"/>
              <a:ext cx="1041480" cy="2230560"/>
              <a:chOff x="3776760" y="2482560"/>
              <a:chExt cx="1041480" cy="2230560"/>
            </a:xfrm>
          </p:grpSpPr>
          <p:sp>
            <p:nvSpPr>
              <p:cNvPr id="208" name=""/>
              <p:cNvSpPr/>
              <p:nvPr/>
            </p:nvSpPr>
            <p:spPr>
              <a:xfrm>
                <a:off x="3776760" y="2482560"/>
                <a:ext cx="1041480" cy="2230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>
                  <a:alphaModFix amt="22000"/>
                </a:blip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97320" y="2730240"/>
                <a:ext cx="0" cy="173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2865600" y="1242720"/>
              <a:ext cx="0" cy="458640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9080" y="1242720"/>
              <a:ext cx="0" cy="483408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85840" y="2606400"/>
              <a:ext cx="390600" cy="2478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9680" y="2606400"/>
              <a:ext cx="388800" cy="2478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8480" y="3473280"/>
              <a:ext cx="14320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ltrasound Cylindrical Transmi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76760" y="4713120"/>
              <a:ext cx="1041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lectroly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99000" y="609480"/>
              <a:ext cx="303120" cy="2200320"/>
            </a:xfrm>
            <a:custGeom>
              <a:avLst/>
              <a:gdLst/>
              <a:ahLst/>
              <a:rect l="l" t="t" r="r" b="b"/>
              <a:pathLst>
                <a:path w="419" h="3195">
                  <a:moveTo>
                    <a:pt x="105" y="3195"/>
                  </a:moveTo>
                  <a:cubicBezTo>
                    <a:pt x="44" y="3010"/>
                    <a:pt x="89" y="3166"/>
                    <a:pt x="52" y="2802"/>
                  </a:cubicBezTo>
                  <a:cubicBezTo>
                    <a:pt x="37" y="2653"/>
                    <a:pt x="16" y="2505"/>
                    <a:pt x="0" y="2357"/>
                  </a:cubicBezTo>
                  <a:cubicBezTo>
                    <a:pt x="35" y="1824"/>
                    <a:pt x="10" y="2094"/>
                    <a:pt x="79" y="1545"/>
                  </a:cubicBezTo>
                  <a:cubicBezTo>
                    <a:pt x="106" y="1330"/>
                    <a:pt x="110" y="1049"/>
                    <a:pt x="131" y="838"/>
                  </a:cubicBezTo>
                  <a:cubicBezTo>
                    <a:pt x="150" y="649"/>
                    <a:pt x="229" y="467"/>
                    <a:pt x="288" y="288"/>
                  </a:cubicBezTo>
                  <a:cubicBezTo>
                    <a:pt x="298" y="258"/>
                    <a:pt x="327" y="239"/>
                    <a:pt x="340" y="210"/>
                  </a:cubicBezTo>
                  <a:cubicBezTo>
                    <a:pt x="363" y="160"/>
                    <a:pt x="369" y="103"/>
                    <a:pt x="393" y="53"/>
                  </a:cubicBezTo>
                  <a:cubicBezTo>
                    <a:pt x="402" y="35"/>
                    <a:pt x="410" y="18"/>
                    <a:pt x="41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6160" y="609480"/>
              <a:ext cx="193680" cy="2127240"/>
            </a:xfrm>
            <a:custGeom>
              <a:avLst/>
              <a:gdLst/>
              <a:ahLst/>
              <a:rect l="l" t="t" r="r" b="b"/>
              <a:pathLst>
                <a:path w="268" h="3090">
                  <a:moveTo>
                    <a:pt x="0" y="3090"/>
                  </a:moveTo>
                  <a:cubicBezTo>
                    <a:pt x="116" y="2737"/>
                    <a:pt x="129" y="2386"/>
                    <a:pt x="157" y="2016"/>
                  </a:cubicBezTo>
                  <a:cubicBezTo>
                    <a:pt x="185" y="1643"/>
                    <a:pt x="253" y="1264"/>
                    <a:pt x="261" y="891"/>
                  </a:cubicBezTo>
                  <a:cubicBezTo>
                    <a:pt x="268" y="594"/>
                    <a:pt x="261" y="297"/>
                    <a:pt x="26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838080"/>
              <a:ext cx="1690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thode (Pd  wir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95560" y="995400"/>
              <a:ext cx="143208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ode (Pt Heli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16480" y="5332320"/>
              <a:ext cx="1952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ling Jac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44720" y="747720"/>
              <a:ext cx="1820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ling Water in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695600" y="1242720"/>
              <a:ext cx="11700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89680" y="1366560"/>
              <a:ext cx="1690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ling Water out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599080" y="1242720"/>
              <a:ext cx="11700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4400" y="1242720"/>
              <a:ext cx="6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99400" y="1242720"/>
              <a:ext cx="6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467800" y="3009600"/>
              <a:ext cx="1734120" cy="1398240"/>
              <a:chOff x="2467800" y="3009600"/>
              <a:chExt cx="1734120" cy="13982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467800" y="3009600"/>
                <a:ext cx="1734120" cy="1398240"/>
                <a:chOff x="2467800" y="3009600"/>
                <a:chExt cx="1734120" cy="1398240"/>
              </a:xfrm>
            </p:grpSpPr>
            <p:sp>
              <p:nvSpPr>
                <p:cNvPr id="229" name=""/>
                <p:cNvSpPr/>
                <p:nvPr/>
              </p:nvSpPr>
              <p:spPr>
                <a:xfrm rot="5400000">
                  <a:off x="2550600" y="3560760"/>
                  <a:ext cx="129600" cy="295560"/>
                </a:xfrm>
                <a:custGeom>
                  <a:avLst/>
                  <a:gdLst/>
                  <a:ahLst/>
                  <a:rect l="l" t="t" r="r" b="b"/>
                  <a:pathLst>
                    <a:path w="171" h="172">
                      <a:moveTo>
                        <a:pt x="87" y="0"/>
                      </a:moveTo>
                      <a:lnTo>
                        <a:pt x="70" y="2"/>
                      </a:lnTo>
                      <a:lnTo>
                        <a:pt x="54" y="8"/>
                      </a:lnTo>
                      <a:lnTo>
                        <a:pt x="39" y="15"/>
                      </a:lnTo>
                      <a:lnTo>
                        <a:pt x="26" y="26"/>
                      </a:lnTo>
                      <a:lnTo>
                        <a:pt x="15" y="39"/>
                      </a:lnTo>
                      <a:lnTo>
                        <a:pt x="8" y="54"/>
                      </a:lnTo>
                      <a:lnTo>
                        <a:pt x="2" y="70"/>
                      </a:lnTo>
                      <a:lnTo>
                        <a:pt x="0" y="87"/>
                      </a:lnTo>
                      <a:lnTo>
                        <a:pt x="2" y="104"/>
                      </a:lnTo>
                      <a:lnTo>
                        <a:pt x="8" y="120"/>
                      </a:lnTo>
                      <a:lnTo>
                        <a:pt x="15" y="135"/>
                      </a:lnTo>
                      <a:lnTo>
                        <a:pt x="26" y="148"/>
                      </a:lnTo>
                      <a:lnTo>
                        <a:pt x="39" y="158"/>
                      </a:lnTo>
                      <a:lnTo>
                        <a:pt x="54" y="165"/>
                      </a:lnTo>
                      <a:lnTo>
                        <a:pt x="70" y="171"/>
                      </a:lnTo>
                      <a:lnTo>
                        <a:pt x="87" y="172"/>
                      </a:lnTo>
                      <a:lnTo>
                        <a:pt x="104" y="171"/>
                      </a:lnTo>
                      <a:lnTo>
                        <a:pt x="120" y="165"/>
                      </a:lnTo>
                      <a:lnTo>
                        <a:pt x="133" y="158"/>
                      </a:lnTo>
                      <a:lnTo>
                        <a:pt x="146" y="148"/>
                      </a:lnTo>
                      <a:lnTo>
                        <a:pt x="156" y="135"/>
                      </a:lnTo>
                      <a:lnTo>
                        <a:pt x="163" y="120"/>
                      </a:lnTo>
                      <a:lnTo>
                        <a:pt x="169" y="104"/>
                      </a:lnTo>
                      <a:lnTo>
                        <a:pt x="171" y="87"/>
                      </a:lnTo>
                      <a:lnTo>
                        <a:pt x="169" y="70"/>
                      </a:lnTo>
                      <a:lnTo>
                        <a:pt x="163" y="54"/>
                      </a:lnTo>
                      <a:lnTo>
                        <a:pt x="156" y="39"/>
                      </a:lnTo>
                      <a:lnTo>
                        <a:pt x="146" y="26"/>
                      </a:lnTo>
                      <a:lnTo>
                        <a:pt x="133" y="15"/>
                      </a:lnTo>
                      <a:lnTo>
                        <a:pt x="120" y="8"/>
                      </a:lnTo>
                      <a:lnTo>
                        <a:pt x="104" y="2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5400000">
                  <a:off x="3057840" y="2565720"/>
                  <a:ext cx="700200" cy="1587960"/>
                </a:xfrm>
                <a:custGeom>
                  <a:avLst/>
                  <a:gdLst/>
                  <a:ahLst/>
                  <a:rect l="l" t="t" r="r" b="b"/>
                  <a:pathLst>
                    <a:path w="923" h="923">
                      <a:moveTo>
                        <a:pt x="54" y="923"/>
                      </a:moveTo>
                      <a:lnTo>
                        <a:pt x="54" y="923"/>
                      </a:lnTo>
                      <a:lnTo>
                        <a:pt x="57" y="834"/>
                      </a:lnTo>
                      <a:lnTo>
                        <a:pt x="72" y="747"/>
                      </a:lnTo>
                      <a:lnTo>
                        <a:pt x="93" y="663"/>
                      </a:lnTo>
                      <a:lnTo>
                        <a:pt x="122" y="584"/>
                      </a:lnTo>
                      <a:lnTo>
                        <a:pt x="158" y="509"/>
                      </a:lnTo>
                      <a:lnTo>
                        <a:pt x="202" y="437"/>
                      </a:lnTo>
                      <a:lnTo>
                        <a:pt x="252" y="370"/>
                      </a:lnTo>
                      <a:lnTo>
                        <a:pt x="308" y="308"/>
                      </a:lnTo>
                      <a:lnTo>
                        <a:pt x="370" y="252"/>
                      </a:lnTo>
                      <a:lnTo>
                        <a:pt x="437" y="202"/>
                      </a:lnTo>
                      <a:lnTo>
                        <a:pt x="509" y="158"/>
                      </a:lnTo>
                      <a:lnTo>
                        <a:pt x="584" y="122"/>
                      </a:lnTo>
                      <a:lnTo>
                        <a:pt x="663" y="93"/>
                      </a:lnTo>
                      <a:lnTo>
                        <a:pt x="747" y="72"/>
                      </a:lnTo>
                      <a:lnTo>
                        <a:pt x="833" y="57"/>
                      </a:lnTo>
                      <a:lnTo>
                        <a:pt x="923" y="55"/>
                      </a:lnTo>
                      <a:lnTo>
                        <a:pt x="923" y="0"/>
                      </a:lnTo>
                      <a:lnTo>
                        <a:pt x="831" y="5"/>
                      </a:lnTo>
                      <a:lnTo>
                        <a:pt x="738" y="20"/>
                      </a:lnTo>
                      <a:lnTo>
                        <a:pt x="649" y="42"/>
                      </a:lnTo>
                      <a:lnTo>
                        <a:pt x="564" y="73"/>
                      </a:lnTo>
                      <a:lnTo>
                        <a:pt x="483" y="112"/>
                      </a:lnTo>
                      <a:lnTo>
                        <a:pt x="408" y="158"/>
                      </a:lnTo>
                      <a:lnTo>
                        <a:pt x="336" y="212"/>
                      </a:lnTo>
                      <a:lnTo>
                        <a:pt x="271" y="271"/>
                      </a:lnTo>
                      <a:lnTo>
                        <a:pt x="212" y="336"/>
                      </a:lnTo>
                      <a:lnTo>
                        <a:pt x="158" y="408"/>
                      </a:lnTo>
                      <a:lnTo>
                        <a:pt x="112" y="483"/>
                      </a:lnTo>
                      <a:lnTo>
                        <a:pt x="73" y="564"/>
                      </a:lnTo>
                      <a:lnTo>
                        <a:pt x="41" y="649"/>
                      </a:lnTo>
                      <a:lnTo>
                        <a:pt x="20" y="738"/>
                      </a:lnTo>
                      <a:lnTo>
                        <a:pt x="5" y="831"/>
                      </a:lnTo>
                      <a:lnTo>
                        <a:pt x="0" y="923"/>
                      </a:lnTo>
                      <a:lnTo>
                        <a:pt x="0" y="923"/>
                      </a:lnTo>
                      <a:lnTo>
                        <a:pt x="54" y="923"/>
                      </a:lnTo>
                      <a:close/>
                    </a:path>
                  </a:pathLst>
                </a:custGeom>
                <a:solidFill>
                  <a:srgbClr val="23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5400000">
                  <a:off x="3058920" y="3264840"/>
                  <a:ext cx="698040" cy="1587960"/>
                </a:xfrm>
                <a:custGeom>
                  <a:avLst/>
                  <a:gdLst/>
                  <a:ahLst/>
                  <a:rect l="l" t="t" r="r" b="b"/>
                  <a:pathLst>
                    <a:path w="920" h="923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89" y="57"/>
                      </a:lnTo>
                      <a:lnTo>
                        <a:pt x="176" y="72"/>
                      </a:lnTo>
                      <a:lnTo>
                        <a:pt x="258" y="93"/>
                      </a:lnTo>
                      <a:lnTo>
                        <a:pt x="337" y="122"/>
                      </a:lnTo>
                      <a:lnTo>
                        <a:pt x="413" y="158"/>
                      </a:lnTo>
                      <a:lnTo>
                        <a:pt x="485" y="202"/>
                      </a:lnTo>
                      <a:lnTo>
                        <a:pt x="550" y="252"/>
                      </a:lnTo>
                      <a:lnTo>
                        <a:pt x="612" y="308"/>
                      </a:lnTo>
                      <a:lnTo>
                        <a:pt x="668" y="370"/>
                      </a:lnTo>
                      <a:lnTo>
                        <a:pt x="718" y="437"/>
                      </a:lnTo>
                      <a:lnTo>
                        <a:pt x="762" y="509"/>
                      </a:lnTo>
                      <a:lnTo>
                        <a:pt x="798" y="584"/>
                      </a:lnTo>
                      <a:lnTo>
                        <a:pt x="827" y="663"/>
                      </a:lnTo>
                      <a:lnTo>
                        <a:pt x="848" y="747"/>
                      </a:lnTo>
                      <a:lnTo>
                        <a:pt x="863" y="834"/>
                      </a:lnTo>
                      <a:lnTo>
                        <a:pt x="865" y="923"/>
                      </a:lnTo>
                      <a:lnTo>
                        <a:pt x="920" y="923"/>
                      </a:lnTo>
                      <a:lnTo>
                        <a:pt x="915" y="831"/>
                      </a:lnTo>
                      <a:lnTo>
                        <a:pt x="900" y="738"/>
                      </a:lnTo>
                      <a:lnTo>
                        <a:pt x="878" y="649"/>
                      </a:lnTo>
                      <a:lnTo>
                        <a:pt x="847" y="564"/>
                      </a:lnTo>
                      <a:lnTo>
                        <a:pt x="808" y="483"/>
                      </a:lnTo>
                      <a:lnTo>
                        <a:pt x="762" y="408"/>
                      </a:lnTo>
                      <a:lnTo>
                        <a:pt x="708" y="336"/>
                      </a:lnTo>
                      <a:lnTo>
                        <a:pt x="649" y="271"/>
                      </a:lnTo>
                      <a:lnTo>
                        <a:pt x="584" y="212"/>
                      </a:lnTo>
                      <a:lnTo>
                        <a:pt x="513" y="158"/>
                      </a:lnTo>
                      <a:lnTo>
                        <a:pt x="438" y="112"/>
                      </a:lnTo>
                      <a:lnTo>
                        <a:pt x="358" y="73"/>
                      </a:lnTo>
                      <a:lnTo>
                        <a:pt x="273" y="42"/>
                      </a:lnTo>
                      <a:lnTo>
                        <a:pt x="185" y="20"/>
                      </a:lnTo>
                      <a:lnTo>
                        <a:pt x="92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23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5400000">
                  <a:off x="2952360" y="2837160"/>
                  <a:ext cx="534240" cy="1211040"/>
                </a:xfrm>
                <a:custGeom>
                  <a:avLst/>
                  <a:gdLst/>
                  <a:ahLst/>
                  <a:rect l="l" t="t" r="r" b="b"/>
                  <a:pathLst>
                    <a:path w="704" h="704">
                      <a:moveTo>
                        <a:pt x="55" y="704"/>
                      </a:moveTo>
                      <a:lnTo>
                        <a:pt x="55" y="704"/>
                      </a:lnTo>
                      <a:lnTo>
                        <a:pt x="56" y="636"/>
                      </a:lnTo>
                      <a:lnTo>
                        <a:pt x="68" y="571"/>
                      </a:lnTo>
                      <a:lnTo>
                        <a:pt x="84" y="511"/>
                      </a:lnTo>
                      <a:lnTo>
                        <a:pt x="105" y="450"/>
                      </a:lnTo>
                      <a:lnTo>
                        <a:pt x="133" y="394"/>
                      </a:lnTo>
                      <a:lnTo>
                        <a:pt x="164" y="340"/>
                      </a:lnTo>
                      <a:lnTo>
                        <a:pt x="202" y="290"/>
                      </a:lnTo>
                      <a:lnTo>
                        <a:pt x="244" y="244"/>
                      </a:lnTo>
                      <a:lnTo>
                        <a:pt x="290" y="202"/>
                      </a:lnTo>
                      <a:lnTo>
                        <a:pt x="340" y="164"/>
                      </a:lnTo>
                      <a:lnTo>
                        <a:pt x="394" y="133"/>
                      </a:lnTo>
                      <a:lnTo>
                        <a:pt x="450" y="105"/>
                      </a:lnTo>
                      <a:lnTo>
                        <a:pt x="511" y="84"/>
                      </a:lnTo>
                      <a:lnTo>
                        <a:pt x="571" y="68"/>
                      </a:lnTo>
                      <a:lnTo>
                        <a:pt x="636" y="56"/>
                      </a:lnTo>
                      <a:lnTo>
                        <a:pt x="704" y="55"/>
                      </a:lnTo>
                      <a:lnTo>
                        <a:pt x="704" y="0"/>
                      </a:lnTo>
                      <a:lnTo>
                        <a:pt x="633" y="4"/>
                      </a:lnTo>
                      <a:lnTo>
                        <a:pt x="563" y="16"/>
                      </a:lnTo>
                      <a:lnTo>
                        <a:pt x="496" y="32"/>
                      </a:lnTo>
                      <a:lnTo>
                        <a:pt x="430" y="56"/>
                      </a:lnTo>
                      <a:lnTo>
                        <a:pt x="368" y="87"/>
                      </a:lnTo>
                      <a:lnTo>
                        <a:pt x="311" y="121"/>
                      </a:lnTo>
                      <a:lnTo>
                        <a:pt x="258" y="162"/>
                      </a:lnTo>
                      <a:lnTo>
                        <a:pt x="206" y="206"/>
                      </a:lnTo>
                      <a:lnTo>
                        <a:pt x="161" y="258"/>
                      </a:lnTo>
                      <a:lnTo>
                        <a:pt x="121" y="312"/>
                      </a:lnTo>
                      <a:lnTo>
                        <a:pt x="86" y="368"/>
                      </a:lnTo>
                      <a:lnTo>
                        <a:pt x="56" y="430"/>
                      </a:lnTo>
                      <a:lnTo>
                        <a:pt x="32" y="496"/>
                      </a:lnTo>
                      <a:lnTo>
                        <a:pt x="16" y="563"/>
                      </a:lnTo>
                      <a:lnTo>
                        <a:pt x="4" y="633"/>
                      </a:lnTo>
                      <a:lnTo>
                        <a:pt x="0" y="704"/>
                      </a:lnTo>
                      <a:lnTo>
                        <a:pt x="0" y="704"/>
                      </a:lnTo>
                      <a:lnTo>
                        <a:pt x="55" y="704"/>
                      </a:lnTo>
                      <a:close/>
                    </a:path>
                  </a:pathLst>
                </a:custGeom>
                <a:solidFill>
                  <a:srgbClr val="449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5400000">
                  <a:off x="2953080" y="3370680"/>
                  <a:ext cx="532800" cy="1211040"/>
                </a:xfrm>
                <a:custGeom>
                  <a:avLst/>
                  <a:gdLst/>
                  <a:ahLst/>
                  <a:rect l="l" t="t" r="r" b="b"/>
                  <a:pathLst>
                    <a:path w="702" h="704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66" y="56"/>
                      </a:lnTo>
                      <a:lnTo>
                        <a:pt x="131" y="68"/>
                      </a:lnTo>
                      <a:lnTo>
                        <a:pt x="193" y="84"/>
                      </a:lnTo>
                      <a:lnTo>
                        <a:pt x="252" y="105"/>
                      </a:lnTo>
                      <a:lnTo>
                        <a:pt x="309" y="133"/>
                      </a:lnTo>
                      <a:lnTo>
                        <a:pt x="362" y="164"/>
                      </a:lnTo>
                      <a:lnTo>
                        <a:pt x="413" y="202"/>
                      </a:lnTo>
                      <a:lnTo>
                        <a:pt x="459" y="244"/>
                      </a:lnTo>
                      <a:lnTo>
                        <a:pt x="501" y="290"/>
                      </a:lnTo>
                      <a:lnTo>
                        <a:pt x="538" y="340"/>
                      </a:lnTo>
                      <a:lnTo>
                        <a:pt x="570" y="394"/>
                      </a:lnTo>
                      <a:lnTo>
                        <a:pt x="597" y="450"/>
                      </a:lnTo>
                      <a:lnTo>
                        <a:pt x="619" y="511"/>
                      </a:lnTo>
                      <a:lnTo>
                        <a:pt x="635" y="571"/>
                      </a:lnTo>
                      <a:lnTo>
                        <a:pt x="646" y="636"/>
                      </a:lnTo>
                      <a:lnTo>
                        <a:pt x="648" y="704"/>
                      </a:lnTo>
                      <a:lnTo>
                        <a:pt x="702" y="704"/>
                      </a:lnTo>
                      <a:lnTo>
                        <a:pt x="698" y="633"/>
                      </a:lnTo>
                      <a:lnTo>
                        <a:pt x="687" y="563"/>
                      </a:lnTo>
                      <a:lnTo>
                        <a:pt x="671" y="496"/>
                      </a:lnTo>
                      <a:lnTo>
                        <a:pt x="646" y="430"/>
                      </a:lnTo>
                      <a:lnTo>
                        <a:pt x="616" y="368"/>
                      </a:lnTo>
                      <a:lnTo>
                        <a:pt x="581" y="312"/>
                      </a:lnTo>
                      <a:lnTo>
                        <a:pt x="541" y="258"/>
                      </a:lnTo>
                      <a:lnTo>
                        <a:pt x="496" y="206"/>
                      </a:lnTo>
                      <a:lnTo>
                        <a:pt x="444" y="162"/>
                      </a:lnTo>
                      <a:lnTo>
                        <a:pt x="391" y="121"/>
                      </a:lnTo>
                      <a:lnTo>
                        <a:pt x="335" y="87"/>
                      </a:lnTo>
                      <a:lnTo>
                        <a:pt x="273" y="56"/>
                      </a:lnTo>
                      <a:lnTo>
                        <a:pt x="208" y="32"/>
                      </a:lnTo>
                      <a:lnTo>
                        <a:pt x="140" y="16"/>
                      </a:lnTo>
                      <a:lnTo>
                        <a:pt x="72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449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5400000">
                  <a:off x="2850480" y="3099960"/>
                  <a:ext cx="373320" cy="846000"/>
                </a:xfrm>
                <a:custGeom>
                  <a:avLst/>
                  <a:gdLst/>
                  <a:ahLst/>
                  <a:rect l="l" t="t" r="r" b="b"/>
                  <a:pathLst>
                    <a:path w="492" h="492">
                      <a:moveTo>
                        <a:pt x="55" y="492"/>
                      </a:moveTo>
                      <a:lnTo>
                        <a:pt x="55" y="492"/>
                      </a:lnTo>
                      <a:lnTo>
                        <a:pt x="56" y="447"/>
                      </a:lnTo>
                      <a:lnTo>
                        <a:pt x="63" y="403"/>
                      </a:lnTo>
                      <a:lnTo>
                        <a:pt x="74" y="361"/>
                      </a:lnTo>
                      <a:lnTo>
                        <a:pt x="88" y="322"/>
                      </a:lnTo>
                      <a:lnTo>
                        <a:pt x="107" y="283"/>
                      </a:lnTo>
                      <a:lnTo>
                        <a:pt x="128" y="247"/>
                      </a:lnTo>
                      <a:lnTo>
                        <a:pt x="153" y="212"/>
                      </a:lnTo>
                      <a:lnTo>
                        <a:pt x="182" y="182"/>
                      </a:lnTo>
                      <a:lnTo>
                        <a:pt x="212" y="153"/>
                      </a:lnTo>
                      <a:lnTo>
                        <a:pt x="247" y="128"/>
                      </a:lnTo>
                      <a:lnTo>
                        <a:pt x="283" y="107"/>
                      </a:lnTo>
                      <a:lnTo>
                        <a:pt x="322" y="88"/>
                      </a:lnTo>
                      <a:lnTo>
                        <a:pt x="361" y="74"/>
                      </a:lnTo>
                      <a:lnTo>
                        <a:pt x="402" y="64"/>
                      </a:lnTo>
                      <a:lnTo>
                        <a:pt x="447" y="56"/>
                      </a:lnTo>
                      <a:lnTo>
                        <a:pt x="492" y="55"/>
                      </a:lnTo>
                      <a:lnTo>
                        <a:pt x="492" y="0"/>
                      </a:lnTo>
                      <a:lnTo>
                        <a:pt x="441" y="4"/>
                      </a:lnTo>
                      <a:lnTo>
                        <a:pt x="394" y="12"/>
                      </a:lnTo>
                      <a:lnTo>
                        <a:pt x="346" y="22"/>
                      </a:lnTo>
                      <a:lnTo>
                        <a:pt x="301" y="39"/>
                      </a:lnTo>
                      <a:lnTo>
                        <a:pt x="257" y="61"/>
                      </a:lnTo>
                      <a:lnTo>
                        <a:pt x="218" y="85"/>
                      </a:lnTo>
                      <a:lnTo>
                        <a:pt x="180" y="113"/>
                      </a:lnTo>
                      <a:lnTo>
                        <a:pt x="144" y="144"/>
                      </a:lnTo>
                      <a:lnTo>
                        <a:pt x="112" y="180"/>
                      </a:lnTo>
                      <a:lnTo>
                        <a:pt x="85" y="218"/>
                      </a:lnTo>
                      <a:lnTo>
                        <a:pt x="61" y="257"/>
                      </a:lnTo>
                      <a:lnTo>
                        <a:pt x="39" y="302"/>
                      </a:lnTo>
                      <a:lnTo>
                        <a:pt x="22" y="346"/>
                      </a:lnTo>
                      <a:lnTo>
                        <a:pt x="11" y="394"/>
                      </a:lnTo>
                      <a:lnTo>
                        <a:pt x="4" y="441"/>
                      </a:lnTo>
                      <a:lnTo>
                        <a:pt x="0" y="492"/>
                      </a:lnTo>
                      <a:lnTo>
                        <a:pt x="0" y="492"/>
                      </a:lnTo>
                      <a:lnTo>
                        <a:pt x="55" y="492"/>
                      </a:lnTo>
                      <a:close/>
                    </a:path>
                  </a:pathLst>
                </a:custGeom>
                <a:solidFill>
                  <a:srgbClr val="70a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5400000">
                  <a:off x="2851200" y="3472560"/>
                  <a:ext cx="371880" cy="846000"/>
                </a:xfrm>
                <a:custGeom>
                  <a:avLst/>
                  <a:gdLst/>
                  <a:ahLst/>
                  <a:rect l="l" t="t" r="r" b="b"/>
                  <a:pathLst>
                    <a:path w="490" h="492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45" y="56"/>
                      </a:lnTo>
                      <a:lnTo>
                        <a:pt x="89" y="64"/>
                      </a:lnTo>
                      <a:lnTo>
                        <a:pt x="130" y="74"/>
                      </a:lnTo>
                      <a:lnTo>
                        <a:pt x="170" y="88"/>
                      </a:lnTo>
                      <a:lnTo>
                        <a:pt x="208" y="107"/>
                      </a:lnTo>
                      <a:lnTo>
                        <a:pt x="244" y="128"/>
                      </a:lnTo>
                      <a:lnTo>
                        <a:pt x="278" y="153"/>
                      </a:lnTo>
                      <a:lnTo>
                        <a:pt x="309" y="182"/>
                      </a:lnTo>
                      <a:lnTo>
                        <a:pt x="337" y="212"/>
                      </a:lnTo>
                      <a:lnTo>
                        <a:pt x="362" y="247"/>
                      </a:lnTo>
                      <a:lnTo>
                        <a:pt x="384" y="283"/>
                      </a:lnTo>
                      <a:lnTo>
                        <a:pt x="402" y="322"/>
                      </a:lnTo>
                      <a:lnTo>
                        <a:pt x="417" y="361"/>
                      </a:lnTo>
                      <a:lnTo>
                        <a:pt x="427" y="403"/>
                      </a:lnTo>
                      <a:lnTo>
                        <a:pt x="434" y="447"/>
                      </a:lnTo>
                      <a:lnTo>
                        <a:pt x="436" y="492"/>
                      </a:lnTo>
                      <a:lnTo>
                        <a:pt x="490" y="492"/>
                      </a:lnTo>
                      <a:lnTo>
                        <a:pt x="486" y="441"/>
                      </a:lnTo>
                      <a:lnTo>
                        <a:pt x="479" y="394"/>
                      </a:lnTo>
                      <a:lnTo>
                        <a:pt x="469" y="346"/>
                      </a:lnTo>
                      <a:lnTo>
                        <a:pt x="451" y="302"/>
                      </a:lnTo>
                      <a:lnTo>
                        <a:pt x="430" y="257"/>
                      </a:lnTo>
                      <a:lnTo>
                        <a:pt x="405" y="218"/>
                      </a:lnTo>
                      <a:lnTo>
                        <a:pt x="378" y="180"/>
                      </a:lnTo>
                      <a:lnTo>
                        <a:pt x="346" y="144"/>
                      </a:lnTo>
                      <a:lnTo>
                        <a:pt x="310" y="113"/>
                      </a:lnTo>
                      <a:lnTo>
                        <a:pt x="273" y="85"/>
                      </a:lnTo>
                      <a:lnTo>
                        <a:pt x="234" y="61"/>
                      </a:lnTo>
                      <a:lnTo>
                        <a:pt x="190" y="39"/>
                      </a:lnTo>
                      <a:lnTo>
                        <a:pt x="144" y="22"/>
                      </a:lnTo>
                      <a:lnTo>
                        <a:pt x="98" y="12"/>
                      </a:lnTo>
                      <a:lnTo>
                        <a:pt x="5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70a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5400000">
                  <a:off x="2755440" y="3345480"/>
                  <a:ext cx="223200" cy="505440"/>
                </a:xfrm>
                <a:custGeom>
                  <a:avLst/>
                  <a:gdLst/>
                  <a:ahLst/>
                  <a:rect l="l" t="t" r="r" b="b"/>
                  <a:pathLst>
                    <a:path w="294" h="294">
                      <a:moveTo>
                        <a:pt x="54" y="294"/>
                      </a:moveTo>
                      <a:lnTo>
                        <a:pt x="54" y="294"/>
                      </a:lnTo>
                      <a:lnTo>
                        <a:pt x="54" y="269"/>
                      </a:lnTo>
                      <a:lnTo>
                        <a:pt x="59" y="245"/>
                      </a:lnTo>
                      <a:lnTo>
                        <a:pt x="65" y="222"/>
                      </a:lnTo>
                      <a:lnTo>
                        <a:pt x="73" y="200"/>
                      </a:lnTo>
                      <a:lnTo>
                        <a:pt x="82" y="180"/>
                      </a:lnTo>
                      <a:lnTo>
                        <a:pt x="95" y="160"/>
                      </a:lnTo>
                      <a:lnTo>
                        <a:pt x="108" y="140"/>
                      </a:lnTo>
                      <a:lnTo>
                        <a:pt x="124" y="124"/>
                      </a:lnTo>
                      <a:lnTo>
                        <a:pt x="140" y="108"/>
                      </a:lnTo>
                      <a:lnTo>
                        <a:pt x="160" y="95"/>
                      </a:lnTo>
                      <a:lnTo>
                        <a:pt x="180" y="82"/>
                      </a:lnTo>
                      <a:lnTo>
                        <a:pt x="200" y="73"/>
                      </a:lnTo>
                      <a:lnTo>
                        <a:pt x="222" y="65"/>
                      </a:lnTo>
                      <a:lnTo>
                        <a:pt x="245" y="59"/>
                      </a:lnTo>
                      <a:lnTo>
                        <a:pt x="269" y="55"/>
                      </a:lnTo>
                      <a:lnTo>
                        <a:pt x="294" y="55"/>
                      </a:lnTo>
                      <a:lnTo>
                        <a:pt x="294" y="0"/>
                      </a:lnTo>
                      <a:lnTo>
                        <a:pt x="264" y="3"/>
                      </a:lnTo>
                      <a:lnTo>
                        <a:pt x="236" y="7"/>
                      </a:lnTo>
                      <a:lnTo>
                        <a:pt x="207" y="13"/>
                      </a:lnTo>
                      <a:lnTo>
                        <a:pt x="180" y="24"/>
                      </a:lnTo>
                      <a:lnTo>
                        <a:pt x="154" y="36"/>
                      </a:lnTo>
                      <a:lnTo>
                        <a:pt x="131" y="52"/>
                      </a:lnTo>
                      <a:lnTo>
                        <a:pt x="108" y="67"/>
                      </a:lnTo>
                      <a:lnTo>
                        <a:pt x="86" y="86"/>
                      </a:lnTo>
                      <a:lnTo>
                        <a:pt x="67" y="108"/>
                      </a:lnTo>
                      <a:lnTo>
                        <a:pt x="52" y="131"/>
                      </a:lnTo>
                      <a:lnTo>
                        <a:pt x="36" y="154"/>
                      </a:lnTo>
                      <a:lnTo>
                        <a:pt x="24" y="180"/>
                      </a:lnTo>
                      <a:lnTo>
                        <a:pt x="13" y="207"/>
                      </a:lnTo>
                      <a:lnTo>
                        <a:pt x="7" y="236"/>
                      </a:lnTo>
                      <a:lnTo>
                        <a:pt x="2" y="264"/>
                      </a:lnTo>
                      <a:lnTo>
                        <a:pt x="0" y="294"/>
                      </a:lnTo>
                      <a:lnTo>
                        <a:pt x="0" y="294"/>
                      </a:lnTo>
                      <a:lnTo>
                        <a:pt x="54" y="294"/>
                      </a:lnTo>
                      <a:close/>
                    </a:path>
                  </a:pathLst>
                </a:custGeom>
                <a:solidFill>
                  <a:srgbClr val="8e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5400000">
                  <a:off x="2755800" y="3567960"/>
                  <a:ext cx="222120" cy="505440"/>
                </a:xfrm>
                <a:custGeom>
                  <a:avLst/>
                  <a:gdLst/>
                  <a:ahLst/>
                  <a:rect l="l" t="t" r="r" b="b"/>
                  <a:pathLst>
                    <a:path w="293" h="294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24" y="55"/>
                      </a:lnTo>
                      <a:lnTo>
                        <a:pt x="49" y="59"/>
                      </a:lnTo>
                      <a:lnTo>
                        <a:pt x="71" y="65"/>
                      </a:lnTo>
                      <a:lnTo>
                        <a:pt x="92" y="73"/>
                      </a:lnTo>
                      <a:lnTo>
                        <a:pt x="114" y="82"/>
                      </a:lnTo>
                      <a:lnTo>
                        <a:pt x="134" y="95"/>
                      </a:lnTo>
                      <a:lnTo>
                        <a:pt x="153" y="108"/>
                      </a:lnTo>
                      <a:lnTo>
                        <a:pt x="169" y="124"/>
                      </a:lnTo>
                      <a:lnTo>
                        <a:pt x="185" y="140"/>
                      </a:lnTo>
                      <a:lnTo>
                        <a:pt x="198" y="160"/>
                      </a:lnTo>
                      <a:lnTo>
                        <a:pt x="211" y="180"/>
                      </a:lnTo>
                      <a:lnTo>
                        <a:pt x="219" y="200"/>
                      </a:lnTo>
                      <a:lnTo>
                        <a:pt x="228" y="222"/>
                      </a:lnTo>
                      <a:lnTo>
                        <a:pt x="234" y="245"/>
                      </a:lnTo>
                      <a:lnTo>
                        <a:pt x="238" y="269"/>
                      </a:lnTo>
                      <a:lnTo>
                        <a:pt x="238" y="294"/>
                      </a:lnTo>
                      <a:lnTo>
                        <a:pt x="293" y="294"/>
                      </a:lnTo>
                      <a:lnTo>
                        <a:pt x="290" y="264"/>
                      </a:lnTo>
                      <a:lnTo>
                        <a:pt x="286" y="236"/>
                      </a:lnTo>
                      <a:lnTo>
                        <a:pt x="280" y="207"/>
                      </a:lnTo>
                      <a:lnTo>
                        <a:pt x="268" y="180"/>
                      </a:lnTo>
                      <a:lnTo>
                        <a:pt x="257" y="154"/>
                      </a:lnTo>
                      <a:lnTo>
                        <a:pt x="241" y="131"/>
                      </a:lnTo>
                      <a:lnTo>
                        <a:pt x="225" y="108"/>
                      </a:lnTo>
                      <a:lnTo>
                        <a:pt x="206" y="86"/>
                      </a:lnTo>
                      <a:lnTo>
                        <a:pt x="185" y="67"/>
                      </a:lnTo>
                      <a:lnTo>
                        <a:pt x="163" y="52"/>
                      </a:lnTo>
                      <a:lnTo>
                        <a:pt x="137" y="36"/>
                      </a:lnTo>
                      <a:lnTo>
                        <a:pt x="112" y="24"/>
                      </a:lnTo>
                      <a:lnTo>
                        <a:pt x="85" y="13"/>
                      </a:lnTo>
                      <a:lnTo>
                        <a:pt x="58" y="7"/>
                      </a:lnTo>
                      <a:lnTo>
                        <a:pt x="3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8e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4401000" y="2976480"/>
              <a:ext cx="1740240" cy="1404720"/>
              <a:chOff x="4401000" y="2976480"/>
              <a:chExt cx="1740240" cy="14047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401000" y="2976480"/>
                <a:ext cx="1740240" cy="1404720"/>
                <a:chOff x="4401000" y="2976480"/>
                <a:chExt cx="1740240" cy="1404720"/>
              </a:xfrm>
            </p:grpSpPr>
            <p:sp>
              <p:nvSpPr>
                <p:cNvPr id="240" name=""/>
                <p:cNvSpPr/>
                <p:nvPr/>
              </p:nvSpPr>
              <p:spPr>
                <a:xfrm rot="16200000">
                  <a:off x="5927760" y="3530880"/>
                  <a:ext cx="130320" cy="296640"/>
                </a:xfrm>
                <a:custGeom>
                  <a:avLst/>
                  <a:gdLst/>
                  <a:ahLst/>
                  <a:rect l="l" t="t" r="r" b="b"/>
                  <a:pathLst>
                    <a:path w="171" h="172">
                      <a:moveTo>
                        <a:pt x="87" y="0"/>
                      </a:moveTo>
                      <a:lnTo>
                        <a:pt x="70" y="2"/>
                      </a:lnTo>
                      <a:lnTo>
                        <a:pt x="54" y="8"/>
                      </a:lnTo>
                      <a:lnTo>
                        <a:pt x="39" y="15"/>
                      </a:lnTo>
                      <a:lnTo>
                        <a:pt x="26" y="26"/>
                      </a:lnTo>
                      <a:lnTo>
                        <a:pt x="15" y="39"/>
                      </a:lnTo>
                      <a:lnTo>
                        <a:pt x="8" y="54"/>
                      </a:lnTo>
                      <a:lnTo>
                        <a:pt x="2" y="70"/>
                      </a:lnTo>
                      <a:lnTo>
                        <a:pt x="0" y="87"/>
                      </a:lnTo>
                      <a:lnTo>
                        <a:pt x="2" y="104"/>
                      </a:lnTo>
                      <a:lnTo>
                        <a:pt x="8" y="120"/>
                      </a:lnTo>
                      <a:lnTo>
                        <a:pt x="15" y="135"/>
                      </a:lnTo>
                      <a:lnTo>
                        <a:pt x="26" y="148"/>
                      </a:lnTo>
                      <a:lnTo>
                        <a:pt x="39" y="158"/>
                      </a:lnTo>
                      <a:lnTo>
                        <a:pt x="54" y="165"/>
                      </a:lnTo>
                      <a:lnTo>
                        <a:pt x="70" y="171"/>
                      </a:lnTo>
                      <a:lnTo>
                        <a:pt x="87" y="172"/>
                      </a:lnTo>
                      <a:lnTo>
                        <a:pt x="104" y="171"/>
                      </a:lnTo>
                      <a:lnTo>
                        <a:pt x="120" y="165"/>
                      </a:lnTo>
                      <a:lnTo>
                        <a:pt x="133" y="158"/>
                      </a:lnTo>
                      <a:lnTo>
                        <a:pt x="146" y="148"/>
                      </a:lnTo>
                      <a:lnTo>
                        <a:pt x="156" y="135"/>
                      </a:lnTo>
                      <a:lnTo>
                        <a:pt x="163" y="120"/>
                      </a:lnTo>
                      <a:lnTo>
                        <a:pt x="169" y="104"/>
                      </a:lnTo>
                      <a:lnTo>
                        <a:pt x="171" y="87"/>
                      </a:lnTo>
                      <a:lnTo>
                        <a:pt x="169" y="70"/>
                      </a:lnTo>
                      <a:lnTo>
                        <a:pt x="163" y="54"/>
                      </a:lnTo>
                      <a:lnTo>
                        <a:pt x="156" y="39"/>
                      </a:lnTo>
                      <a:lnTo>
                        <a:pt x="146" y="26"/>
                      </a:lnTo>
                      <a:lnTo>
                        <a:pt x="133" y="15"/>
                      </a:lnTo>
                      <a:lnTo>
                        <a:pt x="120" y="8"/>
                      </a:lnTo>
                      <a:lnTo>
                        <a:pt x="104" y="2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6200000">
                  <a:off x="4845960" y="3232440"/>
                  <a:ext cx="703440" cy="1593720"/>
                </a:xfrm>
                <a:custGeom>
                  <a:avLst/>
                  <a:gdLst/>
                  <a:ahLst/>
                  <a:rect l="l" t="t" r="r" b="b"/>
                  <a:pathLst>
                    <a:path w="923" h="923">
                      <a:moveTo>
                        <a:pt x="54" y="923"/>
                      </a:moveTo>
                      <a:lnTo>
                        <a:pt x="54" y="923"/>
                      </a:lnTo>
                      <a:lnTo>
                        <a:pt x="57" y="834"/>
                      </a:lnTo>
                      <a:lnTo>
                        <a:pt x="72" y="747"/>
                      </a:lnTo>
                      <a:lnTo>
                        <a:pt x="93" y="663"/>
                      </a:lnTo>
                      <a:lnTo>
                        <a:pt x="122" y="584"/>
                      </a:lnTo>
                      <a:lnTo>
                        <a:pt x="158" y="509"/>
                      </a:lnTo>
                      <a:lnTo>
                        <a:pt x="202" y="437"/>
                      </a:lnTo>
                      <a:lnTo>
                        <a:pt x="252" y="370"/>
                      </a:lnTo>
                      <a:lnTo>
                        <a:pt x="308" y="308"/>
                      </a:lnTo>
                      <a:lnTo>
                        <a:pt x="370" y="252"/>
                      </a:lnTo>
                      <a:lnTo>
                        <a:pt x="437" y="202"/>
                      </a:lnTo>
                      <a:lnTo>
                        <a:pt x="509" y="158"/>
                      </a:lnTo>
                      <a:lnTo>
                        <a:pt x="584" y="122"/>
                      </a:lnTo>
                      <a:lnTo>
                        <a:pt x="663" y="93"/>
                      </a:lnTo>
                      <a:lnTo>
                        <a:pt x="747" y="72"/>
                      </a:lnTo>
                      <a:lnTo>
                        <a:pt x="833" y="57"/>
                      </a:lnTo>
                      <a:lnTo>
                        <a:pt x="923" y="55"/>
                      </a:lnTo>
                      <a:lnTo>
                        <a:pt x="923" y="0"/>
                      </a:lnTo>
                      <a:lnTo>
                        <a:pt x="831" y="5"/>
                      </a:lnTo>
                      <a:lnTo>
                        <a:pt x="738" y="20"/>
                      </a:lnTo>
                      <a:lnTo>
                        <a:pt x="649" y="42"/>
                      </a:lnTo>
                      <a:lnTo>
                        <a:pt x="564" y="73"/>
                      </a:lnTo>
                      <a:lnTo>
                        <a:pt x="483" y="112"/>
                      </a:lnTo>
                      <a:lnTo>
                        <a:pt x="408" y="158"/>
                      </a:lnTo>
                      <a:lnTo>
                        <a:pt x="336" y="212"/>
                      </a:lnTo>
                      <a:lnTo>
                        <a:pt x="271" y="271"/>
                      </a:lnTo>
                      <a:lnTo>
                        <a:pt x="212" y="336"/>
                      </a:lnTo>
                      <a:lnTo>
                        <a:pt x="158" y="408"/>
                      </a:lnTo>
                      <a:lnTo>
                        <a:pt x="112" y="483"/>
                      </a:lnTo>
                      <a:lnTo>
                        <a:pt x="73" y="564"/>
                      </a:lnTo>
                      <a:lnTo>
                        <a:pt x="41" y="649"/>
                      </a:lnTo>
                      <a:lnTo>
                        <a:pt x="20" y="738"/>
                      </a:lnTo>
                      <a:lnTo>
                        <a:pt x="5" y="831"/>
                      </a:lnTo>
                      <a:lnTo>
                        <a:pt x="0" y="923"/>
                      </a:lnTo>
                      <a:lnTo>
                        <a:pt x="0" y="923"/>
                      </a:lnTo>
                      <a:lnTo>
                        <a:pt x="54" y="923"/>
                      </a:lnTo>
                      <a:close/>
                    </a:path>
                  </a:pathLst>
                </a:custGeom>
                <a:solidFill>
                  <a:srgbClr val="23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6200000">
                  <a:off x="4847040" y="2530080"/>
                  <a:ext cx="701280" cy="1593720"/>
                </a:xfrm>
                <a:custGeom>
                  <a:avLst/>
                  <a:gdLst/>
                  <a:ahLst/>
                  <a:rect l="l" t="t" r="r" b="b"/>
                  <a:pathLst>
                    <a:path w="920" h="923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89" y="57"/>
                      </a:lnTo>
                      <a:lnTo>
                        <a:pt x="176" y="72"/>
                      </a:lnTo>
                      <a:lnTo>
                        <a:pt x="258" y="93"/>
                      </a:lnTo>
                      <a:lnTo>
                        <a:pt x="337" y="122"/>
                      </a:lnTo>
                      <a:lnTo>
                        <a:pt x="413" y="158"/>
                      </a:lnTo>
                      <a:lnTo>
                        <a:pt x="485" y="202"/>
                      </a:lnTo>
                      <a:lnTo>
                        <a:pt x="550" y="252"/>
                      </a:lnTo>
                      <a:lnTo>
                        <a:pt x="612" y="308"/>
                      </a:lnTo>
                      <a:lnTo>
                        <a:pt x="668" y="370"/>
                      </a:lnTo>
                      <a:lnTo>
                        <a:pt x="718" y="437"/>
                      </a:lnTo>
                      <a:lnTo>
                        <a:pt x="762" y="509"/>
                      </a:lnTo>
                      <a:lnTo>
                        <a:pt x="798" y="584"/>
                      </a:lnTo>
                      <a:lnTo>
                        <a:pt x="827" y="663"/>
                      </a:lnTo>
                      <a:lnTo>
                        <a:pt x="848" y="747"/>
                      </a:lnTo>
                      <a:lnTo>
                        <a:pt x="863" y="834"/>
                      </a:lnTo>
                      <a:lnTo>
                        <a:pt x="865" y="923"/>
                      </a:lnTo>
                      <a:lnTo>
                        <a:pt x="920" y="923"/>
                      </a:lnTo>
                      <a:lnTo>
                        <a:pt x="915" y="831"/>
                      </a:lnTo>
                      <a:lnTo>
                        <a:pt x="900" y="738"/>
                      </a:lnTo>
                      <a:lnTo>
                        <a:pt x="878" y="649"/>
                      </a:lnTo>
                      <a:lnTo>
                        <a:pt x="847" y="564"/>
                      </a:lnTo>
                      <a:lnTo>
                        <a:pt x="808" y="483"/>
                      </a:lnTo>
                      <a:lnTo>
                        <a:pt x="762" y="408"/>
                      </a:lnTo>
                      <a:lnTo>
                        <a:pt x="708" y="336"/>
                      </a:lnTo>
                      <a:lnTo>
                        <a:pt x="649" y="271"/>
                      </a:lnTo>
                      <a:lnTo>
                        <a:pt x="584" y="212"/>
                      </a:lnTo>
                      <a:lnTo>
                        <a:pt x="513" y="158"/>
                      </a:lnTo>
                      <a:lnTo>
                        <a:pt x="438" y="112"/>
                      </a:lnTo>
                      <a:lnTo>
                        <a:pt x="358" y="73"/>
                      </a:lnTo>
                      <a:lnTo>
                        <a:pt x="273" y="42"/>
                      </a:lnTo>
                      <a:lnTo>
                        <a:pt x="185" y="20"/>
                      </a:lnTo>
                      <a:lnTo>
                        <a:pt x="92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238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6200000">
                  <a:off x="5118480" y="3338640"/>
                  <a:ext cx="536400" cy="1215360"/>
                </a:xfrm>
                <a:custGeom>
                  <a:avLst/>
                  <a:gdLst/>
                  <a:ahLst/>
                  <a:rect l="l" t="t" r="r" b="b"/>
                  <a:pathLst>
                    <a:path w="704" h="704">
                      <a:moveTo>
                        <a:pt x="55" y="704"/>
                      </a:moveTo>
                      <a:lnTo>
                        <a:pt x="55" y="704"/>
                      </a:lnTo>
                      <a:lnTo>
                        <a:pt x="56" y="636"/>
                      </a:lnTo>
                      <a:lnTo>
                        <a:pt x="68" y="571"/>
                      </a:lnTo>
                      <a:lnTo>
                        <a:pt x="84" y="511"/>
                      </a:lnTo>
                      <a:lnTo>
                        <a:pt x="105" y="450"/>
                      </a:lnTo>
                      <a:lnTo>
                        <a:pt x="133" y="394"/>
                      </a:lnTo>
                      <a:lnTo>
                        <a:pt x="164" y="340"/>
                      </a:lnTo>
                      <a:lnTo>
                        <a:pt x="202" y="290"/>
                      </a:lnTo>
                      <a:lnTo>
                        <a:pt x="244" y="244"/>
                      </a:lnTo>
                      <a:lnTo>
                        <a:pt x="290" y="202"/>
                      </a:lnTo>
                      <a:lnTo>
                        <a:pt x="340" y="164"/>
                      </a:lnTo>
                      <a:lnTo>
                        <a:pt x="394" y="133"/>
                      </a:lnTo>
                      <a:lnTo>
                        <a:pt x="450" y="105"/>
                      </a:lnTo>
                      <a:lnTo>
                        <a:pt x="511" y="84"/>
                      </a:lnTo>
                      <a:lnTo>
                        <a:pt x="571" y="68"/>
                      </a:lnTo>
                      <a:lnTo>
                        <a:pt x="636" y="56"/>
                      </a:lnTo>
                      <a:lnTo>
                        <a:pt x="704" y="55"/>
                      </a:lnTo>
                      <a:lnTo>
                        <a:pt x="704" y="0"/>
                      </a:lnTo>
                      <a:lnTo>
                        <a:pt x="633" y="4"/>
                      </a:lnTo>
                      <a:lnTo>
                        <a:pt x="563" y="16"/>
                      </a:lnTo>
                      <a:lnTo>
                        <a:pt x="496" y="32"/>
                      </a:lnTo>
                      <a:lnTo>
                        <a:pt x="430" y="56"/>
                      </a:lnTo>
                      <a:lnTo>
                        <a:pt x="368" y="87"/>
                      </a:lnTo>
                      <a:lnTo>
                        <a:pt x="311" y="121"/>
                      </a:lnTo>
                      <a:lnTo>
                        <a:pt x="258" y="162"/>
                      </a:lnTo>
                      <a:lnTo>
                        <a:pt x="206" y="206"/>
                      </a:lnTo>
                      <a:lnTo>
                        <a:pt x="161" y="258"/>
                      </a:lnTo>
                      <a:lnTo>
                        <a:pt x="121" y="312"/>
                      </a:lnTo>
                      <a:lnTo>
                        <a:pt x="86" y="368"/>
                      </a:lnTo>
                      <a:lnTo>
                        <a:pt x="56" y="430"/>
                      </a:lnTo>
                      <a:lnTo>
                        <a:pt x="32" y="496"/>
                      </a:lnTo>
                      <a:lnTo>
                        <a:pt x="16" y="563"/>
                      </a:lnTo>
                      <a:lnTo>
                        <a:pt x="4" y="633"/>
                      </a:lnTo>
                      <a:lnTo>
                        <a:pt x="0" y="704"/>
                      </a:lnTo>
                      <a:lnTo>
                        <a:pt x="0" y="704"/>
                      </a:lnTo>
                      <a:lnTo>
                        <a:pt x="55" y="704"/>
                      </a:lnTo>
                      <a:close/>
                    </a:path>
                  </a:pathLst>
                </a:custGeom>
                <a:solidFill>
                  <a:srgbClr val="449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5119200" y="2802600"/>
                  <a:ext cx="534960" cy="1215360"/>
                </a:xfrm>
                <a:custGeom>
                  <a:avLst/>
                  <a:gdLst/>
                  <a:ahLst/>
                  <a:rect l="l" t="t" r="r" b="b"/>
                  <a:pathLst>
                    <a:path w="702" h="704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66" y="56"/>
                      </a:lnTo>
                      <a:lnTo>
                        <a:pt x="131" y="68"/>
                      </a:lnTo>
                      <a:lnTo>
                        <a:pt x="193" y="84"/>
                      </a:lnTo>
                      <a:lnTo>
                        <a:pt x="252" y="105"/>
                      </a:lnTo>
                      <a:lnTo>
                        <a:pt x="309" y="133"/>
                      </a:lnTo>
                      <a:lnTo>
                        <a:pt x="362" y="164"/>
                      </a:lnTo>
                      <a:lnTo>
                        <a:pt x="413" y="202"/>
                      </a:lnTo>
                      <a:lnTo>
                        <a:pt x="459" y="244"/>
                      </a:lnTo>
                      <a:lnTo>
                        <a:pt x="501" y="290"/>
                      </a:lnTo>
                      <a:lnTo>
                        <a:pt x="538" y="340"/>
                      </a:lnTo>
                      <a:lnTo>
                        <a:pt x="570" y="394"/>
                      </a:lnTo>
                      <a:lnTo>
                        <a:pt x="597" y="450"/>
                      </a:lnTo>
                      <a:lnTo>
                        <a:pt x="619" y="511"/>
                      </a:lnTo>
                      <a:lnTo>
                        <a:pt x="635" y="571"/>
                      </a:lnTo>
                      <a:lnTo>
                        <a:pt x="646" y="636"/>
                      </a:lnTo>
                      <a:lnTo>
                        <a:pt x="648" y="704"/>
                      </a:lnTo>
                      <a:lnTo>
                        <a:pt x="702" y="704"/>
                      </a:lnTo>
                      <a:lnTo>
                        <a:pt x="698" y="633"/>
                      </a:lnTo>
                      <a:lnTo>
                        <a:pt x="687" y="563"/>
                      </a:lnTo>
                      <a:lnTo>
                        <a:pt x="671" y="496"/>
                      </a:lnTo>
                      <a:lnTo>
                        <a:pt x="646" y="430"/>
                      </a:lnTo>
                      <a:lnTo>
                        <a:pt x="616" y="368"/>
                      </a:lnTo>
                      <a:lnTo>
                        <a:pt x="581" y="312"/>
                      </a:lnTo>
                      <a:lnTo>
                        <a:pt x="541" y="258"/>
                      </a:lnTo>
                      <a:lnTo>
                        <a:pt x="496" y="206"/>
                      </a:lnTo>
                      <a:lnTo>
                        <a:pt x="444" y="162"/>
                      </a:lnTo>
                      <a:lnTo>
                        <a:pt x="391" y="121"/>
                      </a:lnTo>
                      <a:lnTo>
                        <a:pt x="335" y="87"/>
                      </a:lnTo>
                      <a:lnTo>
                        <a:pt x="273" y="56"/>
                      </a:lnTo>
                      <a:lnTo>
                        <a:pt x="208" y="32"/>
                      </a:lnTo>
                      <a:lnTo>
                        <a:pt x="140" y="16"/>
                      </a:lnTo>
                      <a:lnTo>
                        <a:pt x="72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449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6200000">
                  <a:off x="5382000" y="3440520"/>
                  <a:ext cx="375120" cy="849240"/>
                </a:xfrm>
                <a:custGeom>
                  <a:avLst/>
                  <a:gdLst/>
                  <a:ahLst/>
                  <a:rect l="l" t="t" r="r" b="b"/>
                  <a:pathLst>
                    <a:path w="492" h="492">
                      <a:moveTo>
                        <a:pt x="55" y="492"/>
                      </a:moveTo>
                      <a:lnTo>
                        <a:pt x="55" y="492"/>
                      </a:lnTo>
                      <a:lnTo>
                        <a:pt x="56" y="447"/>
                      </a:lnTo>
                      <a:lnTo>
                        <a:pt x="63" y="403"/>
                      </a:lnTo>
                      <a:lnTo>
                        <a:pt x="74" y="361"/>
                      </a:lnTo>
                      <a:lnTo>
                        <a:pt x="88" y="322"/>
                      </a:lnTo>
                      <a:lnTo>
                        <a:pt x="107" y="283"/>
                      </a:lnTo>
                      <a:lnTo>
                        <a:pt x="128" y="247"/>
                      </a:lnTo>
                      <a:lnTo>
                        <a:pt x="153" y="212"/>
                      </a:lnTo>
                      <a:lnTo>
                        <a:pt x="182" y="182"/>
                      </a:lnTo>
                      <a:lnTo>
                        <a:pt x="212" y="153"/>
                      </a:lnTo>
                      <a:lnTo>
                        <a:pt x="247" y="128"/>
                      </a:lnTo>
                      <a:lnTo>
                        <a:pt x="283" y="107"/>
                      </a:lnTo>
                      <a:lnTo>
                        <a:pt x="322" y="88"/>
                      </a:lnTo>
                      <a:lnTo>
                        <a:pt x="361" y="74"/>
                      </a:lnTo>
                      <a:lnTo>
                        <a:pt x="402" y="64"/>
                      </a:lnTo>
                      <a:lnTo>
                        <a:pt x="447" y="56"/>
                      </a:lnTo>
                      <a:lnTo>
                        <a:pt x="492" y="55"/>
                      </a:lnTo>
                      <a:lnTo>
                        <a:pt x="492" y="0"/>
                      </a:lnTo>
                      <a:lnTo>
                        <a:pt x="441" y="4"/>
                      </a:lnTo>
                      <a:lnTo>
                        <a:pt x="394" y="12"/>
                      </a:lnTo>
                      <a:lnTo>
                        <a:pt x="346" y="22"/>
                      </a:lnTo>
                      <a:lnTo>
                        <a:pt x="301" y="39"/>
                      </a:lnTo>
                      <a:lnTo>
                        <a:pt x="257" y="61"/>
                      </a:lnTo>
                      <a:lnTo>
                        <a:pt x="218" y="85"/>
                      </a:lnTo>
                      <a:lnTo>
                        <a:pt x="180" y="113"/>
                      </a:lnTo>
                      <a:lnTo>
                        <a:pt x="144" y="144"/>
                      </a:lnTo>
                      <a:lnTo>
                        <a:pt x="112" y="180"/>
                      </a:lnTo>
                      <a:lnTo>
                        <a:pt x="85" y="218"/>
                      </a:lnTo>
                      <a:lnTo>
                        <a:pt x="61" y="257"/>
                      </a:lnTo>
                      <a:lnTo>
                        <a:pt x="39" y="302"/>
                      </a:lnTo>
                      <a:lnTo>
                        <a:pt x="22" y="346"/>
                      </a:lnTo>
                      <a:lnTo>
                        <a:pt x="11" y="394"/>
                      </a:lnTo>
                      <a:lnTo>
                        <a:pt x="4" y="441"/>
                      </a:lnTo>
                      <a:lnTo>
                        <a:pt x="0" y="492"/>
                      </a:lnTo>
                      <a:lnTo>
                        <a:pt x="0" y="492"/>
                      </a:lnTo>
                      <a:lnTo>
                        <a:pt x="55" y="492"/>
                      </a:lnTo>
                      <a:close/>
                    </a:path>
                  </a:pathLst>
                </a:custGeom>
                <a:solidFill>
                  <a:srgbClr val="70a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6200000">
                  <a:off x="5383080" y="3066480"/>
                  <a:ext cx="373320" cy="849240"/>
                </a:xfrm>
                <a:custGeom>
                  <a:avLst/>
                  <a:gdLst/>
                  <a:ahLst/>
                  <a:rect l="l" t="t" r="r" b="b"/>
                  <a:pathLst>
                    <a:path w="490" h="492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45" y="56"/>
                      </a:lnTo>
                      <a:lnTo>
                        <a:pt x="89" y="64"/>
                      </a:lnTo>
                      <a:lnTo>
                        <a:pt x="130" y="74"/>
                      </a:lnTo>
                      <a:lnTo>
                        <a:pt x="170" y="88"/>
                      </a:lnTo>
                      <a:lnTo>
                        <a:pt x="208" y="107"/>
                      </a:lnTo>
                      <a:lnTo>
                        <a:pt x="244" y="128"/>
                      </a:lnTo>
                      <a:lnTo>
                        <a:pt x="278" y="153"/>
                      </a:lnTo>
                      <a:lnTo>
                        <a:pt x="309" y="182"/>
                      </a:lnTo>
                      <a:lnTo>
                        <a:pt x="337" y="212"/>
                      </a:lnTo>
                      <a:lnTo>
                        <a:pt x="362" y="247"/>
                      </a:lnTo>
                      <a:lnTo>
                        <a:pt x="384" y="283"/>
                      </a:lnTo>
                      <a:lnTo>
                        <a:pt x="402" y="322"/>
                      </a:lnTo>
                      <a:lnTo>
                        <a:pt x="417" y="361"/>
                      </a:lnTo>
                      <a:lnTo>
                        <a:pt x="427" y="403"/>
                      </a:lnTo>
                      <a:lnTo>
                        <a:pt x="434" y="447"/>
                      </a:lnTo>
                      <a:lnTo>
                        <a:pt x="436" y="492"/>
                      </a:lnTo>
                      <a:lnTo>
                        <a:pt x="490" y="492"/>
                      </a:lnTo>
                      <a:lnTo>
                        <a:pt x="486" y="441"/>
                      </a:lnTo>
                      <a:lnTo>
                        <a:pt x="479" y="394"/>
                      </a:lnTo>
                      <a:lnTo>
                        <a:pt x="469" y="346"/>
                      </a:lnTo>
                      <a:lnTo>
                        <a:pt x="451" y="302"/>
                      </a:lnTo>
                      <a:lnTo>
                        <a:pt x="430" y="257"/>
                      </a:lnTo>
                      <a:lnTo>
                        <a:pt x="405" y="218"/>
                      </a:lnTo>
                      <a:lnTo>
                        <a:pt x="378" y="180"/>
                      </a:lnTo>
                      <a:lnTo>
                        <a:pt x="346" y="144"/>
                      </a:lnTo>
                      <a:lnTo>
                        <a:pt x="310" y="113"/>
                      </a:lnTo>
                      <a:lnTo>
                        <a:pt x="273" y="85"/>
                      </a:lnTo>
                      <a:lnTo>
                        <a:pt x="234" y="61"/>
                      </a:lnTo>
                      <a:lnTo>
                        <a:pt x="190" y="39"/>
                      </a:lnTo>
                      <a:lnTo>
                        <a:pt x="144" y="22"/>
                      </a:lnTo>
                      <a:lnTo>
                        <a:pt x="98" y="12"/>
                      </a:lnTo>
                      <a:lnTo>
                        <a:pt x="5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70ad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6200000">
                  <a:off x="5628600" y="3536280"/>
                  <a:ext cx="223920" cy="507240"/>
                </a:xfrm>
                <a:custGeom>
                  <a:avLst/>
                  <a:gdLst/>
                  <a:ahLst/>
                  <a:rect l="l" t="t" r="r" b="b"/>
                  <a:pathLst>
                    <a:path w="294" h="294">
                      <a:moveTo>
                        <a:pt x="54" y="294"/>
                      </a:moveTo>
                      <a:lnTo>
                        <a:pt x="54" y="294"/>
                      </a:lnTo>
                      <a:lnTo>
                        <a:pt x="54" y="269"/>
                      </a:lnTo>
                      <a:lnTo>
                        <a:pt x="59" y="245"/>
                      </a:lnTo>
                      <a:lnTo>
                        <a:pt x="65" y="222"/>
                      </a:lnTo>
                      <a:lnTo>
                        <a:pt x="73" y="200"/>
                      </a:lnTo>
                      <a:lnTo>
                        <a:pt x="82" y="180"/>
                      </a:lnTo>
                      <a:lnTo>
                        <a:pt x="95" y="160"/>
                      </a:lnTo>
                      <a:lnTo>
                        <a:pt x="108" y="140"/>
                      </a:lnTo>
                      <a:lnTo>
                        <a:pt x="124" y="124"/>
                      </a:lnTo>
                      <a:lnTo>
                        <a:pt x="140" y="108"/>
                      </a:lnTo>
                      <a:lnTo>
                        <a:pt x="160" y="95"/>
                      </a:lnTo>
                      <a:lnTo>
                        <a:pt x="180" y="82"/>
                      </a:lnTo>
                      <a:lnTo>
                        <a:pt x="200" y="73"/>
                      </a:lnTo>
                      <a:lnTo>
                        <a:pt x="222" y="65"/>
                      </a:lnTo>
                      <a:lnTo>
                        <a:pt x="245" y="59"/>
                      </a:lnTo>
                      <a:lnTo>
                        <a:pt x="269" y="55"/>
                      </a:lnTo>
                      <a:lnTo>
                        <a:pt x="294" y="55"/>
                      </a:lnTo>
                      <a:lnTo>
                        <a:pt x="294" y="0"/>
                      </a:lnTo>
                      <a:lnTo>
                        <a:pt x="264" y="3"/>
                      </a:lnTo>
                      <a:lnTo>
                        <a:pt x="236" y="7"/>
                      </a:lnTo>
                      <a:lnTo>
                        <a:pt x="207" y="13"/>
                      </a:lnTo>
                      <a:lnTo>
                        <a:pt x="180" y="24"/>
                      </a:lnTo>
                      <a:lnTo>
                        <a:pt x="154" y="36"/>
                      </a:lnTo>
                      <a:lnTo>
                        <a:pt x="131" y="52"/>
                      </a:lnTo>
                      <a:lnTo>
                        <a:pt x="108" y="67"/>
                      </a:lnTo>
                      <a:lnTo>
                        <a:pt x="86" y="86"/>
                      </a:lnTo>
                      <a:lnTo>
                        <a:pt x="67" y="108"/>
                      </a:lnTo>
                      <a:lnTo>
                        <a:pt x="52" y="131"/>
                      </a:lnTo>
                      <a:lnTo>
                        <a:pt x="36" y="154"/>
                      </a:lnTo>
                      <a:lnTo>
                        <a:pt x="24" y="180"/>
                      </a:lnTo>
                      <a:lnTo>
                        <a:pt x="13" y="207"/>
                      </a:lnTo>
                      <a:lnTo>
                        <a:pt x="7" y="236"/>
                      </a:lnTo>
                      <a:lnTo>
                        <a:pt x="2" y="264"/>
                      </a:lnTo>
                      <a:lnTo>
                        <a:pt x="0" y="294"/>
                      </a:lnTo>
                      <a:lnTo>
                        <a:pt x="0" y="294"/>
                      </a:lnTo>
                      <a:lnTo>
                        <a:pt x="54" y="294"/>
                      </a:lnTo>
                      <a:close/>
                    </a:path>
                  </a:pathLst>
                </a:custGeom>
                <a:solidFill>
                  <a:srgbClr val="8e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6200000">
                  <a:off x="5628960" y="3312360"/>
                  <a:ext cx="223200" cy="507240"/>
                </a:xfrm>
                <a:custGeom>
                  <a:avLst/>
                  <a:gdLst/>
                  <a:ahLst/>
                  <a:rect l="l" t="t" r="r" b="b"/>
                  <a:pathLst>
                    <a:path w="293" h="294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24" y="55"/>
                      </a:lnTo>
                      <a:lnTo>
                        <a:pt x="49" y="59"/>
                      </a:lnTo>
                      <a:lnTo>
                        <a:pt x="71" y="65"/>
                      </a:lnTo>
                      <a:lnTo>
                        <a:pt x="92" y="73"/>
                      </a:lnTo>
                      <a:lnTo>
                        <a:pt x="114" y="82"/>
                      </a:lnTo>
                      <a:lnTo>
                        <a:pt x="134" y="95"/>
                      </a:lnTo>
                      <a:lnTo>
                        <a:pt x="153" y="108"/>
                      </a:lnTo>
                      <a:lnTo>
                        <a:pt x="169" y="124"/>
                      </a:lnTo>
                      <a:lnTo>
                        <a:pt x="185" y="140"/>
                      </a:lnTo>
                      <a:lnTo>
                        <a:pt x="198" y="160"/>
                      </a:lnTo>
                      <a:lnTo>
                        <a:pt x="211" y="180"/>
                      </a:lnTo>
                      <a:lnTo>
                        <a:pt x="219" y="200"/>
                      </a:lnTo>
                      <a:lnTo>
                        <a:pt x="228" y="222"/>
                      </a:lnTo>
                      <a:lnTo>
                        <a:pt x="234" y="245"/>
                      </a:lnTo>
                      <a:lnTo>
                        <a:pt x="238" y="269"/>
                      </a:lnTo>
                      <a:lnTo>
                        <a:pt x="238" y="294"/>
                      </a:lnTo>
                      <a:lnTo>
                        <a:pt x="293" y="294"/>
                      </a:lnTo>
                      <a:lnTo>
                        <a:pt x="290" y="264"/>
                      </a:lnTo>
                      <a:lnTo>
                        <a:pt x="286" y="236"/>
                      </a:lnTo>
                      <a:lnTo>
                        <a:pt x="280" y="207"/>
                      </a:lnTo>
                      <a:lnTo>
                        <a:pt x="268" y="180"/>
                      </a:lnTo>
                      <a:lnTo>
                        <a:pt x="257" y="154"/>
                      </a:lnTo>
                      <a:lnTo>
                        <a:pt x="241" y="131"/>
                      </a:lnTo>
                      <a:lnTo>
                        <a:pt x="225" y="108"/>
                      </a:lnTo>
                      <a:lnTo>
                        <a:pt x="206" y="86"/>
                      </a:lnTo>
                      <a:lnTo>
                        <a:pt x="185" y="67"/>
                      </a:lnTo>
                      <a:lnTo>
                        <a:pt x="163" y="52"/>
                      </a:lnTo>
                      <a:lnTo>
                        <a:pt x="137" y="36"/>
                      </a:lnTo>
                      <a:lnTo>
                        <a:pt x="112" y="24"/>
                      </a:lnTo>
                      <a:lnTo>
                        <a:pt x="85" y="13"/>
                      </a:lnTo>
                      <a:lnTo>
                        <a:pt x="58" y="7"/>
                      </a:lnTo>
                      <a:lnTo>
                        <a:pt x="3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8ebf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 flipV="1">
              <a:off x="4876920" y="1142640"/>
              <a:ext cx="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1143000"/>
              <a:ext cx="0" cy="4038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1295280"/>
              <a:ext cx="609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8320" y="121896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24280" y="525780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jac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57200" y="15228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46800" cy="5275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-28440" y="6062760"/>
            <a:ext cx="9753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Book Antiqua"/>
              </a:rPr>
              <a:t>SuperWave applied in US –Electrolytic 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Book Antiqua"/>
              </a:rPr>
              <a:t>Average current density J=11 mA/cm</a:t>
            </a:r>
            <a:r>
              <a:rPr b="0" lang="en-US" sz="1800" spc="-1" strike="noStrike" baseline="30000">
                <a:solidFill>
                  <a:srgbClr val="3333ff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838080"/>
            <a:ext cx="6908760" cy="5270400"/>
            <a:chOff x="1219320" y="838080"/>
            <a:chExt cx="6908760" cy="527040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219320" y="838080"/>
              <a:ext cx="6908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124080" y="3581280"/>
              <a:ext cx="350532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R/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=1.5277 (D/Pd≈0.9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80880" y="6324480"/>
            <a:ext cx="861084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Relatively high loading achieved with low (11 mA/c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) current den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17524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Application of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905120" y="1905120"/>
            <a:ext cx="380880" cy="152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762120"/>
            <a:ext cx="7315200" cy="5580000"/>
            <a:chOff x="914400" y="762120"/>
            <a:chExt cx="7315200" cy="558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914400" y="762120"/>
              <a:ext cx="731520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743200" y="4114800"/>
              <a:ext cx="0" cy="152388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4876920"/>
              <a:ext cx="18288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8000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(</a:t>
              </a:r>
              <a:r>
                <a:rPr b="0" lang="el-GR" sz="2000" spc="-1" strike="noStrike">
                  <a:solidFill>
                    <a:srgbClr val="008000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T)=4.5</a:t>
              </a:r>
              <a:r>
                <a:rPr b="0" lang="en-US" sz="2000" spc="-1" strike="noStrike" baseline="30000">
                  <a:solidFill>
                    <a:srgbClr val="008000"/>
                  </a:solidFill>
                  <a:latin typeface="Book Antiqua"/>
                </a:rPr>
                <a:t>0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3581280"/>
              <a:ext cx="198108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8000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T=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4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-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9880" y="1600200"/>
              <a:ext cx="274320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Cell Temperature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86200" y="4419720"/>
              <a:ext cx="297180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Jacket Temperature 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3880" y="342900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Book Antiqua"/>
                </a:rPr>
                <a:t>Application of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904760" y="3733920"/>
              <a:ext cx="609480" cy="380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5867280"/>
            <a:ext cx="9677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Ultra Sound cell ETE -6-201 : </a:t>
            </a:r>
            <a:r>
              <a:rPr b="1" lang="el-GR" sz="1600" spc="-1" strike="noStrike">
                <a:solidFill>
                  <a:srgbClr val="3333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(</a:t>
            </a:r>
            <a:r>
              <a:rPr b="1" lang="el-GR" sz="1600" spc="-1" strike="noStrike">
                <a:solidFill>
                  <a:srgbClr val="3333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T)=4.5</a:t>
            </a:r>
            <a:r>
              <a:rPr b="1" lang="en-US" sz="1600" spc="-1" strike="noStrike" baseline="30000">
                <a:solidFill>
                  <a:srgbClr val="3333ff"/>
                </a:solidFill>
                <a:latin typeface="Book Antiqua"/>
              </a:rPr>
              <a:t>0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( 18 times higher, than </a:t>
            </a:r>
            <a:r>
              <a:rPr b="1" lang="el-GR" sz="1600" spc="-1" strike="noStrike">
                <a:solidFill>
                  <a:srgbClr val="3333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(</a:t>
            </a:r>
            <a:r>
              <a:rPr b="1" lang="el-GR" sz="1600" spc="-1" strike="noStrike">
                <a:solidFill>
                  <a:srgbClr val="3333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T)=0.25</a:t>
            </a:r>
            <a:r>
              <a:rPr b="1" lang="en-US" sz="1600" spc="-1" strike="noStrike" baseline="30000">
                <a:solidFill>
                  <a:srgbClr val="3333ff"/>
                </a:solidFill>
                <a:latin typeface="Book Antiqua"/>
              </a:rPr>
              <a:t>0</a:t>
            </a:r>
            <a:r>
              <a:rPr b="1" lang="en-US" sz="1600" spc="-1" strike="noStrike">
                <a:solidFill>
                  <a:srgbClr val="3333ff"/>
                </a:solidFill>
                <a:latin typeface="Book Antiqua"/>
              </a:rPr>
              <a:t>C corresponds to Pinet=0.1W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8390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Energetics Technologies (ET) is investigating intensification of Low Energy Nuclear Reactions (LENR) using excitation by SuperWaves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Using the electrolytic cells described in our ICCF-10 and 11 papers driven with Dardik’s modified SuperWaves, significant amounts of excess heat were obtained in a number of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ew experimental approach  is being pursued:  Ultra Sound (US) cavitation, focused on cathode surface during electrolytic lo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Excess heat generation has been observed in 2 US experiments out of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Qualitative estimation 70% and 18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08760" cy="5270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096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bient Temperature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6095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Ambient Temperature behavior during Excess Hea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143000" y="762120"/>
            <a:ext cx="6908760" cy="5270400"/>
            <a:chOff x="1143000" y="762120"/>
            <a:chExt cx="6908760" cy="52704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1143000" y="762120"/>
              <a:ext cx="6908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860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US 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91120" y="152424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US 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4120" y="1371600"/>
              <a:ext cx="137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US 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106704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Book Antiqua"/>
                </a:rPr>
                <a:t>US full pow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09680" y="2117880"/>
              <a:ext cx="1447920" cy="4730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5880" y="2514600"/>
              <a:ext cx="106704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T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Book Antiqua"/>
                </a:rPr>
                <a:t>ja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14600" y="3124440"/>
              <a:ext cx="243828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8000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T=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cell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-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Ja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6720" y="4572000"/>
              <a:ext cx="182880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Book Antiqua"/>
                </a:rPr>
                <a:t>amb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990720" y="6172200"/>
            <a:ext cx="739116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Estimation of US influence on temperature in the cell &amp; ja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6172200"/>
            <a:ext cx="93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Increasing of </a:t>
            </a:r>
            <a:r>
              <a:rPr b="0" lang="el-GR" sz="20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T caused by increasing of electric power input, but not US in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85800" y="762120"/>
            <a:ext cx="8305920" cy="5270400"/>
            <a:chOff x="685800" y="762120"/>
            <a:chExt cx="8305920" cy="52704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685800" y="762120"/>
              <a:ext cx="6908760" cy="52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858000" y="2971800"/>
              <a:ext cx="213372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T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33cc33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33cc33"/>
                  </a:solidFill>
                  <a:latin typeface="Book Antiqua"/>
                </a:rPr>
                <a:t>T=Tcell-Tja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 Antiqua"/>
                </a:rPr>
                <a:t>Tja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3000" y="54864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0200" y="5334120"/>
              <a:ext cx="9907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0200" y="4495680"/>
              <a:ext cx="10666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0.27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9680" y="3352680"/>
              <a:ext cx="1143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0.27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=2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24080" y="4038480"/>
              <a:ext cx="1219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1.47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=20%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1905120"/>
              <a:ext cx="13716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2.9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=2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2133720"/>
              <a:ext cx="13716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2.9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52880" y="4038480"/>
              <a:ext cx="1219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Pinet=1.47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1447920" y="5409720"/>
              <a:ext cx="45720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6520" y="4800600"/>
              <a:ext cx="15228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6880" y="3886200"/>
              <a:ext cx="0" cy="1219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38480" y="4419720"/>
              <a:ext cx="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7080" y="2362320"/>
              <a:ext cx="76320" cy="1295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571640" y="2666880"/>
              <a:ext cx="304920" cy="914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105160" y="4343400"/>
              <a:ext cx="75960" cy="2286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64008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T and </a:t>
            </a:r>
            <a:r>
              <a:rPr b="1" lang="el-GR" sz="16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(</a:t>
            </a:r>
            <a:r>
              <a:rPr b="1" lang="el-GR" sz="16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1" lang="en-US" sz="1600" spc="-1" strike="noStrike">
                <a:solidFill>
                  <a:srgbClr val="0000ff"/>
                </a:solidFill>
                <a:latin typeface="Book Antiqua"/>
              </a:rPr>
              <a:t>T) as function of Pinet, measured in reference cell with Pt cathode and Pt a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762120"/>
            <a:ext cx="8801280" cy="5646600"/>
            <a:chOff x="152280" y="762120"/>
            <a:chExt cx="8801280" cy="5646600"/>
          </a:xfrm>
        </p:grpSpPr>
        <p:graphicFrame>
          <p:nvGraphicFramePr>
            <p:cNvPr id="316" name=""/>
            <p:cNvGraphicFramePr/>
            <p:nvPr/>
          </p:nvGraphicFramePr>
          <p:xfrm>
            <a:off x="152280" y="762120"/>
            <a:ext cx="7391520" cy="5646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762120"/>
                      <a:ext cx="7391520" cy="564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7238880" y="5727600"/>
              <a:ext cx="16765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124760" y="2437920"/>
              <a:ext cx="1828800" cy="7621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77040" y="2438280"/>
              <a:ext cx="1676520" cy="129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953560" y="2438280"/>
              <a:ext cx="0" cy="32767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26360" y="548640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(</a:t>
            </a:r>
            <a:r>
              <a:rPr b="0" lang="el-GR" sz="1200" spc="-1" strike="noStrike">
                <a:solidFill>
                  <a:srgbClr val="0000ff"/>
                </a:solidFill>
                <a:latin typeface="Book Antiqua"/>
              </a:rPr>
              <a:t>Δ</a:t>
            </a: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T)=4.5</a:t>
            </a:r>
            <a:r>
              <a:rPr b="0" lang="en-US" sz="1200" spc="-1" strike="noStrike" baseline="30000">
                <a:solidFill>
                  <a:srgbClr val="0000ff"/>
                </a:solidFill>
                <a:latin typeface="Book Antiqua"/>
              </a:rPr>
              <a:t>0</a:t>
            </a: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C corresponds to 3.7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Book Antiqua"/>
              </a:rPr>
              <a:t>(extrapol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715000" y="2133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mbient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63244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Book Antiqua"/>
              </a:rPr>
              <a:t>Regular temperature behavior  Pinet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838080"/>
            <a:ext cx="7315200" cy="5464080"/>
            <a:chOff x="914400" y="838080"/>
            <a:chExt cx="7315200" cy="546408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914400" y="838080"/>
              <a:ext cx="7162920" cy="54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562720" y="487656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Cell Temper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8840" y="510516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 Antiqua"/>
                </a:rPr>
                <a:t>Jacket Temper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95640" y="449568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76520" y="4190760"/>
              <a:ext cx="7621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US 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0040" y="5638680"/>
              <a:ext cx="1523880" cy="4406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8000"/>
                  </a:solidFill>
                  <a:latin typeface="Book Antiqua"/>
                </a:rPr>
                <a:t>Δ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T=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4</a:t>
              </a:r>
              <a:r>
                <a:rPr b="0" lang="en-US" sz="2000" spc="-1" strike="noStrike">
                  <a:solidFill>
                    <a:srgbClr val="008000"/>
                  </a:solidFill>
                  <a:latin typeface="Book Antiqua"/>
                </a:rPr>
                <a:t>-T</a:t>
              </a:r>
              <a:r>
                <a:rPr b="0" lang="en-US" sz="2000" spc="-1" strike="noStrike" baseline="-25000">
                  <a:solidFill>
                    <a:srgbClr val="008000"/>
                  </a:solidFill>
                  <a:latin typeface="Book Antiqu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2320" y="3657240"/>
              <a:ext cx="8380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US=m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3200" y="4114440"/>
              <a:ext cx="24386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US=max, higher cooling 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15000" y="4419360"/>
              <a:ext cx="838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US o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2187360"/>
              <a:ext cx="29718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Ambient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57200" y="1825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 Antiqua"/>
              </a:rPr>
              <a:t>Ultra Sound – Electroly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419360" cy="4089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57200" y="3049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d surface after 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48320" y="1225440"/>
            <a:ext cx="4419360" cy="4089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38080" y="5486400"/>
            <a:ext cx="327672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o.92 Electrolysis +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5486400"/>
            <a:ext cx="32763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o.135 Electrolys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648320" y="1459080"/>
            <a:ext cx="4343400" cy="4019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152280" y="1459080"/>
            <a:ext cx="4343400" cy="4020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57200" y="45720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d surface after lo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622840"/>
            <a:ext cx="327672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o.201 Electrolysis +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622840"/>
            <a:ext cx="32763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</a:rPr>
              <a:t>No.64 Electrolys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4419360" cy="4089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419360" cy="4087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3049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d foil No.201 after Electrolytic-US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5715000"/>
            <a:ext cx="67816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Cavitation tracks (half-octahedral shape) on cathod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85440" y="4114440"/>
            <a:ext cx="2895480" cy="1600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581280" y="2514600"/>
            <a:ext cx="228600" cy="32004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581280" y="4647960"/>
            <a:ext cx="2667240" cy="106668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581280" y="2438280"/>
            <a:ext cx="2667240" cy="327672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581280" y="2285640"/>
            <a:ext cx="3810240" cy="3429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483520" cy="5075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57200" y="304920"/>
            <a:ext cx="822960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Pd foil No.162 after Electrolytic-US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6172200"/>
            <a:ext cx="8686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Groups of Cavitation tracks on cathod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572000" y="4190760"/>
            <a:ext cx="762120" cy="20574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504960" y="3276360"/>
            <a:ext cx="1066680" cy="297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ACKNOWLED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765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Book Antiqua"/>
              </a:rPr>
              <a:t>We wish to thank Dr. Vittorio Violante and his group from   ENEA FRASCATTI for their cooperation in preparatioin  of the Pd ca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143160" cy="4191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2120" y="1219320"/>
            <a:ext cx="3886200" cy="4000320"/>
            <a:chOff x="762120" y="1219320"/>
            <a:chExt cx="3886200" cy="4000320"/>
          </a:xfrm>
        </p:grpSpPr>
        <p:sp>
          <p:nvSpPr>
            <p:cNvPr id="46" name=""/>
            <p:cNvSpPr/>
            <p:nvPr/>
          </p:nvSpPr>
          <p:spPr>
            <a:xfrm>
              <a:off x="2247840" y="3047760"/>
              <a:ext cx="0" cy="10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05040" y="3047760"/>
              <a:ext cx="0" cy="10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76440" y="3047760"/>
              <a:ext cx="0" cy="10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19240" y="2933640"/>
              <a:ext cx="1028520" cy="1257120"/>
            </a:xfrm>
            <a:prstGeom prst="rect">
              <a:avLst/>
            </a:prstGeom>
            <a:blipFill rotWithShape="0">
              <a:blip r:embed="rId2">
                <a:alphaModFix amt="22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705040"/>
              <a:ext cx="10285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9240" y="3962160"/>
              <a:ext cx="22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5040" y="396216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3962160"/>
              <a:ext cx="34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5040" y="1219320"/>
              <a:ext cx="342720" cy="799920"/>
            </a:xfrm>
            <a:custGeom>
              <a:avLst/>
              <a:gdLst>
                <a:gd name="textAreaLeft" fmla="*/ 75240 w 342720"/>
                <a:gd name="textAreaRight" fmla="*/ 267480 w 342720"/>
                <a:gd name="textAreaTop" fmla="*/ 175680 h 799920"/>
                <a:gd name="textAreaBottom" fmla="*/ 62424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cc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19240" y="2247840"/>
              <a:ext cx="1028520" cy="456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247840" y="1561680"/>
              <a:ext cx="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476440" y="1561680"/>
              <a:ext cx="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705040" y="1561680"/>
              <a:ext cx="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5120" y="2247840"/>
              <a:ext cx="114120" cy="205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9240" y="4191120"/>
              <a:ext cx="1142640" cy="114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2247840"/>
              <a:ext cx="114120" cy="1942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0640" y="2247840"/>
              <a:ext cx="114120" cy="2057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90640" y="4305240"/>
              <a:ext cx="1485720" cy="114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62240" y="2247840"/>
              <a:ext cx="114120" cy="2057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19240" y="2247840"/>
              <a:ext cx="82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5680" y="2247840"/>
              <a:ext cx="82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2247840"/>
              <a:ext cx="228240" cy="2971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90640" y="4419360"/>
              <a:ext cx="1485720" cy="571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90640" y="4991040"/>
              <a:ext cx="148572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2040" y="2247840"/>
              <a:ext cx="228240" cy="2971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62040" y="2019240"/>
              <a:ext cx="1942920" cy="22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19240" y="2933640"/>
              <a:ext cx="453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19240" y="4191120"/>
              <a:ext cx="102852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02400" y="2933640"/>
              <a:ext cx="453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03920" y="2590560"/>
              <a:ext cx="972720" cy="903960"/>
            </a:xfrm>
            <a:custGeom>
              <a:avLst/>
              <a:gdLst/>
              <a:ahLst/>
              <a:rect l="l" t="t" r="r" b="b"/>
              <a:pathLst>
                <a:path w="1352" h="524">
                  <a:moveTo>
                    <a:pt x="0" y="524"/>
                  </a:moveTo>
                  <a:lnTo>
                    <a:pt x="13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91200" y="2590560"/>
              <a:ext cx="972720" cy="903960"/>
            </a:xfrm>
            <a:custGeom>
              <a:avLst/>
              <a:gdLst/>
              <a:ahLst/>
              <a:rect l="l" t="t" r="r" b="b"/>
              <a:pathLst>
                <a:path w="1352" h="524">
                  <a:moveTo>
                    <a:pt x="0" y="524"/>
                  </a:moveTo>
                  <a:lnTo>
                    <a:pt x="13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3920" y="24764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76640" y="27050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4840" y="121932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fl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7920" y="1447920"/>
              <a:ext cx="68544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47920" y="1447920"/>
              <a:ext cx="57132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1447920"/>
              <a:ext cx="68544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2120" y="487656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m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333440" y="4648320"/>
              <a:ext cx="9144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333440" y="2476080"/>
              <a:ext cx="102852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19440" y="464832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mi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391200" y="4876560"/>
              <a:ext cx="4572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162240" y="4190760"/>
              <a:ext cx="4572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391200" y="4762440"/>
              <a:ext cx="2282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76720" y="144792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omb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934000" y="1447560"/>
              <a:ext cx="3427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179064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lectroly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19160" y="2019240"/>
              <a:ext cx="102852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19520" y="2019240"/>
              <a:ext cx="114120" cy="9140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5334120"/>
            <a:ext cx="79246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Book Antiqua"/>
              </a:rPr>
              <a:t>Cell descrip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Teflon beaker, placed into isoperibolic calorimeter, that dipped into constant temperature +2.5</a:t>
            </a:r>
            <a:r>
              <a:rPr b="1" lang="en-US" sz="1800" spc="-1" strike="noStrike" baseline="30000">
                <a:solidFill>
                  <a:srgbClr val="0066ff"/>
                </a:solidFill>
                <a:latin typeface="Book Antiqua"/>
              </a:rPr>
              <a:t>0</a:t>
            </a: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C water ba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Book Antiqua"/>
              </a:rPr>
              <a:t>ELECTROLYTIC CEL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CONCLUDING  RE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838080"/>
            <a:ext cx="86868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Using SuperWaves ( SW ) in Electrolytic Cells allows to achieve high Excess Heat rates ( up to 2500 %  )  at relatively low current densities ( 7- 11 mA/ cm</a:t>
            </a:r>
            <a:r>
              <a:rPr b="1" lang="it-IT" sz="1800" spc="-1" strike="noStrike" baseline="30000">
                <a:solidFill>
                  <a:srgbClr val="0000ff"/>
                </a:solidFill>
                <a:latin typeface="Book Antiqua"/>
              </a:rPr>
              <a:t>2</a:t>
            </a: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 ) and at relatively low D/Pd loading rates ( 0.75- 0.85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When applaying US waves in addition to the SuperWaves the reproducibilty  rate improves ( 40 %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When applying GD etching to the Pd cathode before electrolysis reproducibility also improves ( 25 % ), however  the Excess Heat rate is not exceeding  72 % as compared to 2500 % achieved with Pd cathodes prepared by Dr. Vittorio Viola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The promising qualitative experimental results achieved using a combination of SW and US waves requires accurate calorimetry, which is underwa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In order to achieve high reproducibilty rates the following has to be done: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        </a:t>
            </a: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- Further optimizatin of the SW  in combination with the U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        </a:t>
            </a: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- Thorough investigation of the controlling parameter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           </a:t>
            </a: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the    Pd cathodes in order to achieve large amou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           </a:t>
            </a:r>
            <a:r>
              <a:rPr b="1" lang="it-IT" sz="1800" spc="-1" strike="noStrike">
                <a:solidFill>
                  <a:srgbClr val="0000ff"/>
                </a:solidFill>
                <a:latin typeface="Book Antiqua"/>
              </a:rPr>
              <a:t>active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62520" y="1981080"/>
            <a:ext cx="5029200" cy="2819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Measured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66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Resistance of cathode for   load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monitoring (four probe AC   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66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Input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66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In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buClr>
                <a:srgbClr val="0066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Book Antiqua"/>
                <a:ea typeface="Arial"/>
              </a:rPr>
              <a:t>Wall Temperatures T4 and T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ELECTROLY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ELECTROLY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6019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Electrolytic Cell and System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05320" y="914400"/>
            <a:ext cx="51814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Book Antiqua"/>
              </a:rPr>
              <a:t>Target 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Pd foil 50 µm, prepared by Dr. Vittorio Violante (ENEA Frascatti, Italy) or home-m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Annealed at  870</a:t>
            </a:r>
            <a:r>
              <a:rPr b="1" lang="en-US" sz="1600" spc="-1" strike="noStrike" baseline="30000">
                <a:solidFill>
                  <a:srgbClr val="0066ff"/>
                </a:solidFill>
                <a:latin typeface="Book Antiqua"/>
              </a:rPr>
              <a:t>0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C in vacuum during 1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ch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in Nitric Acid 65-67%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Book Antiqua"/>
              </a:rPr>
              <a:t>in Aqua Regia 1:1 water solution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Rins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D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O four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hanol 95%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Ethanol Absolute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Dr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  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in vacuum at amb. temperature  24 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Book Antiqua"/>
              </a:rPr>
              <a:t>Electroly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0.1M LiOD in D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Book Antiqua"/>
              </a:rPr>
              <a:t>2</a:t>
            </a:r>
            <a:r>
              <a:rPr b="1" lang="en-US" sz="1600" spc="-1" strike="noStrike">
                <a:solidFill>
                  <a:srgbClr val="0066ff"/>
                </a:solidFill>
                <a:latin typeface="Book Antiqua"/>
              </a:rPr>
              <a:t>O Low Tritium Content 230 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1523520"/>
            <a:ext cx="2971440" cy="4267440"/>
            <a:chOff x="228600" y="1523520"/>
            <a:chExt cx="2971440" cy="4267440"/>
          </a:xfrm>
        </p:grpSpPr>
        <p:grpSp>
          <p:nvGrpSpPr>
            <p:cNvPr id="106" name=""/>
            <p:cNvGrpSpPr/>
            <p:nvPr/>
          </p:nvGrpSpPr>
          <p:grpSpPr>
            <a:xfrm>
              <a:off x="304920" y="1523520"/>
              <a:ext cx="2895120" cy="4267440"/>
              <a:chOff x="304920" y="1523520"/>
              <a:chExt cx="2895120" cy="4267440"/>
            </a:xfrm>
          </p:grpSpPr>
          <p:sp>
            <p:nvSpPr>
              <p:cNvPr id="107" name=""/>
              <p:cNvSpPr/>
              <p:nvPr/>
            </p:nvSpPr>
            <p:spPr>
              <a:xfrm>
                <a:off x="1270080" y="2813760"/>
                <a:ext cx="701640" cy="297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e1e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5400" y="3111840"/>
                <a:ext cx="350640" cy="238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e1e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70080" y="5493600"/>
                <a:ext cx="701640" cy="297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e1e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796400" y="3707280"/>
                <a:ext cx="1403640" cy="188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33240" y="2913120"/>
                <a:ext cx="87480" cy="99000"/>
              </a:xfrm>
              <a:prstGeom prst="donu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21080" y="5592960"/>
                <a:ext cx="87480" cy="99000"/>
              </a:xfrm>
              <a:prstGeom prst="donu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304920" y="3607560"/>
                <a:ext cx="1140480" cy="1984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796400" y="1622520"/>
                <a:ext cx="1228320" cy="1389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304920" y="1622520"/>
                <a:ext cx="1052640" cy="1389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533240" y="1523520"/>
                <a:ext cx="0" cy="1488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828800" y="3124080"/>
              <a:ext cx="887400" cy="1800"/>
            </a:xfrm>
            <a:custGeom>
              <a:avLst/>
              <a:gdLst/>
              <a:ahLst/>
              <a:rect l="l" t="t" r="r" b="b"/>
              <a:pathLst>
                <a:path w="559" h="1">
                  <a:moveTo>
                    <a:pt x="0" y="0"/>
                  </a:moveTo>
                  <a:lnTo>
                    <a:pt x="5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548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31240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1829880" y="38088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80 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752120" y="3505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44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32004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7 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Book Antiqua"/>
              </a:rPr>
              <a:t>ELECTROLY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 Antiqua"/>
              </a:rPr>
              <a:t>Excess Power; Exp. # 5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3244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man Old Style"/>
              </a:rPr>
              <a:t>Excess Power of up to ~3.5 watts; Average ~2.7 watts for ~30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305920" cy="51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3059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438280" y="1752480"/>
            <a:ext cx="365760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1447920"/>
            <a:ext cx="12189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30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36232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ok Antiqua"/>
              </a:rPr>
              <a:t>Average Pout ~6.9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4114800"/>
            <a:ext cx="2895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verage Pinet ~3.9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800600"/>
            <a:ext cx="51051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COPE=(Pout-Pinet):Pinet ≈ (6.9-3.9):3.9 ≈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52280"/>
            <a:ext cx="777240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 Antiqua"/>
              </a:rPr>
              <a:t>Excess Power; Exp. # 64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Pout=K</a:t>
            </a:r>
            <a:r>
              <a:rPr b="1" lang="el-GR" sz="1800" spc="-1" strike="noStrike">
                <a:solidFill>
                  <a:srgbClr val="ff0000"/>
                </a:solidFill>
                <a:latin typeface="Lucida Grande"/>
              </a:rPr>
              <a:t>Δ</a:t>
            </a: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4952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inet=Iin*Vin – P d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man Old Style"/>
              </a:rPr>
              <a:t>Excess Power of up to 34 watts; Average ~20 watts for 17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0720" y="762120"/>
            <a:ext cx="7132680" cy="5486400"/>
            <a:chOff x="990720" y="762120"/>
            <a:chExt cx="7132680" cy="5486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90720" y="762120"/>
              <a:ext cx="71326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819520" y="1676520"/>
              <a:ext cx="4343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29200" y="1339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17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91120" y="4876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verage Pinet ~0.74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66688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ok Antiqua"/>
              </a:rPr>
              <a:t>Average Pout ~20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1752480"/>
            <a:ext cx="4952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COPE=(Pout-Pinet):Pinet ≈ (20-0.74):0.74 ≈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13360" cy="5195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Book Antiqua"/>
              </a:rPr>
              <a:t>Excess Power; Exp. # 64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man Old Style"/>
              </a:rPr>
              <a:t>Excess Power of up to 32 watts; Average ~12 watts for 80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8108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COPE=(Pout-Pinet):Pinet ≈ (12-0.72):0.72 ≈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886200"/>
            <a:ext cx="2895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ok Antiqua"/>
              </a:rPr>
              <a:t>Average Pout ~12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876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verage Pinet ~0.72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3124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2743200"/>
            <a:ext cx="609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8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7:55:35Z</dcterms:created>
  <dc:creator>Energetics</dc:creator>
  <dc:description/>
  <dc:language>en-US</dc:language>
  <cp:lastModifiedBy>User</cp:lastModifiedBy>
  <dcterms:modified xsi:type="dcterms:W3CDTF">2005-05-14T10:49:21Z</dcterms:modified>
  <cp:revision>261</cp:revision>
  <dc:subject/>
  <dc:title>Slide 1</dc:title>
</cp:coreProperties>
</file>