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53EF-0B7E-4FB1-8520-D7026B25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8376-FFE2-49C3-BFFB-B2588B79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4C07-88C3-46DA-93D2-56C13278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FCF1-6D9B-46F7-A211-BDBF2732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21BB-1EBA-4DF0-B383-A40C575E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36B7-A8CD-4F03-87C6-388F1547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4DDA-1BB2-4201-9BDE-DC3AF3AA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7C2A-EF38-4940-AD2C-F0D55744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3EA2-F5AD-4A48-823B-08689AD0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9850-094A-4D1A-B710-54F190EF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CF94-65D2-428A-A061-06F75BF9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CFD1-D8D3-40D5-A68C-01D312B2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8A5B-5533-42F8-B600-8A42AD99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FC7A-2325-485F-A967-15E59B55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D8BA-8125-4FAA-90DA-A445C929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AD76-4228-4827-AC9A-2196B708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A664-B1DE-47CD-A760-46FF4751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7ECE-4F58-46EB-B272-A960615F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30D6-785C-4462-89C8-4C68D612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87CB-EF15-44C2-ACB5-60B9E7E3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55E0-BBA8-4995-9BC7-BF829AD5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F5F1-9DAF-48B1-A3A4-63796A68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96E8-D697-43FE-85CC-CAC06C47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EE3F-3DEC-46B2-BB5E-7AAF6EA4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9BC3-3ED1-45DF-852C-DA55C88B669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FE8C-7ADC-4C1A-B1A8-F7F270BEE0F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smns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6th International Workshop on Anomalies in Hydrogen / Deuterium Loaded Met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Closing Rema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illiam Coll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5F2C-BF92-43A9-9D19-6D62604C2A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The floor is op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y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y discu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A0DB-7714-4D24-A991-E660A33637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Electronic Publish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o cannot read files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DF (Adobe Acrob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PT (Power Point Presen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C (Wo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TF (WO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SCMNS will take your comments into account for www publis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7FE1-CD56-4B50-B935-EA091698BB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Publ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llect CD-ROMs or USB memory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tributed material will NOT be posted to the </a:t>
            </a:r>
            <a:r>
              <a:rPr b="0" lang="en-GB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www.ismns.org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until 1 June so you have 2 weeks to modify (or withdraw) your pap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8CEA-145B-4728-A7BF-D034AD6A67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Last minute Appeal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lease let me have your digital photograph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e can transfer them by cable or by card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6932-9EA1-4A6E-B6D9-023BEF9FDA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Forthcoming Meetings. Sochi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13th Russian Conference on Cold Nuclear Transmutation of chemical elements and Ball-Lightning (RCCNT&amp;BL-13) is to be held during 15-22 September 2005. The  Conference will be held as usual in Dagomys near the city of Sochi a holiday resort on the Black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1245-D4D9-4867-89D0-B00C699D31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Forthcoming Meetings. ICCF-12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7 November-2 December 2005 ICCF12 12th International Conference on Condensed Matter Nuclear Science will be held in Japan, in the New Fujiya Hotel, at Atami near Tokyo sponsored by ISCMNS and co-sponsored by JapanCF-Research Society (JCFRS or JCF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Local Organization Committee (LOC) is being organized by Chairman Akito Takahashi (Osaka University), Co-chairmen Kenichiro Ota (Yokohama National University) and Yasuhiro Iwamura (Mitsubishi Heavy Industry Co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99A6-8FE7-4AB9-8A7F-930CCAA3D8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A 7</a:t>
            </a:r>
            <a:r>
              <a:rPr b="1" lang="en-GB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 International Workshop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CCF-13 will probably be held in Russia in 2006/7 so that leaves a possible opening for another workshop in the Autumn of 2006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1B77-98FD-42F9-9D92-BF49A835D1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A 7</a:t>
            </a:r>
            <a:r>
              <a:rPr b="1" lang="en-GB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 International Workshop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ssible opening for another workshop in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me / Frasc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cily - Erice or Cat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larus - Min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Volunteer organizers please step forwar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850-567F-4740-A1BD-1CB30FD1A9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Lunch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Only those who are booked at the Certosa tonight are entitled to further me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 informal group will be leaving after this meeting for lunch at “Il Chiribiru” restaurant in San Gimignan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l 333-80296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429F-2D59-4E4A-B01A-1369A431B4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0000"/>
                </a:solidFill>
                <a:latin typeface="Arial"/>
              </a:rPr>
              <a:t>Return your Keys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lease return your keys to rece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ke sure your rooms are emp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You can leave any baggage in the Sala Affre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E168-6176-46C1-8FA3-59B3DB4B41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</cp:lastModifiedBy>
  <dcterms:modified xsi:type="dcterms:W3CDTF">2005-05-25T11:15:32Z</dcterms:modified>
  <cp:revision>8</cp:revision>
  <dc:subject/>
  <dc:title>PowerPoint Presentation</dc:title>
</cp:coreProperties>
</file>