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774238" cy="14209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659-ECBE-4B3C-B4E4-0CF14B7A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B4A-B480-4CCB-BEFD-902296C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045-4A0E-433A-84F7-83EA7C47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333-AADF-48AB-A1DF-F75E507C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7DF7-44FD-4A29-A399-5B93B6D8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89EE-126D-41AF-98F3-53BB35C6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5097-DC12-4760-B4B7-72806B32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2B1D-158F-4DC1-8FBE-4321CDD3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AED9-A337-473E-B0F4-AC3C2717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F86A-A369-4ADB-BCFB-7A2775C5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FC7A-E076-4ABE-8D22-9E682481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B3F-CFAE-478D-A76E-AD996521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C952-6D50-4A94-8591-39186F6F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D601-CBD5-441B-9D63-CD813E7D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EFC8-D516-42DF-9DCC-F1ACEFE5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2595-F617-42AD-8A41-AAF1E57E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87C6-509E-4884-9E18-F0F9D336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D46-5C3A-46BD-86F9-764F3166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930-6B8A-46C8-AC0B-C12679BF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C0B-C333-48B3-9CA7-46FD2CF9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063-3A6B-4093-89D2-D1550106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AAF-D2E7-4270-9214-C0EDDBA1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437-184D-4069-A04F-2F3B77E4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D9B-EF82-40A9-8452-312603DD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7E24-0D9A-46F0-86FB-A703C97F86E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50DF-20E1-464F-933B-4EE6DEA8205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r.collis@physics.org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International Workshop on Anomalies in Hydrogen / Deuterium Loaded 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mmon Featur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uclear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William J M F Colli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mr.collis@physic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100" spc="-1" strike="noStrike">
                <a:solidFill>
                  <a:srgbClr val="000000"/>
                </a:solidFill>
                <a:latin typeface="Arial"/>
              </a:rPr>
              <a:t>Considerate la vostra semenza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100" spc="-1" strike="noStrike">
                <a:solidFill>
                  <a:srgbClr val="000000"/>
                </a:solidFill>
                <a:latin typeface="Arial"/>
              </a:rPr>
              <a:t>Fatti non foste a viver come bruti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100" spc="-1" strike="noStrike">
                <a:solidFill>
                  <a:srgbClr val="000000"/>
                </a:solidFill>
                <a:latin typeface="Arial"/>
              </a:rPr>
              <a:t>Ma per seguir virtute e conoscenza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Dante, Inferno, XXVI 118-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E74-6B33-476D-8B7C-18C2D772CC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Using Fisher’s value for del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th delta=1.070 MeV (</a:t>
            </a:r>
            <a:r>
              <a:rPr b="1" lang="en-GB" sz="3200" spc="-1" strike="noStrike">
                <a:solidFill>
                  <a:srgbClr val="6666cc"/>
                </a:solidFill>
                <a:latin typeface="Arial"/>
              </a:rPr>
              <a:t>Fishe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 we find only 64/292 = 22% inert isotopes incl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,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r,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,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9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ut no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Arial"/>
              </a:rPr>
              <a:t>96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Mo nor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Arial"/>
              </a:rPr>
              <a:t>150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CB2-0912-4631-BE89-EE5FB46F51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A further adjust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th delta=1.143500 MeV we find only 61/292 = 21% inert isotopes incl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,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r,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,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9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m,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ut not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Arial"/>
              </a:rPr>
              <a:t>96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Mo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a"/>
                </a:solidFill>
                <a:latin typeface="Arial"/>
              </a:rPr>
              <a:t>N.B. Changing delta by 1 keV makes </a:t>
            </a:r>
            <a:r>
              <a:rPr b="1" lang="en-GB" sz="3200" spc="-1" strike="noStrike" baseline="30000">
                <a:solidFill>
                  <a:srgbClr val="0000fa"/>
                </a:solidFill>
                <a:latin typeface="Arial"/>
              </a:rPr>
              <a:t>150</a:t>
            </a:r>
            <a:r>
              <a:rPr b="1" lang="en-GB" sz="3200" spc="-1" strike="noStrike">
                <a:solidFill>
                  <a:srgbClr val="0000fa"/>
                </a:solidFill>
                <a:latin typeface="Arial"/>
              </a:rPr>
              <a:t>Sm disappear from the li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86A-B859-4CE3-BC2E-E2203653BC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Is this a chance result?</a:t>
            </a: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agrees with Fisher’s value (determined independently) within a few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robability of 4 products at 21% each is 0.2%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ther products predi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C09-749B-4224-8B16-DB39CE31C2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Try a poly-proton theory for comparison!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th delta=1.142 MeV we find only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th delta= 0 we find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and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th delta= -1 MeV we find only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o correl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004-E5E4-4B3B-A9F0-2B6A384F1E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Complete list of 61 inert isotop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  </a:t>
            </a:r>
            <a:r>
              <a:rPr b="1" lang="en-GB" sz="3200" spc="-1" strike="noStrike" baseline="30000">
                <a:solidFill>
                  <a:srgbClr val="0000fa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0000fa"/>
                </a:solidFill>
                <a:latin typeface="Arial"/>
              </a:rPr>
              <a:t>H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3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8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8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r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87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b </a:t>
            </a:r>
            <a:r>
              <a:rPr b="1" lang="en-GB" sz="3200" spc="-1" strike="noStrike" baseline="30000">
                <a:solidFill>
                  <a:srgbClr val="0000fa"/>
                </a:solidFill>
                <a:latin typeface="Arial"/>
              </a:rPr>
              <a:t>9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r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3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Xe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38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39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1" lang="en-GB" sz="3200" spc="-1" strike="noStrike" baseline="30000">
                <a:solidFill>
                  <a:srgbClr val="0000fa"/>
                </a:solidFill>
                <a:latin typeface="Arial"/>
              </a:rPr>
              <a:t>141</a:t>
            </a:r>
            <a:r>
              <a:rPr b="1" lang="en-GB" sz="3200" spc="-1" strike="noStrike">
                <a:solidFill>
                  <a:srgbClr val="0000fa"/>
                </a:solidFill>
                <a:latin typeface="Arial"/>
              </a:rPr>
              <a:t>P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1" lang="en-GB" sz="3200" spc="-1" strike="noStrike" baseline="30000">
                <a:solidFill>
                  <a:srgbClr val="0000fa"/>
                </a:solidFill>
                <a:latin typeface="Arial"/>
              </a:rPr>
              <a:t>148</a:t>
            </a:r>
            <a:r>
              <a:rPr b="1" lang="en-GB" sz="3200" spc="-1" strike="noStrike">
                <a:solidFill>
                  <a:srgbClr val="0000fa"/>
                </a:solidFill>
                <a:latin typeface="Arial"/>
              </a:rPr>
              <a:t>Sm </a:t>
            </a:r>
            <a:r>
              <a:rPr b="1" lang="en-GB" sz="3200" spc="-1" strike="noStrike" baseline="30000">
                <a:solidFill>
                  <a:srgbClr val="0000fa"/>
                </a:solidFill>
                <a:latin typeface="Arial"/>
              </a:rPr>
              <a:t>149</a:t>
            </a:r>
            <a:r>
              <a:rPr b="1" lang="en-GB" sz="3200" spc="-1" strike="noStrike">
                <a:solidFill>
                  <a:srgbClr val="0000fa"/>
                </a:solidFill>
                <a:latin typeface="Arial"/>
              </a:rPr>
              <a:t>S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58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d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6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y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6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y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6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67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68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7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b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7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b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7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u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7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u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77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78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8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8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8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8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8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88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89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9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9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t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9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t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0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g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0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g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l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07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08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09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Not all these isotopes are produ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175-BBF8-406E-B1D6-69D2CC470B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Where are the light isotope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ducing the value of delta to 0, in addition to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,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,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, we get a total of 79 isotopes incl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, Mg, Si, S, Cl, Ar, Ca, Ti, Cr, Mn, 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i, Zn ….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ut no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Arial"/>
              </a:rPr>
              <a:t>149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m,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Arial"/>
              </a:rPr>
              <a:t>150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2D1-5552-44C4-A9C1-B24B766F6A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and Iwamura’s products strongly suggest a nuclear expla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se products are generally consistent with Fisher’s polyneutron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T consistent with random imp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200-9FF7-4867-8CE7-18A46D5248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is, W.J.M.F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uclear Reactions of Cold Fusion-A Systematic Stud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5th International Conference on Cold Fu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1995. Monte-Carlo, Monaco: IMRA Europe, Sophia Antipolis Cedex, Fr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sher, J.C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utline of Polyneutron Physics (Basic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his worksh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olyneutrons as agents for cold nuclear reaction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sion Technol., 1992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p. 5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iquid-drop model for extremely neutron rich nuclei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sion Technol., 1998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p. 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885-524F-4D4D-A035-1088CAED56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we make sense out of bewildering array of reported nuclear produ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e such products the result of nuclear reactions or are they impur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class(es) of nuclear reactions (if any) could be respon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7A0-EC57-49F1-A45F-8934572F77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What Produc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(Miles et a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wamur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9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re may be other products of cour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CEA-BC41-4E7D-BF4D-3CB0875AFF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What Nuclear Criteri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wamura and others have conjectured that these products are formed by a reactions of the form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 + n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 -&gt; 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A+2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  [+ 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] + 40-60 M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ch energies would be expected to eject nucleons (ie neutrons) from the product which are not ob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170-B583-4C52-9728-9A4D82CB35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Testing Fisher’s Polyneutron Theor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order for an isotope to be a major product of interactions with a polyneutron a necessary (but not sufficient) condition is that it should not react with polyneutr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37E-763E-418C-AB5B-50484FB6BB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Inert produc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 isotope X is deemed “inert” if it cannot react exothermically in either of the following neutron pair transfer reaction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 -&gt;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W-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A+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grow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 -&gt;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W+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A-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shrink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BBB-EE28-4131-801D-4AF0D724B5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Just how stable is a Polyneutron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the purposes of this test we assume the mass excess (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=0) of a polyneutron is given simply by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 = delta.n  M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n is the number of neutrons and delta is a parameter to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(overly) simple formulation has the advantage of not requiring us to know the size of a polyneutron in calculating the reaction e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CDB-B5AB-49F9-AEF5-CFC962AA1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What results do we expect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otopes with a “magic” number of neutrons (2, 8, 20, 28, 50, 82, 126) will be particularly stable and may not easily accept or donate neu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gic exampl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,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8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,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,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3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5AA-F5E3-480D-8756-2D104B28B4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What results do we get?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th delta=0.338 MeV we find only 67/292 = 23% inert isotopes incl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,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,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4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ut no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Arial"/>
              </a:rPr>
              <a:t>149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m,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Arial"/>
              </a:rPr>
              <a:t>150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ena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428-C352-426A-A984-483483C536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</cp:lastModifiedBy>
  <dcterms:modified xsi:type="dcterms:W3CDTF">2005-05-11T13:44:03Z</dcterms:modified>
  <cp:revision>17</cp:revision>
  <dc:subject/>
  <dc:title>PowerPoint Presentation</dc:title>
</cp:coreProperties>
</file>