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F28-D944-42B7-B67F-E8D68D39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368-33F7-42B0-B8C9-914F2824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CF6-4283-4D12-9C7E-D6AB3C22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7AC-1BD3-4476-9273-694A5E86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A28F-85CE-454D-9000-5EFE26C0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B05F-566F-4665-A15A-00FADCCF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FAE6-731A-4305-9F38-029A8AE9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0320-9D1A-4165-8FD3-33351AE1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4BFD-229E-4057-A441-9F6BCD2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25F6-B699-4FA7-9301-F897F500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D082-F5C0-4B06-B14F-CDB92AA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BD0-BF6A-412C-8AB7-5342223D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F724-2306-42B6-B3BE-A6E6D14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44DF-7A3E-4329-98C1-FEE5D89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34D-94F6-43A4-81EB-22DD02DB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B17F-5F31-42E2-8F90-A1DA2B0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1369-C26E-4A88-B7F9-00030EB7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CAA-CD3B-4A08-A9D6-3534C51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48B-4435-454C-AAE1-164FA368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C2E-3EA5-4013-845A-590DCCE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F73-B758-46BE-B084-57848076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E99-33B0-4BEE-B185-4A0A16F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484-F463-46E3-B6EE-2E39DD90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473-D782-4167-8033-3874F98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045-1225-43FA-B161-319D3D868DE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90E-D291-4A72-8621-91285419A3D1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393200"/>
            <a:ext cx="7848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Explosion during an electrolysis experiment in an open cell mass flow calorimeter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65160" y="3606840"/>
            <a:ext cx="74120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Jean-Paul Bibe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Faculté des Sciences de Luminy, CNRS-CRMC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Université d’Aix-Marseill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él: + 33 660 14 04 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mail: biberian@crmcn.univ-mrs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2280" y="10548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Experimental set-up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270240" y="3032280"/>
            <a:ext cx="0" cy="29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9560" y="3032280"/>
            <a:ext cx="0" cy="28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0240" y="3032280"/>
            <a:ext cx="4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92440" y="3032280"/>
            <a:ext cx="0" cy="28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43200" y="3032280"/>
            <a:ext cx="0" cy="29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2440" y="3032280"/>
            <a:ext cx="5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19560" y="586728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0240" y="59356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4760" y="3032280"/>
            <a:ext cx="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8680" y="3032280"/>
            <a:ext cx="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4760" y="4216320"/>
            <a:ext cx="2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265896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89480" y="240984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419640" y="240948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78200" y="259884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52720" y="266400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86080" y="2763360"/>
            <a:ext cx="133560" cy="268560"/>
            <a:chOff x="3286080" y="2763360"/>
            <a:chExt cx="133560" cy="268560"/>
          </a:xfrm>
        </p:grpSpPr>
        <p:sp>
          <p:nvSpPr>
            <p:cNvPr id="232" name=""/>
            <p:cNvSpPr/>
            <p:nvPr/>
          </p:nvSpPr>
          <p:spPr>
            <a:xfrm flipH="1" flipV="1">
              <a:off x="3286080" y="3009240"/>
              <a:ext cx="5832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86080" y="2833560"/>
              <a:ext cx="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86080" y="2763360"/>
              <a:ext cx="13356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3568680" y="3007800"/>
            <a:ext cx="4932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86240" y="2765520"/>
            <a:ext cx="1317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18000" y="283356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18000" y="288288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18000" y="294804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0" y="2948040"/>
            <a:ext cx="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25720" y="2948040"/>
            <a:ext cx="19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9120" y="29480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28960" y="29480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0600" y="2914560"/>
            <a:ext cx="52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54560" y="2287440"/>
            <a:ext cx="0" cy="487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13280" y="2881440"/>
            <a:ext cx="223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013280" y="2924280"/>
            <a:ext cx="25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62480" y="2392200"/>
            <a:ext cx="237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416400" y="2390760"/>
            <a:ext cx="2520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61040" y="3231720"/>
            <a:ext cx="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32320" y="32936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63920" y="3235320"/>
            <a:ext cx="4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2320" y="32986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3125880"/>
            <a:ext cx="304560" cy="27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27520" y="3016080"/>
            <a:ext cx="11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57680" y="307656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62600" y="3016080"/>
            <a:ext cx="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08600" y="3073320"/>
            <a:ext cx="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1440" y="26002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46240" y="26640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54560" y="4219560"/>
            <a:ext cx="0" cy="14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54560" y="4572000"/>
            <a:ext cx="0" cy="12096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40240" y="421956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70320" y="421956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0320" y="5564160"/>
            <a:ext cx="1699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70320" y="562932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70320" y="566244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68520" y="559764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68520" y="569592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68520" y="576108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5640" y="5729400"/>
            <a:ext cx="169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914200" y="2728800"/>
            <a:ext cx="324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400640" y="357192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92440" y="3451320"/>
            <a:ext cx="5968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6160" y="5394240"/>
            <a:ext cx="123660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3560" y="4686480"/>
            <a:ext cx="1171440" cy="5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97080" y="3191040"/>
            <a:ext cx="800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11280" y="5248440"/>
            <a:ext cx="9144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a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17760" y="444168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lat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25880" y="2617920"/>
            <a:ext cx="1143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istor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25960" y="1933560"/>
            <a:ext cx="1257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isto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40360" y="4219560"/>
            <a:ext cx="1143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00 ml/min distilled water at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54760" y="3076560"/>
            <a:ext cx="799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70320" y="5338800"/>
            <a:ext cx="1699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0320" y="540396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70320" y="543708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68520" y="5372280"/>
            <a:ext cx="168480" cy="4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68520" y="547056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68520" y="553572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5640" y="5504040"/>
            <a:ext cx="169560" cy="4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70320" y="5110200"/>
            <a:ext cx="1699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70320" y="517536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70320" y="520848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68520" y="5143680"/>
            <a:ext cx="168480" cy="4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68520" y="524196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68520" y="530712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65640" y="5275440"/>
            <a:ext cx="169560" cy="4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70320" y="4878360"/>
            <a:ext cx="1699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0320" y="494352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0320" y="497664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68520" y="491184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68520" y="501012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68520" y="507528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65640" y="5043600"/>
            <a:ext cx="169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70320" y="4649760"/>
            <a:ext cx="16992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0320" y="471492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70320" y="474804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68520" y="468324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68520" y="478152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8520" y="4846680"/>
            <a:ext cx="1684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65640" y="4815000"/>
            <a:ext cx="169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67080" y="4417920"/>
            <a:ext cx="16992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67080" y="448308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67080" y="451656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65640" y="4451400"/>
            <a:ext cx="1681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65640" y="4549680"/>
            <a:ext cx="1681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5640" y="4614840"/>
            <a:ext cx="1681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62400" y="4583160"/>
            <a:ext cx="1699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517-4EFF-477B-B175-56F505EC4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Verdana"/>
              </a:rPr>
              <a:t>Experimenal condition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thode : Palladium tube length:10 cm, diameter 2m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ode :Platinum w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lectrolyte : LiOD 0.1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ximum gas volume 120 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C curr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orimeter efficiency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617-10BA-4AB3-A57C-DB7CE8638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Verdana"/>
              </a:rPr>
              <a:t>The cel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119240" y="1870200"/>
            <a:ext cx="719784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8A0-BFA4-4B81-A7BC-C9D233CEC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Verdana"/>
              </a:rPr>
              <a:t>The cell after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170000" y="1943280"/>
            <a:ext cx="719784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A66-1179-4169-965E-20E78968C0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Verdana"/>
              </a:rPr>
              <a:t>Electrode after explo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157400" y="1968480"/>
            <a:ext cx="719748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2BB-A039-441B-83CC-4C7565BBF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Verdana"/>
              </a:rPr>
              <a:t>Pin-Pou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723960" y="1854360"/>
          <a:ext cx="747072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854360"/>
                    <a:ext cx="7470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1F6-819B-49BE-9ACD-639A3939BA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Verdana"/>
              </a:rPr>
              <a:t>Last two day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571680" y="1833480"/>
          <a:ext cx="7914960" cy="463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833480"/>
                    <a:ext cx="791496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26A-8D99-4B49-9C42-825F41DCF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1804320"/>
            <a:ext cx="8102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nclus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49160" y="2743200"/>
            <a:ext cx="80647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The explosion occurred during an endothermic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Open cell calori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aximum available gas: 120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on’t seems to be a deuterium-oxygen explo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What t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Ma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790-AF4B-4CD3-8E42-0CA5D129F2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20:20:49Z</dcterms:created>
  <dc:creator>John Doe</dc:creator>
  <dc:description/>
  <dc:language>en-US</dc:language>
  <cp:lastModifiedBy>William</cp:lastModifiedBy>
  <dcterms:modified xsi:type="dcterms:W3CDTF">2005-05-25T10:42:28Z</dcterms:modified>
  <cp:revision>106</cp:revision>
  <dc:subject/>
  <dc:title>Les Transmutations biologiques</dc:title>
</cp:coreProperties>
</file>