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29A-539E-472D-9B8C-6009B47A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169-B45E-493D-B330-8E1CDAB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0B3-F1C2-4A54-A819-2050805E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AAC-EFB0-4A03-8779-9038A0C7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08F-419D-4A7A-BB72-D534947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AF8-3E36-4051-B978-D0CBDA11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59C-E719-42B6-AF7F-C48AD2A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268-0E18-4BF4-B23F-C0981BD1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9FA-3E35-43F0-B25A-AC23E37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84A-DA3E-42B5-B6E5-B32E482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EDD-5732-41F7-A690-13BAD73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297-2FFE-435A-A82F-0A33916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7966-F212-4B2E-9D17-4E6EADC7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54864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22860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096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22096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2096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2096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085920" y="110484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630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600520" y="133344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1630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8120"/>
            <a:ext cx="1143000" cy="1522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048120"/>
            <a:ext cx="685800" cy="1522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1"/>
            <a:endCxn id="53" idx="1"/>
          </p:cNvCxnSpPr>
          <p:nvPr/>
        </p:nvCxnSpPr>
        <p:spPr>
          <a:xfrm>
            <a:off x="2895480" y="2286000"/>
            <a:ext cx="38160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4" idx="3"/>
            <a:endCxn id="54" idx="1"/>
          </p:cNvCxnSpPr>
          <p:nvPr/>
        </p:nvCxnSpPr>
        <p:spPr>
          <a:xfrm>
            <a:off x="4038480" y="2286000"/>
            <a:ext cx="38160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1"/>
            <a:endCxn id="54" idx="1"/>
          </p:cNvCxnSpPr>
          <p:nvPr/>
        </p:nvCxnSpPr>
        <p:spPr>
          <a:xfrm flipH="1">
            <a:off x="4419720" y="2286000"/>
            <a:ext cx="53352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6" idx="1"/>
            <a:endCxn id="54" idx="3"/>
          </p:cNvCxnSpPr>
          <p:nvPr/>
        </p:nvCxnSpPr>
        <p:spPr>
          <a:xfrm flipH="1">
            <a:off x="5105520" y="2286000"/>
            <a:ext cx="53352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4038480" y="3230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7242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7242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7242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7242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46" idx="1"/>
            <a:endCxn id="64" idx="1"/>
          </p:cNvCxnSpPr>
          <p:nvPr/>
        </p:nvCxnSpPr>
        <p:spPr>
          <a:xfrm flipH="1">
            <a:off x="5105520" y="2286000"/>
            <a:ext cx="53352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6" idx="3"/>
            <a:endCxn id="64" idx="3"/>
          </p:cNvCxnSpPr>
          <p:nvPr/>
        </p:nvCxnSpPr>
        <p:spPr>
          <a:xfrm flipH="1">
            <a:off x="5791320" y="2286000"/>
            <a:ext cx="53352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3" idx="3"/>
            <a:endCxn id="63" idx="3"/>
          </p:cNvCxnSpPr>
          <p:nvPr/>
        </p:nvCxnSpPr>
        <p:spPr>
          <a:xfrm>
            <a:off x="2895480" y="2286000"/>
            <a:ext cx="38160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3" idx="1"/>
            <a:endCxn id="63" idx="1"/>
          </p:cNvCxnSpPr>
          <p:nvPr/>
        </p:nvCxnSpPr>
        <p:spPr>
          <a:xfrm>
            <a:off x="2209680" y="2286000"/>
            <a:ext cx="381600" cy="25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 rot="5400000">
            <a:off x="4480560" y="1432440"/>
            <a:ext cx="106200" cy="990720"/>
          </a:xfrm>
          <a:custGeom>
            <a:avLst/>
            <a:gdLst>
              <a:gd name="textAreaLeft" fmla="*/ 68040 w 106200"/>
              <a:gd name="textAreaRight" fmla="*/ 106560 w 106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6002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4100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410080"/>
            <a:ext cx="11430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5410080"/>
            <a:ext cx="685800" cy="15264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5410080"/>
            <a:ext cx="685800" cy="15264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3" idx="1"/>
            <a:endCxn id="71" idx="1"/>
          </p:cNvCxnSpPr>
          <p:nvPr/>
        </p:nvCxnSpPr>
        <p:spPr>
          <a:xfrm>
            <a:off x="2209680" y="228600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46" idx="3"/>
            <a:endCxn id="74" idx="3"/>
          </p:cNvCxnSpPr>
          <p:nvPr/>
        </p:nvCxnSpPr>
        <p:spPr>
          <a:xfrm>
            <a:off x="6324480" y="228600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3962520" y="5668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33920"/>
            <a:ext cx="1828800" cy="152280"/>
          </a:xfrm>
          <a:prstGeom prst="rect">
            <a:avLst/>
          </a:prstGeom>
          <a:solidFill>
            <a:srgbClr val="c4b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164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3" idx="1"/>
            <a:endCxn id="78" idx="1"/>
          </p:cNvCxnSpPr>
          <p:nvPr/>
        </p:nvCxnSpPr>
        <p:spPr>
          <a:xfrm>
            <a:off x="3276720" y="312408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54" idx="3"/>
            <a:endCxn id="78" idx="3"/>
          </p:cNvCxnSpPr>
          <p:nvPr/>
        </p:nvCxnSpPr>
        <p:spPr>
          <a:xfrm>
            <a:off x="5105520" y="312408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373392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410080"/>
            <a:ext cx="152280" cy="152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7242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9718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2743200"/>
            <a:ext cx="152280" cy="152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"/>
          <p:cNvCxnSpPr/>
          <p:nvPr/>
        </p:nvCxnSpPr>
        <p:spPr>
          <a:xfrm>
            <a:off x="457200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H="1">
            <a:off x="502884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343044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 flipH="1">
            <a:off x="5716080" y="2408400"/>
            <a:ext cx="457920" cy="3657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 sequenc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571608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343044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 flipH="1">
            <a:off x="640188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>
            <a:off x="2744640" y="2408040"/>
            <a:ext cx="457920" cy="14626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grpSp>
        <p:nvGrpSpPr>
          <p:cNvPr id="111" name=""/>
          <p:cNvGrpSpPr/>
          <p:nvPr/>
        </p:nvGrpSpPr>
        <p:grpSpPr>
          <a:xfrm>
            <a:off x="2743200" y="4419720"/>
            <a:ext cx="4114800" cy="182160"/>
            <a:chOff x="2743200" y="4419720"/>
            <a:chExt cx="4114800" cy="182160"/>
          </a:xfrm>
        </p:grpSpPr>
        <p:sp>
          <p:nvSpPr>
            <p:cNvPr id="112" name=""/>
            <p:cNvSpPr/>
            <p:nvPr/>
          </p:nvSpPr>
          <p:spPr>
            <a:xfrm>
              <a:off x="2745000" y="4510800"/>
              <a:ext cx="411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41972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9000" y="441972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441972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441972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42840" y="2408040"/>
            <a:ext cx="4116240" cy="2011680"/>
            <a:chOff x="2742840" y="2408040"/>
            <a:chExt cx="4116240" cy="2011680"/>
          </a:xfrm>
        </p:grpSpPr>
        <p:cxnSp>
          <p:nvCxnSpPr>
            <p:cNvPr id="118" name=""/>
            <p:cNvCxnSpPr>
              <a:stCxn id="97" idx="1"/>
              <a:endCxn id="113" idx="1"/>
            </p:cNvCxnSpPr>
            <p:nvPr/>
          </p:nvCxnSpPr>
          <p:spPr>
            <a:xfrm flipH="1">
              <a:off x="2742840" y="2408040"/>
              <a:ext cx="2160" cy="2012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00" idx="3"/>
              <a:endCxn id="116" idx="3"/>
            </p:cNvCxnSpPr>
            <p:nvPr/>
          </p:nvCxnSpPr>
          <p:spPr>
            <a:xfrm flipH="1">
              <a:off x="6857280" y="2408040"/>
              <a:ext cx="2160" cy="2012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  <p:sp>
        <p:nvSpPr>
          <p:cNvPr id="120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nom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322800"/>
            <a:ext cx="1828800" cy="182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85840" y="2955960"/>
            <a:ext cx="1829520" cy="365400"/>
            <a:chOff x="3885840" y="2955960"/>
            <a:chExt cx="1829520" cy="365400"/>
          </a:xfrm>
        </p:grpSpPr>
        <p:cxnSp>
          <p:nvCxnSpPr>
            <p:cNvPr id="124" name=""/>
            <p:cNvCxnSpPr>
              <a:stCxn id="125" idx="1"/>
              <a:endCxn id="121" idx="1"/>
            </p:cNvCxnSpPr>
            <p:nvPr/>
          </p:nvCxnSpPr>
          <p:spPr>
            <a:xfrm>
              <a:off x="3885840" y="2955960"/>
              <a:ext cx="1080" cy="365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127" idx="3"/>
              <a:endCxn id="121" idx="3"/>
            </p:cNvCxnSpPr>
            <p:nvPr/>
          </p:nvCxnSpPr>
          <p:spPr>
            <a:xfrm>
              <a:off x="5714640" y="2955960"/>
              <a:ext cx="1080" cy="365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3200400" y="3870360"/>
            <a:ext cx="3200400" cy="182160"/>
            <a:chOff x="3200400" y="3870360"/>
            <a:chExt cx="3200400" cy="182160"/>
          </a:xfrm>
        </p:grpSpPr>
        <p:sp>
          <p:nvSpPr>
            <p:cNvPr id="129" name=""/>
            <p:cNvSpPr/>
            <p:nvPr/>
          </p:nvSpPr>
          <p:spPr>
            <a:xfrm>
              <a:off x="3886200" y="387036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387036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87036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3870360"/>
              <a:ext cx="685800" cy="182160"/>
            </a:xfrm>
            <a:prstGeom prst="rect">
              <a:avLst/>
            </a:prstGeom>
            <a:solidFill>
              <a:srgbClr val="f1ad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2773440"/>
            <a:ext cx="1828800" cy="182160"/>
            <a:chOff x="3886200" y="2773440"/>
            <a:chExt cx="1828800" cy="182160"/>
          </a:xfrm>
        </p:grpSpPr>
        <p:sp>
          <p:nvSpPr>
            <p:cNvPr id="125" name=""/>
            <p:cNvSpPr/>
            <p:nvPr/>
          </p:nvSpPr>
          <p:spPr>
            <a:xfrm>
              <a:off x="3886200" y="2773440"/>
              <a:ext cx="11430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2773440"/>
              <a:ext cx="685800" cy="182160"/>
            </a:xfrm>
            <a:prstGeom prst="rect">
              <a:avLst/>
            </a:prstGeom>
            <a:solidFill>
              <a:srgbClr val="5e5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43200" y="1969920"/>
            <a:ext cx="4114800" cy="182520"/>
            <a:chOff x="2743200" y="1969920"/>
            <a:chExt cx="4114800" cy="182520"/>
          </a:xfrm>
        </p:grpSpPr>
        <p:sp>
          <p:nvSpPr>
            <p:cNvPr id="135" name=""/>
            <p:cNvSpPr/>
            <p:nvPr/>
          </p:nvSpPr>
          <p:spPr>
            <a:xfrm rot="5400000">
              <a:off x="3581280" y="114732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6095880" y="137592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4952880" y="1604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196992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"/>
          <p:cNvCxnSpPr/>
          <p:nvPr/>
        </p:nvCxnSpPr>
        <p:spPr>
          <a:xfrm>
            <a:off x="4572000" y="2408400"/>
            <a:ext cx="457920" cy="411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/>
          <p:nvPr/>
        </p:nvCxnSpPr>
        <p:spPr>
          <a:xfrm flipH="1">
            <a:off x="5028840" y="2408400"/>
            <a:ext cx="457920" cy="411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5e5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3430440" y="2408400"/>
            <a:ext cx="457920" cy="45792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1" name=""/>
          <p:cNvCxnSpPr/>
          <p:nvPr/>
        </p:nvCxnSpPr>
        <p:spPr>
          <a:xfrm flipH="1">
            <a:off x="5716080" y="2408400"/>
            <a:ext cx="457920" cy="45792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152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quence n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crip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D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Rs, if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H="1">
            <a:off x="571608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5" name=""/>
          <p:cNvCxnSpPr/>
          <p:nvPr/>
        </p:nvCxnSpPr>
        <p:spPr>
          <a:xfrm>
            <a:off x="343044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6" name=""/>
          <p:cNvCxnSpPr/>
          <p:nvPr/>
        </p:nvCxnSpPr>
        <p:spPr>
          <a:xfrm flipH="1">
            <a:off x="640188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57" name=""/>
          <p:cNvCxnSpPr/>
          <p:nvPr/>
        </p:nvCxnSpPr>
        <p:spPr>
          <a:xfrm>
            <a:off x="2744640" y="2408040"/>
            <a:ext cx="457920" cy="155484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grpSp>
        <p:nvGrpSpPr>
          <p:cNvPr id="158" name=""/>
          <p:cNvGrpSpPr/>
          <p:nvPr/>
        </p:nvGrpSpPr>
        <p:grpSpPr>
          <a:xfrm>
            <a:off x="2742840" y="2408400"/>
            <a:ext cx="4116240" cy="2101680"/>
            <a:chOff x="2742840" y="2408400"/>
            <a:chExt cx="4116240" cy="2101680"/>
          </a:xfrm>
        </p:grpSpPr>
        <p:cxnSp>
          <p:nvCxnSpPr>
            <p:cNvPr id="159" name=""/>
            <p:cNvCxnSpPr>
              <a:stCxn id="144" idx="1"/>
            </p:cNvCxnSpPr>
            <p:nvPr/>
          </p:nvCxnSpPr>
          <p:spPr>
            <a:xfrm flipH="1">
              <a:off x="2742840" y="2408400"/>
              <a:ext cx="2160" cy="210204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0" name=""/>
            <p:cNvCxnSpPr>
              <a:stCxn id="147" idx="3"/>
            </p:cNvCxnSpPr>
            <p:nvPr/>
          </p:nvCxnSpPr>
          <p:spPr>
            <a:xfrm flipH="1">
              <a:off x="6857280" y="2408400"/>
              <a:ext cx="2160" cy="210204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last 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cluding intr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tei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m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id sequ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884400" y="2865240"/>
            <a:ext cx="1829520" cy="547920"/>
            <a:chOff x="3884400" y="2865240"/>
            <a:chExt cx="1829520" cy="547920"/>
          </a:xfrm>
        </p:grpSpPr>
        <p:cxnSp>
          <p:nvCxnSpPr>
            <p:cNvPr id="164" name=""/>
            <p:cNvCxnSpPr/>
            <p:nvPr/>
          </p:nvCxnSpPr>
          <p:spPr>
            <a:xfrm>
              <a:off x="3884400" y="2865240"/>
              <a:ext cx="1080" cy="54828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65" name=""/>
            <p:cNvCxnSpPr/>
            <p:nvPr/>
          </p:nvCxnSpPr>
          <p:spPr>
            <a:xfrm>
              <a:off x="5713200" y="2865240"/>
              <a:ext cx="1080" cy="548280"/>
            </a:xfrm>
            <a:prstGeom prst="straightConnector1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66" name=""/>
          <p:cNvSpPr/>
          <p:nvPr/>
        </p:nvSpPr>
        <p:spPr>
          <a:xfrm>
            <a:off x="3884760" y="2865600"/>
            <a:ext cx="182880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429000"/>
            <a:ext cx="18288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962520"/>
            <a:ext cx="319896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511520"/>
            <a:ext cx="4113360" cy="0"/>
          </a:xfrm>
          <a:prstGeom prst="line">
            <a:avLst/>
          </a:prstGeom>
          <a:ln w="763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200" y="1625760"/>
            <a:ext cx="4114800" cy="182520"/>
            <a:chOff x="2743200" y="1625760"/>
            <a:chExt cx="4114800" cy="182520"/>
          </a:xfrm>
        </p:grpSpPr>
        <p:sp>
          <p:nvSpPr>
            <p:cNvPr id="171" name=""/>
            <p:cNvSpPr/>
            <p:nvPr/>
          </p:nvSpPr>
          <p:spPr>
            <a:xfrm rot="5400000">
              <a:off x="3581280" y="80316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095880" y="10317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4952880" y="12603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90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162576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3280" y="1876320"/>
            <a:ext cx="5143320" cy="276480"/>
            <a:chOff x="1943280" y="1876320"/>
            <a:chExt cx="5143320" cy="276480"/>
          </a:xfrm>
        </p:grpSpPr>
        <p:sp>
          <p:nvSpPr>
            <p:cNvPr id="178" name=""/>
            <p:cNvSpPr/>
            <p:nvPr/>
          </p:nvSpPr>
          <p:spPr>
            <a:xfrm>
              <a:off x="194328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57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9392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744640" y="2060640"/>
              <a:ext cx="228600" cy="92160"/>
              <a:chOff x="2744640" y="2060640"/>
              <a:chExt cx="228600" cy="92160"/>
            </a:xfrm>
          </p:grpSpPr>
          <p:sp>
            <p:nvSpPr>
              <p:cNvPr id="186" name=""/>
              <p:cNvSpPr/>
              <p:nvPr/>
            </p:nvSpPr>
            <p:spPr>
              <a:xfrm>
                <a:off x="274464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4464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94360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0" y="2865240"/>
            <a:ext cx="914400" cy="228960"/>
            <a:chOff x="4572000" y="2865240"/>
            <a:chExt cx="914400" cy="228960"/>
          </a:xfrm>
        </p:grpSpPr>
        <p:cxnSp>
          <p:nvCxnSpPr>
            <p:cNvPr id="190" name=""/>
            <p:cNvCxnSpPr/>
            <p:nvPr/>
          </p:nvCxnSpPr>
          <p:spPr>
            <a:xfrm>
              <a:off x="457200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191" name=""/>
            <p:cNvCxnSpPr/>
            <p:nvPr/>
          </p:nvCxnSpPr>
          <p:spPr>
            <a:xfrm flipH="1">
              <a:off x="502884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192" name=""/>
          <p:cNvSpPr/>
          <p:nvPr/>
        </p:nvSpPr>
        <p:spPr>
          <a:xfrm>
            <a:off x="228744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4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0440" y="2225520"/>
            <a:ext cx="1143000" cy="182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7840" y="2225520"/>
            <a:ext cx="685800" cy="182880"/>
          </a:xfrm>
          <a:prstGeom prst="rect">
            <a:avLst/>
          </a:prstGeom>
          <a:solidFill>
            <a:srgbClr val="fa4b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364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6840" y="219060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34040" y="219060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77344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quence n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87036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crip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D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Rs, if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41972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last 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cluding intr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321000"/>
            <a:ext cx="1828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tei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m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id sequ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0440" y="286560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464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4511520"/>
            <a:ext cx="411336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43200" y="2478240"/>
            <a:ext cx="4114800" cy="182520"/>
            <a:chOff x="2743200" y="2478240"/>
            <a:chExt cx="4114800" cy="182520"/>
          </a:xfrm>
        </p:grpSpPr>
        <p:sp>
          <p:nvSpPr>
            <p:cNvPr id="207" name=""/>
            <p:cNvSpPr/>
            <p:nvPr/>
          </p:nvSpPr>
          <p:spPr>
            <a:xfrm flipV="1" rot="16200000">
              <a:off x="3581280" y="165348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16200000">
              <a:off x="6095880" y="18820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6200000">
              <a:off x="4952880" y="21106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36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943280" y="1876320"/>
            <a:ext cx="5143320" cy="276480"/>
            <a:chOff x="1943280" y="1876320"/>
            <a:chExt cx="5143320" cy="276480"/>
          </a:xfrm>
        </p:grpSpPr>
        <p:sp>
          <p:nvSpPr>
            <p:cNvPr id="214" name=""/>
            <p:cNvSpPr/>
            <p:nvPr/>
          </p:nvSpPr>
          <p:spPr>
            <a:xfrm>
              <a:off x="194328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57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22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500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2940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9392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744640" y="2060640"/>
              <a:ext cx="228600" cy="92160"/>
              <a:chOff x="2744640" y="2060640"/>
              <a:chExt cx="228600" cy="92160"/>
            </a:xfrm>
          </p:grpSpPr>
          <p:sp>
            <p:nvSpPr>
              <p:cNvPr id="222" name=""/>
              <p:cNvSpPr/>
              <p:nvPr/>
            </p:nvSpPr>
            <p:spPr>
              <a:xfrm>
                <a:off x="274464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4464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487840" y="286560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0440" y="396252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96252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0" y="3428640"/>
            <a:ext cx="914400" cy="228960"/>
            <a:chOff x="4572000" y="3428640"/>
            <a:chExt cx="914400" cy="228960"/>
          </a:xfrm>
        </p:grpSpPr>
        <p:cxnSp>
          <p:nvCxnSpPr>
            <p:cNvPr id="228" name=""/>
            <p:cNvCxnSpPr/>
            <p:nvPr/>
          </p:nvCxnSpPr>
          <p:spPr>
            <a:xfrm>
              <a:off x="457200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29" name=""/>
            <p:cNvCxnSpPr/>
            <p:nvPr/>
          </p:nvCxnSpPr>
          <p:spPr>
            <a:xfrm flipH="1">
              <a:off x="502884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30" name=""/>
          <p:cNvSpPr/>
          <p:nvPr/>
        </p:nvSpPr>
        <p:spPr>
          <a:xfrm>
            <a:off x="3430440" y="3429000"/>
            <a:ext cx="11430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7840" y="3429000"/>
            <a:ext cx="6858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0" y="3962160"/>
            <a:ext cx="914400" cy="228960"/>
            <a:chOff x="4572000" y="3962160"/>
            <a:chExt cx="914400" cy="228960"/>
          </a:xfrm>
        </p:grpSpPr>
        <p:cxnSp>
          <p:nvCxnSpPr>
            <p:cNvPr id="233" name=""/>
            <p:cNvCxnSpPr/>
            <p:nvPr/>
          </p:nvCxnSpPr>
          <p:spPr>
            <a:xfrm>
              <a:off x="457200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34" name=""/>
            <p:cNvCxnSpPr/>
            <p:nvPr/>
          </p:nvCxnSpPr>
          <p:spPr>
            <a:xfrm flipH="1">
              <a:off x="502884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35" name=""/>
          <p:cNvSpPr/>
          <p:nvPr/>
        </p:nvSpPr>
        <p:spPr>
          <a:xfrm>
            <a:off x="3430440" y="4511520"/>
            <a:ext cx="11430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7840" y="4511520"/>
            <a:ext cx="685800" cy="0"/>
          </a:xfrm>
          <a:prstGeom prst="line">
            <a:avLst/>
          </a:prstGeom>
          <a:ln w="101520">
            <a:solidFill>
              <a:srgbClr val="fa4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712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105520" y="2865240"/>
            <a:ext cx="914400" cy="228960"/>
            <a:chOff x="5105520" y="2865240"/>
            <a:chExt cx="914400" cy="228960"/>
          </a:xfrm>
        </p:grpSpPr>
        <p:cxnSp>
          <p:nvCxnSpPr>
            <p:cNvPr id="240" name=""/>
            <p:cNvCxnSpPr/>
            <p:nvPr/>
          </p:nvCxnSpPr>
          <p:spPr>
            <a:xfrm>
              <a:off x="510552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41" name=""/>
            <p:cNvCxnSpPr/>
            <p:nvPr/>
          </p:nvCxnSpPr>
          <p:spPr>
            <a:xfrm flipH="1">
              <a:off x="5562360" y="28652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42" name=""/>
          <p:cNvSpPr/>
          <p:nvPr/>
        </p:nvSpPr>
        <p:spPr>
          <a:xfrm>
            <a:off x="2820960" y="2317680"/>
            <a:ext cx="5027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816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3960" y="2225520"/>
            <a:ext cx="1143000" cy="1828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21360" y="2225520"/>
            <a:ext cx="685800" cy="1828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07160" y="2225520"/>
            <a:ext cx="685800" cy="182880"/>
          </a:xfrm>
          <a:prstGeom prst="rect">
            <a:avLst/>
          </a:prstGeom>
          <a:solidFill>
            <a:srgbClr val="f1a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0" y="21906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’ U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67560" y="21906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3’ U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819520"/>
            <a:ext cx="2361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D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coding sequence nt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960" y="286560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8160" y="396252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276720" y="2478240"/>
            <a:ext cx="4114800" cy="182520"/>
            <a:chOff x="3276720" y="2478240"/>
            <a:chExt cx="4114800" cy="182520"/>
          </a:xfrm>
        </p:grpSpPr>
        <p:sp>
          <p:nvSpPr>
            <p:cNvPr id="253" name=""/>
            <p:cNvSpPr/>
            <p:nvPr/>
          </p:nvSpPr>
          <p:spPr>
            <a:xfrm flipV="1" rot="16200000">
              <a:off x="4114800" y="165348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6200000">
              <a:off x="6629400" y="18820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16200000">
              <a:off x="5486400" y="21106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4120" y="24782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76440" y="1876320"/>
            <a:ext cx="5143320" cy="276480"/>
            <a:chOff x="2476440" y="1876320"/>
            <a:chExt cx="5143320" cy="276480"/>
          </a:xfrm>
        </p:grpSpPr>
        <p:sp>
          <p:nvSpPr>
            <p:cNvPr id="260" name=""/>
            <p:cNvSpPr/>
            <p:nvPr/>
          </p:nvSpPr>
          <p:spPr>
            <a:xfrm>
              <a:off x="2476440" y="1876320"/>
              <a:ext cx="1143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transcript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892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3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160" y="2060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160" y="187632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op cod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256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7080" y="18763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277800" y="2060640"/>
              <a:ext cx="228600" cy="92160"/>
              <a:chOff x="3277800" y="2060640"/>
              <a:chExt cx="228600" cy="92160"/>
            </a:xfrm>
          </p:grpSpPr>
          <p:sp>
            <p:nvSpPr>
              <p:cNvPr id="268" name=""/>
              <p:cNvSpPr/>
              <p:nvPr/>
            </p:nvSpPr>
            <p:spPr>
              <a:xfrm>
                <a:off x="3277800" y="206064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77800" y="2060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6021360" y="286560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3960" y="396252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96252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05520" y="3428640"/>
            <a:ext cx="914400" cy="228960"/>
            <a:chOff x="5105520" y="3428640"/>
            <a:chExt cx="914400" cy="228960"/>
          </a:xfrm>
        </p:grpSpPr>
        <p:cxnSp>
          <p:nvCxnSpPr>
            <p:cNvPr id="274" name=""/>
            <p:cNvCxnSpPr/>
            <p:nvPr/>
          </p:nvCxnSpPr>
          <p:spPr>
            <a:xfrm>
              <a:off x="510552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 flipH="1">
              <a:off x="5562360" y="342864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76" name=""/>
          <p:cNvSpPr/>
          <p:nvPr/>
        </p:nvSpPr>
        <p:spPr>
          <a:xfrm>
            <a:off x="3963960" y="3429000"/>
            <a:ext cx="11430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21360" y="3429000"/>
            <a:ext cx="685800" cy="0"/>
          </a:xfrm>
          <a:prstGeom prst="line">
            <a:avLst/>
          </a:prstGeom>
          <a:ln w="101520">
            <a:solidFill>
              <a:srgbClr val="5e5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05520" y="3962160"/>
            <a:ext cx="914400" cy="228960"/>
            <a:chOff x="5105520" y="3962160"/>
            <a:chExt cx="914400" cy="228960"/>
          </a:xfrm>
        </p:grpSpPr>
        <p:cxnSp>
          <p:nvCxnSpPr>
            <p:cNvPr id="279" name=""/>
            <p:cNvCxnSpPr/>
            <p:nvPr/>
          </p:nvCxnSpPr>
          <p:spPr>
            <a:xfrm>
              <a:off x="510552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  <p:cxnSp>
          <p:nvCxnSpPr>
            <p:cNvPr id="280" name=""/>
            <p:cNvCxnSpPr/>
            <p:nvPr/>
          </p:nvCxnSpPr>
          <p:spPr>
            <a:xfrm flipH="1">
              <a:off x="5562360" y="3962160"/>
              <a:ext cx="457920" cy="229320"/>
            </a:xfrm>
            <a:prstGeom prst="straightConnector1">
              <a:avLst/>
            </a:prstGeom>
            <a:ln w="12600">
              <a:solidFill>
                <a:srgbClr val="666666"/>
              </a:solidFill>
              <a:prstDash val="dash"/>
              <a:miter/>
            </a:ln>
          </p:spPr>
        </p:cxnSp>
      </p:grpSp>
      <p:sp>
        <p:nvSpPr>
          <p:cNvPr id="281" name=""/>
          <p:cNvSpPr/>
          <p:nvPr/>
        </p:nvSpPr>
        <p:spPr>
          <a:xfrm>
            <a:off x="6477120" y="457200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8160" y="4572000"/>
            <a:ext cx="914400" cy="0"/>
          </a:xfrm>
          <a:prstGeom prst="line">
            <a:avLst/>
          </a:prstGeom>
          <a:ln w="50760">
            <a:solidFill>
              <a:srgbClr val="f1a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3960" y="4572000"/>
            <a:ext cx="11430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4572000"/>
            <a:ext cx="685800" cy="0"/>
          </a:xfrm>
          <a:prstGeom prst="line">
            <a:avLst/>
          </a:prstGeom>
          <a:ln w="1015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352680"/>
            <a:ext cx="236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rotei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a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3886200"/>
            <a:ext cx="2666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ranscrip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CDS + UTRs, if avail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495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genomic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cludes introns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0:13:04Z</dcterms:created>
  <dc:creator>Steve Fischer</dc:creator>
  <dc:description/>
  <dc:language>en-US</dc:language>
  <cp:lastModifiedBy>Steve Fischer</cp:lastModifiedBy>
  <cp:lastPrinted>2006-05-30T15:13:04Z</cp:lastPrinted>
  <dcterms:modified xsi:type="dcterms:W3CDTF">2006-06-02T19:29:33Z</dcterms:modified>
  <cp:revision>27</cp:revision>
  <dc:subject/>
  <dc:title>Slide 1</dc:title>
</cp:coreProperties>
</file>