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5.jpeg" ContentType="image/jpeg"/>
  <Override PartName="/ppt/media/image3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12.png" ContentType="image/png"/>
  <Override PartName="/ppt/media/image8.png" ContentType="image/png"/>
  <Override PartName="/ppt/media/image13.png" ContentType="image/png"/>
  <Override PartName="/ppt/media/image30.png" ContentType="image/png"/>
  <Override PartName="/ppt/media/image10.png" ContentType="image/png"/>
  <Override PartName="/ppt/media/image34.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20.png" ContentType="image/png"/>
  <Override PartName="/ppt/media/image36.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3"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400" spc="-1" strike="noStrike">
                <a:solidFill>
                  <a:srgbClr val="292d38"/>
                </a:solidFill>
                <a:latin typeface="Open Sans"/>
              </a:rPr>
              <a:t>Click to move the slide</a:t>
            </a:r>
            <a:endParaRPr b="1" lang="en-US" sz="3400" spc="-1" strike="noStrike">
              <a:solidFill>
                <a:srgbClr val="292d38"/>
              </a:solidFill>
              <a:latin typeface="Open Sans"/>
            </a:endParaRPr>
          </a:p>
        </p:txBody>
      </p:sp>
      <p:sp>
        <p:nvSpPr>
          <p:cNvPr id="2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28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1DA7-6775-493F-8F85-B703509F314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685800"/>
            <a:ext cx="54864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B4B3-53B1-4403-9E2F-6294C9797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685800"/>
            <a:ext cx="54864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E37F-C5E5-4B8D-BDBA-07D531CC2E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37F505-18F4-4565-BB61-F8AFC3541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0"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1"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2DE80-89CF-4293-A5BC-CC7FDE52E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3"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4"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5"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6"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8EF32F-A42F-4F10-BAB1-83873C806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8"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9"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0"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1"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2"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3"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0E56CD-867D-45E6-B65E-C2F3B969A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46F4CD-FEFE-49F4-9844-8B5AF3585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50"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BD9A2-E22D-4D9A-901E-8EDACE788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52"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1687B-BB0F-4557-84B8-6672E957B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54"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5"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17FC53-D7F0-418B-A70A-5A7BD648A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979A0-E051-49AD-85B7-869C86F6B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EE1AE-69F7-4E53-A875-F51900D7D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59"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0"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1"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CA26B-E41A-405B-B74F-1123E7E20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9"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E5B073-2FC8-479B-A4F9-2A31EBBAF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63"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4"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5"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88B59-E165-4732-8047-36F636AFB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67"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8"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9"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C7399-AC43-4185-817A-C614E41A5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71"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2"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C146B-B31A-4ED8-92C7-11F58D624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74"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5"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6"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7"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50B3A6-D548-4855-B48A-39DCA9E2F8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79"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80"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81"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82"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83"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84"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B0786-6A7C-4EFA-B400-A408EF26D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48B12B1-D870-4AA2-BF7E-EE348DE6E2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92"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CCA0A1-2B7D-4759-AE2B-DF921D7563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94"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8A0963-E77A-41AC-BDFC-36AF477B0A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96"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97"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A872DD-7A9B-461F-BBDA-79A36A1859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EC5B03-D4A8-48E8-A682-B21B684650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1"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33E27B-CFC5-4419-BF20-4EBD38114F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ABDA89-FD3C-4778-8C99-8967B93C8F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01"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02"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03"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9E0EF5-47E9-4DD8-AD8E-011B865D9F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05"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06"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07"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FB6CB3-73AE-4BE1-994E-ABE25420E5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09"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0"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1"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B9235B-71EA-440E-8E23-AC3CAA75D9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13"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4"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90B637C-32F9-4A19-BB4D-4B2C3A32B2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16"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7"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8"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19"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E877BC-1DB5-4074-922E-20C3CC225D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21"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22"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23"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24"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25"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26"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B91C873-7588-4EE7-B949-6D79920E4E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38F298-7A4C-4834-A208-5C490AB570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33"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8F52E-F568-484B-B046-5A905C5CC8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35"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35C5F-6EFD-4320-A403-9F39C37B6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3"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4"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9DE95A-B41A-4C64-9EF8-310CF49BFE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37"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38"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6D1E4-7888-4CF3-B222-2AEF6FF1E6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01397-9F55-4AEB-BEB0-058812FD616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D3304-F2AB-455B-95B7-18673D65DC0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42"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43"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44"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5294A-14EA-49F5-8024-D3363A5740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46"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47"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48"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14793-9974-477A-8ECF-179083A0E3E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50"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51"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52"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43AD0-FCAA-4BA6-B156-2482152CB5A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54"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55"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E9E56-BBF2-4553-8C4D-AC62104E02A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57"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58"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59"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0"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3997E-D035-4D44-AAA7-F3BCA4616B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62"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3"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4"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5"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6"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67"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BE25C-6F51-4404-AA60-478428BC680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0C076-9A08-478F-BD45-77DD5E3F61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96"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98"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00"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01"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05"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06"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07"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09"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10"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11"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13"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14"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15"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17"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18"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20"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1"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2"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3"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06587-C7B5-4122-9A79-35EEC89A18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25"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6"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7"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8"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29"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30"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45" name="PlaceHolder 2"/>
          <p:cNvSpPr>
            <a:spLocks noGrp="1"/>
          </p:cNvSpPr>
          <p:nvPr>
            <p:ph type="subTitle"/>
          </p:nvPr>
        </p:nvSpPr>
        <p:spPr>
          <a:xfrm>
            <a:off x="250920" y="1056960"/>
            <a:ext cx="8642160" cy="404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47" name="PlaceHolder 2"/>
          <p:cNvSpPr>
            <a:spLocks noGrp="1"/>
          </p:cNvSpPr>
          <p:nvPr>
            <p:ph/>
          </p:nvPr>
        </p:nvSpPr>
        <p:spPr>
          <a:xfrm>
            <a:off x="250920" y="1056960"/>
            <a:ext cx="864216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49"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50"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560" y="97920"/>
            <a:ext cx="6607080" cy="1665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54"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55"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56"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58"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59"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60"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62"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63"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64"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18"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19" name="PlaceHolder 3"/>
          <p:cNvSpPr>
            <a:spLocks noGrp="1"/>
          </p:cNvSpPr>
          <p:nvPr>
            <p:ph/>
          </p:nvPr>
        </p:nvSpPr>
        <p:spPr>
          <a:xfrm>
            <a:off x="467928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0"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0C98B-3835-48BF-8EB6-8A82FC707E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66" name="PlaceHolder 2"/>
          <p:cNvSpPr>
            <a:spLocks noGrp="1"/>
          </p:cNvSpPr>
          <p:nvPr>
            <p:ph/>
          </p:nvPr>
        </p:nvSpPr>
        <p:spPr>
          <a:xfrm>
            <a:off x="250920" y="105696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67" name="PlaceHolder 3"/>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69"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0"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1" name="PlaceHolder 4"/>
          <p:cNvSpPr>
            <a:spLocks noGrp="1"/>
          </p:cNvSpPr>
          <p:nvPr>
            <p:ph/>
          </p:nvPr>
        </p:nvSpPr>
        <p:spPr>
          <a:xfrm>
            <a:off x="25092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2" name="PlaceHolder 5"/>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74" name="PlaceHolder 2"/>
          <p:cNvSpPr>
            <a:spLocks noGrp="1"/>
          </p:cNvSpPr>
          <p:nvPr>
            <p:ph/>
          </p:nvPr>
        </p:nvSpPr>
        <p:spPr>
          <a:xfrm>
            <a:off x="25092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5" name="PlaceHolder 3"/>
          <p:cNvSpPr>
            <a:spLocks noGrp="1"/>
          </p:cNvSpPr>
          <p:nvPr>
            <p:ph/>
          </p:nvPr>
        </p:nvSpPr>
        <p:spPr>
          <a:xfrm>
            <a:off x="317304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6" name="PlaceHolder 4"/>
          <p:cNvSpPr>
            <a:spLocks noGrp="1"/>
          </p:cNvSpPr>
          <p:nvPr>
            <p:ph/>
          </p:nvPr>
        </p:nvSpPr>
        <p:spPr>
          <a:xfrm>
            <a:off x="6094800" y="105696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7" name="PlaceHolder 5"/>
          <p:cNvSpPr>
            <a:spLocks noGrp="1"/>
          </p:cNvSpPr>
          <p:nvPr>
            <p:ph/>
          </p:nvPr>
        </p:nvSpPr>
        <p:spPr>
          <a:xfrm>
            <a:off x="25092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8" name="PlaceHolder 6"/>
          <p:cNvSpPr>
            <a:spLocks noGrp="1"/>
          </p:cNvSpPr>
          <p:nvPr>
            <p:ph/>
          </p:nvPr>
        </p:nvSpPr>
        <p:spPr>
          <a:xfrm>
            <a:off x="317304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9" name="PlaceHolder 7"/>
          <p:cNvSpPr>
            <a:spLocks noGrp="1"/>
          </p:cNvSpPr>
          <p:nvPr>
            <p:ph/>
          </p:nvPr>
        </p:nvSpPr>
        <p:spPr>
          <a:xfrm>
            <a:off x="6094800" y="3171600"/>
            <a:ext cx="27824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2" name="PlaceHolder 2"/>
          <p:cNvSpPr>
            <a:spLocks noGrp="1"/>
          </p:cNvSpPr>
          <p:nvPr>
            <p:ph/>
          </p:nvPr>
        </p:nvSpPr>
        <p:spPr>
          <a:xfrm>
            <a:off x="250920" y="1056960"/>
            <a:ext cx="4217040" cy="404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3"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4" name="PlaceHolder 4"/>
          <p:cNvSpPr>
            <a:spLocks noGrp="1"/>
          </p:cNvSpPr>
          <p:nvPr>
            <p:ph/>
          </p:nvPr>
        </p:nvSpPr>
        <p:spPr>
          <a:xfrm>
            <a:off x="4679280" y="317160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603C44-77AE-4C13-AB20-B6C779A135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93240"/>
            <a:ext cx="6607080" cy="36828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95959"/>
              </a:solidFill>
              <a:latin typeface="Calibri"/>
            </a:endParaRPr>
          </a:p>
        </p:txBody>
      </p:sp>
      <p:sp>
        <p:nvSpPr>
          <p:cNvPr id="26" name="PlaceHolder 2"/>
          <p:cNvSpPr>
            <a:spLocks noGrp="1"/>
          </p:cNvSpPr>
          <p:nvPr>
            <p:ph/>
          </p:nvPr>
        </p:nvSpPr>
        <p:spPr>
          <a:xfrm>
            <a:off x="25092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7" name="PlaceHolder 3"/>
          <p:cNvSpPr>
            <a:spLocks noGrp="1"/>
          </p:cNvSpPr>
          <p:nvPr>
            <p:ph/>
          </p:nvPr>
        </p:nvSpPr>
        <p:spPr>
          <a:xfrm>
            <a:off x="4679280" y="1056960"/>
            <a:ext cx="421704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28" name="PlaceHolder 4"/>
          <p:cNvSpPr>
            <a:spLocks noGrp="1"/>
          </p:cNvSpPr>
          <p:nvPr>
            <p:ph/>
          </p:nvPr>
        </p:nvSpPr>
        <p:spPr>
          <a:xfrm>
            <a:off x="250920" y="3171600"/>
            <a:ext cx="8642160" cy="1930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EA4AF-2680-46A5-B290-0B8AB0A7F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slideLayout" Target="../slideLayouts/slideLayout49.xml"/><Relationship Id="rId23" Type="http://schemas.openxmlformats.org/officeDocument/2006/relationships/slideLayout" Target="../slideLayouts/slideLayout50.xml"/><Relationship Id="rId24" Type="http://schemas.openxmlformats.org/officeDocument/2006/relationships/slideLayout" Target="../slideLayouts/slideLayout51.xml"/><Relationship Id="rId25" Type="http://schemas.openxmlformats.org/officeDocument/2006/relationships/slideLayout" Target="../slideLayouts/slideLayout52.xml"/><Relationship Id="rId26" Type="http://schemas.openxmlformats.org/officeDocument/2006/relationships/slideLayout" Target="../slideLayouts/slideLayout53.xml"/><Relationship Id="rId27" Type="http://schemas.openxmlformats.org/officeDocument/2006/relationships/slideLayout" Target="../slideLayouts/slideLayout54.xml"/><Relationship Id="rId28" Type="http://schemas.openxmlformats.org/officeDocument/2006/relationships/slideLayout" Target="../slideLayouts/slideLayout55.xml"/><Relationship Id="rId29" Type="http://schemas.openxmlformats.org/officeDocument/2006/relationships/slideLayout" Target="../slideLayouts/slideLayout56.xml"/><Relationship Id="rId30" Type="http://schemas.openxmlformats.org/officeDocument/2006/relationships/slideLayout" Target="../slideLayouts/slideLayout57.xml"/><Relationship Id="rId31" Type="http://schemas.openxmlformats.org/officeDocument/2006/relationships/slideLayout" Target="../slideLayouts/slideLayout58.xml"/><Relationship Id="rId32" Type="http://schemas.openxmlformats.org/officeDocument/2006/relationships/slideLayout" Target="../slideLayouts/slideLayout59.xml"/><Relationship Id="rId3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97920"/>
            <a:ext cx="6607080" cy="3589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Click to edit the title text format</a:t>
            </a:r>
            <a:endParaRPr b="1" lang="en-US" sz="1800" spc="-1" strike="noStrike">
              <a:solidFill>
                <a:srgbClr val="595959"/>
              </a:solidFill>
              <a:latin typeface="Calibri"/>
            </a:endParaRPr>
          </a:p>
        </p:txBody>
      </p:sp>
      <p:sp>
        <p:nvSpPr>
          <p:cNvPr id="1" name="PlaceHolder 2"/>
          <p:cNvSpPr>
            <a:spLocks noGrp="1"/>
          </p:cNvSpPr>
          <p:nvPr>
            <p:ph type="body"/>
          </p:nvPr>
        </p:nvSpPr>
        <p:spPr>
          <a:xfrm>
            <a:off x="250920" y="1056960"/>
            <a:ext cx="8642160" cy="4048200"/>
          </a:xfrm>
          <a:prstGeom prst="rect">
            <a:avLst/>
          </a:prstGeom>
          <a:noFill/>
          <a:ln w="0">
            <a:noFill/>
          </a:ln>
        </p:spPr>
        <p:txBody>
          <a:bodyPr lIns="90000" rIns="90000" tIns="46800" bIns="46800" anchor="t">
            <a:normAutofit/>
          </a:bodyPr>
          <a:p>
            <a:pPr marL="255600" indent="-2556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Click to edit the outline text format</a:t>
            </a:r>
            <a:endParaRPr b="0" lang="en-US" sz="1800" spc="-1" strike="noStrike">
              <a:solidFill>
                <a:srgbClr val="595959"/>
              </a:solidFill>
              <a:latin typeface="Calibri"/>
            </a:endParaRPr>
          </a:p>
          <a:p>
            <a:pPr lvl="1" marL="555480" indent="-2124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cond Outline Level</a:t>
            </a:r>
            <a:endParaRPr b="0" lang="en-US" sz="1800" spc="-1" strike="noStrike">
              <a:solidFill>
                <a:srgbClr val="595959"/>
              </a:solidFill>
              <a:latin typeface="Calibri"/>
            </a:endParaRPr>
          </a:p>
          <a:p>
            <a:pPr lvl="2" marL="8557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Third Outline Level</a:t>
            </a:r>
            <a:endParaRPr b="0" lang="en-US" sz="1800" spc="-1" strike="noStrike">
              <a:solidFill>
                <a:srgbClr val="595959"/>
              </a:solidFill>
              <a:latin typeface="Calibri"/>
            </a:endParaRPr>
          </a:p>
          <a:p>
            <a:pPr lvl="3" marL="1198440" indent="-16956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ourth Outline Level</a:t>
            </a:r>
            <a:endParaRPr b="0" lang="en-US" sz="1800" spc="-1" strike="noStrike">
              <a:solidFill>
                <a:srgbClr val="595959"/>
              </a:solidFill>
              <a:latin typeface="Calibri"/>
            </a:endParaRPr>
          </a:p>
          <a:p>
            <a:pPr lvl="4" marL="15415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ifth Outline Level</a:t>
            </a:r>
            <a:endParaRPr b="0" lang="en-US" sz="1800" spc="-1" strike="noStrike">
              <a:solidFill>
                <a:srgbClr val="595959"/>
              </a:solidFill>
              <a:latin typeface="Calibri"/>
            </a:endParaRPr>
          </a:p>
          <a:p>
            <a:pPr lvl="5"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ixth Outline Level</a:t>
            </a:r>
            <a:endParaRPr b="0" lang="en-US" sz="1800" spc="-1" strike="noStrike">
              <a:solidFill>
                <a:srgbClr val="595959"/>
              </a:solidFill>
              <a:latin typeface="Calibri"/>
            </a:endParaRPr>
          </a:p>
          <a:p>
            <a:pPr lvl="6"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venth Outline Level</a:t>
            </a:r>
            <a:endParaRPr b="0" lang="en-US" sz="1800" spc="-1" strike="noStrike">
              <a:solidFill>
                <a:srgbClr val="595959"/>
              </a:solidFill>
              <a:latin typeface="Calibri"/>
            </a:endParaRPr>
          </a:p>
        </p:txBody>
      </p:sp>
      <p:grpSp>
        <p:nvGrpSpPr>
          <p:cNvPr id="2" name="Gruppo 25"/>
          <p:cNvGrpSpPr/>
          <p:nvPr/>
        </p:nvGrpSpPr>
        <p:grpSpPr>
          <a:xfrm>
            <a:off x="0" y="625320"/>
            <a:ext cx="9144000" cy="0"/>
            <a:chOff x="0" y="625320"/>
            <a:chExt cx="9144000" cy="0"/>
          </a:xfrm>
        </p:grpSpPr>
        <p:sp>
          <p:nvSpPr>
            <p:cNvPr id="3" name="Connettore 1 18"/>
            <p:cNvSpPr/>
            <p:nvPr/>
          </p:nvSpPr>
          <p:spPr>
            <a:xfrm>
              <a:off x="988920" y="625320"/>
              <a:ext cx="8155080" cy="0"/>
            </a:xfrm>
            <a:prstGeom prst="line">
              <a:avLst/>
            </a:prstGeom>
            <a:ln w="38160">
              <a:solidFill>
                <a:srgbClr val="0098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Connettore 1 24"/>
            <p:cNvSpPr/>
            <p:nvPr/>
          </p:nvSpPr>
          <p:spPr>
            <a:xfrm>
              <a:off x="0" y="625320"/>
              <a:ext cx="990360" cy="0"/>
            </a:xfrm>
            <a:prstGeom prst="line">
              <a:avLst/>
            </a:prstGeom>
            <a:ln w="38160">
              <a:solidFill>
                <a:srgbClr val="42b3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 name="Picture 11" descr=""/>
          <p:cNvPicPr/>
          <p:nvPr/>
        </p:nvPicPr>
        <p:blipFill>
          <a:blip r:embed="rId2"/>
          <a:stretch/>
        </p:blipFill>
        <p:spPr>
          <a:xfrm>
            <a:off x="7908840" y="98280"/>
            <a:ext cx="623880" cy="717840"/>
          </a:xfrm>
          <a:prstGeom prst="rect">
            <a:avLst/>
          </a:prstGeom>
          <a:ln w="0">
            <a:noFill/>
          </a:ln>
        </p:spPr>
      </p:pic>
      <p:sp>
        <p:nvSpPr>
          <p:cNvPr id="6" name="PlaceHolder 3"/>
          <p:cNvSpPr>
            <a:spLocks noGrp="1"/>
          </p:cNvSpPr>
          <p:nvPr>
            <p:ph type="ftr" idx="1"/>
          </p:nvPr>
        </p:nvSpPr>
        <p:spPr>
          <a:xfrm>
            <a:off x="3124080" y="5297040"/>
            <a:ext cx="2895840" cy="30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KoM TEAMS Online XX/06/2021</a:t>
            </a:r>
            <a:endParaRPr b="0" lang="en-US" sz="1200" spc="-1" strike="noStrike">
              <a:solidFill>
                <a:srgbClr val="000000"/>
              </a:solidFill>
              <a:latin typeface="Times New Roman"/>
            </a:endParaRPr>
          </a:p>
        </p:txBody>
      </p:sp>
      <p:sp>
        <p:nvSpPr>
          <p:cNvPr id="7" name="PlaceHolder 4"/>
          <p:cNvSpPr>
            <a:spLocks noGrp="1"/>
          </p:cNvSpPr>
          <p:nvPr>
            <p:ph type="sldNum" idx="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BC56-2610-40B0-9FA3-E4F6B141A9B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04560"/>
            <a:ext cx="7886880" cy="1104840"/>
          </a:xfrm>
          <a:prstGeom prst="rect">
            <a:avLst/>
          </a:prstGeom>
          <a:noFill/>
          <a:ln w="0">
            <a:noFill/>
          </a:ln>
        </p:spPr>
        <p:txBody>
          <a:bodyPr lIns="71280" rIns="71280" tIns="35640" bIns="35640" anchor="ctr">
            <a:noAutofit/>
          </a:bodyPr>
          <a:p>
            <a:pPr indent="0">
              <a:lnSpc>
                <a:spcPct val="9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400" spc="-1" strike="noStrike">
                <a:solidFill>
                  <a:srgbClr val="292d38"/>
                </a:solidFill>
                <a:latin typeface="Open Sans"/>
              </a:rPr>
              <a:t>Click to edit the title text format</a:t>
            </a:r>
            <a:endParaRPr b="1" lang="en-US" sz="3400" spc="-1" strike="noStrike">
              <a:solidFill>
                <a:srgbClr val="292d38"/>
              </a:solidFill>
              <a:latin typeface="Open Sans"/>
            </a:endParaRPr>
          </a:p>
        </p:txBody>
      </p:sp>
      <p:sp>
        <p:nvSpPr>
          <p:cNvPr id="45" name="PlaceHolder 2"/>
          <p:cNvSpPr>
            <a:spLocks noGrp="1"/>
          </p:cNvSpPr>
          <p:nvPr>
            <p:ph type="body"/>
          </p:nvPr>
        </p:nvSpPr>
        <p:spPr>
          <a:xfrm>
            <a:off x="628560" y="1521000"/>
            <a:ext cx="7886880" cy="3627360"/>
          </a:xfrm>
          <a:prstGeom prst="rect">
            <a:avLst/>
          </a:prstGeom>
          <a:noFill/>
          <a:ln w="0">
            <a:noFill/>
          </a:ln>
        </p:spPr>
        <p:txBody>
          <a:bodyPr lIns="71280" rIns="71280" tIns="35640" bIns="35640" anchor="t">
            <a:normAutofit/>
          </a:bodyPr>
          <a:p>
            <a:pPr marL="1778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Click to edit the outline text format</a:t>
            </a:r>
            <a:endParaRPr b="0" lang="en-US" sz="2200" spc="-1" strike="noStrike">
              <a:solidFill>
                <a:srgbClr val="292d38"/>
              </a:solidFill>
              <a:latin typeface="Open Sans"/>
            </a:endParaRPr>
          </a:p>
          <a:p>
            <a:pPr lvl="1" marL="53352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econd Outline Level</a:t>
            </a:r>
            <a:endParaRPr b="0" lang="en-US" sz="2200" spc="-1" strike="noStrike">
              <a:solidFill>
                <a:srgbClr val="292d38"/>
              </a:solidFill>
              <a:latin typeface="Open Sans"/>
            </a:endParaRPr>
          </a:p>
          <a:p>
            <a:pPr lvl="2" marL="8906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Third Outline Level</a:t>
            </a:r>
            <a:endParaRPr b="0" lang="en-US" sz="2200" spc="-1" strike="noStrike">
              <a:solidFill>
                <a:srgbClr val="292d38"/>
              </a:solidFill>
              <a:latin typeface="Open Sans"/>
            </a:endParaRPr>
          </a:p>
          <a:p>
            <a:pPr lvl="3" marL="124776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Fourth Outline Level</a:t>
            </a:r>
            <a:endParaRPr b="0" lang="en-US" sz="2200" spc="-1" strike="noStrike">
              <a:solidFill>
                <a:srgbClr val="292d38"/>
              </a:solidFill>
              <a:latin typeface="Open Sans"/>
            </a:endParaRPr>
          </a:p>
          <a:p>
            <a:pPr lvl="4" marL="16034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Fifth Outline Level</a:t>
            </a:r>
            <a:endParaRPr b="0" lang="en-US" sz="2200" spc="-1" strike="noStrike">
              <a:solidFill>
                <a:srgbClr val="292d38"/>
              </a:solidFill>
              <a:latin typeface="Open Sans"/>
            </a:endParaRPr>
          </a:p>
          <a:p>
            <a:pPr lvl="5" marL="1603440" indent="-177840">
              <a:lnSpc>
                <a:spcPct val="90000"/>
              </a:lnSpc>
              <a:spcBef>
                <a:spcPts val="774"/>
              </a:spcBef>
              <a:buClr>
                <a:srgbClr val="000000"/>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ixth Outline Level</a:t>
            </a:r>
            <a:endParaRPr b="0" lang="en-US" sz="2200" spc="-1" strike="noStrike">
              <a:solidFill>
                <a:srgbClr val="292d38"/>
              </a:solidFill>
              <a:latin typeface="Open Sans"/>
            </a:endParaRPr>
          </a:p>
          <a:p>
            <a:pPr lvl="6" marL="1603440" indent="-177840">
              <a:lnSpc>
                <a:spcPct val="90000"/>
              </a:lnSpc>
              <a:spcBef>
                <a:spcPts val="774"/>
              </a:spcBef>
              <a:buClr>
                <a:srgbClr val="000000"/>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eventh Outline Level</a:t>
            </a:r>
            <a:endParaRPr b="0" lang="en-US" sz="2200" spc="-1" strike="noStrike">
              <a:solidFill>
                <a:srgbClr val="292d38"/>
              </a:solidFill>
              <a:latin typeface="Open Sans"/>
            </a:endParaRPr>
          </a:p>
        </p:txBody>
      </p:sp>
      <p:sp>
        <p:nvSpPr>
          <p:cNvPr id="46" name="PlaceHolder 3"/>
          <p:cNvSpPr>
            <a:spLocks noGrp="1"/>
          </p:cNvSpPr>
          <p:nvPr>
            <p:ph type="dt" idx="3"/>
          </p:nvPr>
        </p:nvSpPr>
        <p:spPr>
          <a:xfrm>
            <a:off x="628200" y="5297040"/>
            <a:ext cx="2057400" cy="303480"/>
          </a:xfrm>
          <a:prstGeom prst="rect">
            <a:avLst/>
          </a:prstGeom>
          <a:noFill/>
          <a:ln w="0">
            <a:noFill/>
          </a:ln>
        </p:spPr>
        <p:txBody>
          <a:bodyPr lIns="71280" rIns="71280" tIns="35640" bIns="35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029040" y="5297040"/>
            <a:ext cx="3085920" cy="303480"/>
          </a:xfrm>
          <a:prstGeom prst="rect">
            <a:avLst/>
          </a:prstGeom>
          <a:noFill/>
          <a:ln w="0">
            <a:noFill/>
          </a:ln>
        </p:spPr>
        <p:txBody>
          <a:bodyPr lIns="71280" rIns="71280" tIns="35640" bIns="35640" anchor="ctr">
            <a:noAutofit/>
          </a:bodyPr>
          <a:lstStyle>
            <a:lvl1pPr indent="0" algn="ctr">
              <a:lnSpc>
                <a:spcPct val="10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en-US" sz="900" spc="-1" strike="noStrike">
                <a:solidFill>
                  <a:srgbClr val="999997"/>
                </a:solidFill>
                <a:latin typeface="Open Sans"/>
                <a:ea typeface="Open Sans"/>
              </a:defRPr>
            </a:lvl1pPr>
          </a:lstStyle>
          <a:p>
            <a:pPr indent="0" algn="ctr">
              <a:lnSpc>
                <a:spcPct val="10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900" spc="-1" strike="noStrike">
                <a:solidFill>
                  <a:srgbClr val="999997"/>
                </a:solidFill>
                <a:latin typeface="Open Sans"/>
                <a:ea typeface="Open Sans"/>
              </a:rPr>
              <a:t>KoM TEAMS Online XX/06/2021</a:t>
            </a:r>
            <a:endParaRPr b="0" lang="en-US" sz="900" spc="-1" strike="noStrike">
              <a:solidFill>
                <a:srgbClr val="000000"/>
              </a:solidFill>
              <a:latin typeface="Times New Roman"/>
            </a:endParaRPr>
          </a:p>
        </p:txBody>
      </p:sp>
      <p:sp>
        <p:nvSpPr>
          <p:cNvPr id="48" name="PlaceHolder 5"/>
          <p:cNvSpPr>
            <a:spLocks noGrp="1"/>
          </p:cNvSpPr>
          <p:nvPr>
            <p:ph type="sldNum" idx="5"/>
          </p:nvPr>
        </p:nvSpPr>
        <p:spPr>
          <a:xfrm>
            <a:off x="6457680" y="5297040"/>
            <a:ext cx="2057400" cy="303480"/>
          </a:xfrm>
          <a:prstGeom prst="rect">
            <a:avLst/>
          </a:prstGeom>
          <a:noFill/>
          <a:ln w="0">
            <a:noFill/>
          </a:ln>
        </p:spPr>
        <p:txBody>
          <a:bodyPr lIns="71280" rIns="71280" tIns="35640" bIns="35640" anchor="ctr">
            <a:noAutofit/>
          </a:bodyPr>
          <a:lstStyle>
            <a:lvl1pPr indent="0" algn="r">
              <a:lnSpc>
                <a:spcPct val="10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defRPr b="0" lang="en-US" sz="900" spc="-1" strike="noStrike">
                <a:solidFill>
                  <a:srgbClr val="999997"/>
                </a:solidFill>
                <a:latin typeface="Open Sans"/>
                <a:ea typeface="Open Sans"/>
              </a:defRPr>
            </a:lvl1pPr>
          </a:lstStyle>
          <a:p>
            <a:pPr indent="0" algn="r">
              <a:lnSpc>
                <a:spcPct val="10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fld id="{1042B0AC-804B-4C62-8ECB-643EA35DFDD2}" type="slidenum">
              <a:rPr b="0" lang="en-US" sz="900" spc="-1" strike="noStrike">
                <a:solidFill>
                  <a:srgbClr val="999997"/>
                </a:solidFill>
                <a:latin typeface="Open Sans"/>
                <a:ea typeface="Open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itolo 1"/>
          <p:cNvSpPr/>
          <p:nvPr/>
        </p:nvSpPr>
        <p:spPr>
          <a:xfrm>
            <a:off x="3224160" y="252360"/>
            <a:ext cx="5676840" cy="167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libri"/>
              </a:rPr>
              <a:t>Demonstrative process for the production and enzymatic recycling of environmentally safe, superior and versatile PHA-based rigid packaging solutions by plasma integration in the value chain</a:t>
            </a:r>
            <a:endParaRPr b="0" lang="en-US" sz="2400" spc="-1" strike="noStrike">
              <a:solidFill>
                <a:srgbClr val="000000"/>
              </a:solidFill>
              <a:latin typeface="Arial"/>
            </a:endParaRPr>
          </a:p>
        </p:txBody>
      </p:sp>
      <p:pic>
        <p:nvPicPr>
          <p:cNvPr id="86" name="Picture 2" descr=""/>
          <p:cNvPicPr/>
          <p:nvPr/>
        </p:nvPicPr>
        <p:blipFill>
          <a:blip r:embed="rId2"/>
          <a:stretch/>
        </p:blipFill>
        <p:spPr>
          <a:xfrm>
            <a:off x="571680" y="252360"/>
            <a:ext cx="2041200" cy="2341440"/>
          </a:xfrm>
          <a:prstGeom prst="rect">
            <a:avLst/>
          </a:prstGeom>
          <a:ln w="0">
            <a:noFill/>
          </a:ln>
        </p:spPr>
      </p:pic>
      <p:sp>
        <p:nvSpPr>
          <p:cNvPr id="87" name="PlaceHolder 1"/>
          <p:cNvSpPr>
            <a:spLocks noGrp="1"/>
          </p:cNvSpPr>
          <p:nvPr>
            <p:ph type="title"/>
          </p:nvPr>
        </p:nvSpPr>
        <p:spPr>
          <a:xfrm>
            <a:off x="250560" y="97920"/>
            <a:ext cx="6607080" cy="3589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Click to edit the title text format</a:t>
            </a:r>
            <a:endParaRPr b="1" lang="en-US" sz="1800" spc="-1" strike="noStrike">
              <a:solidFill>
                <a:srgbClr val="595959"/>
              </a:solidFill>
              <a:latin typeface="Calibri"/>
            </a:endParaRPr>
          </a:p>
        </p:txBody>
      </p:sp>
      <p:sp>
        <p:nvSpPr>
          <p:cNvPr id="88" name="PlaceHolder 2"/>
          <p:cNvSpPr>
            <a:spLocks noGrp="1"/>
          </p:cNvSpPr>
          <p:nvPr>
            <p:ph type="body"/>
          </p:nvPr>
        </p:nvSpPr>
        <p:spPr>
          <a:xfrm>
            <a:off x="250920" y="1056960"/>
            <a:ext cx="8642160" cy="4048200"/>
          </a:xfrm>
          <a:prstGeom prst="rect">
            <a:avLst/>
          </a:prstGeom>
          <a:noFill/>
          <a:ln w="0">
            <a:noFill/>
          </a:ln>
        </p:spPr>
        <p:txBody>
          <a:bodyPr lIns="90000" rIns="90000" tIns="46800" bIns="46800" anchor="t">
            <a:normAutofit/>
          </a:bodyPr>
          <a:p>
            <a:pPr marL="255600" indent="-2556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Click to edit the outline text format</a:t>
            </a:r>
            <a:endParaRPr b="0" lang="en-US" sz="1800" spc="-1" strike="noStrike">
              <a:solidFill>
                <a:srgbClr val="595959"/>
              </a:solidFill>
              <a:latin typeface="Calibri"/>
            </a:endParaRPr>
          </a:p>
          <a:p>
            <a:pPr lvl="1" marL="555480" indent="-2124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cond Outline Level</a:t>
            </a:r>
            <a:endParaRPr b="0" lang="en-US" sz="1800" spc="-1" strike="noStrike">
              <a:solidFill>
                <a:srgbClr val="595959"/>
              </a:solidFill>
              <a:latin typeface="Calibri"/>
            </a:endParaRPr>
          </a:p>
          <a:p>
            <a:pPr lvl="2" marL="8557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Third Outline Level</a:t>
            </a:r>
            <a:endParaRPr b="0" lang="en-US" sz="1800" spc="-1" strike="noStrike">
              <a:solidFill>
                <a:srgbClr val="595959"/>
              </a:solidFill>
              <a:latin typeface="Calibri"/>
            </a:endParaRPr>
          </a:p>
          <a:p>
            <a:pPr lvl="3" marL="1198440" indent="-16956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ourth Outline Level</a:t>
            </a:r>
            <a:endParaRPr b="0" lang="en-US" sz="1800" spc="-1" strike="noStrike">
              <a:solidFill>
                <a:srgbClr val="595959"/>
              </a:solidFill>
              <a:latin typeface="Calibri"/>
            </a:endParaRPr>
          </a:p>
          <a:p>
            <a:pPr lvl="4" marL="15415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ifth Outline Level</a:t>
            </a:r>
            <a:endParaRPr b="0" lang="en-US" sz="1800" spc="-1" strike="noStrike">
              <a:solidFill>
                <a:srgbClr val="595959"/>
              </a:solidFill>
              <a:latin typeface="Calibri"/>
            </a:endParaRPr>
          </a:p>
          <a:p>
            <a:pPr lvl="5"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ixth Outline Level</a:t>
            </a:r>
            <a:endParaRPr b="0" lang="en-US" sz="1800" spc="-1" strike="noStrike">
              <a:solidFill>
                <a:srgbClr val="595959"/>
              </a:solidFill>
              <a:latin typeface="Calibri"/>
            </a:endParaRPr>
          </a:p>
          <a:p>
            <a:pPr lvl="6"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venth Outline Level</a:t>
            </a:r>
            <a:endParaRPr b="0" lang="en-US" sz="1800" spc="-1" strike="noStrike">
              <a:solidFill>
                <a:srgbClr val="595959"/>
              </a:solidFill>
              <a:latin typeface="Calibri"/>
            </a:endParaRPr>
          </a:p>
        </p:txBody>
      </p:sp>
      <p:sp>
        <p:nvSpPr>
          <p:cNvPr id="89" name="PlaceHolder 3"/>
          <p:cNvSpPr>
            <a:spLocks noGrp="1"/>
          </p:cNvSpPr>
          <p:nvPr>
            <p:ph type="ftr" idx="6"/>
          </p:nvPr>
        </p:nvSpPr>
        <p:spPr>
          <a:xfrm>
            <a:off x="3124080" y="5297040"/>
            <a:ext cx="2895840" cy="30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KoM TEAMS Online XX/06/2021</a:t>
            </a:r>
            <a:endParaRPr b="0" lang="en-US" sz="1200" spc="-1" strike="noStrike">
              <a:solidFill>
                <a:srgbClr val="000000"/>
              </a:solidFill>
              <a:latin typeface="Times New Roman"/>
            </a:endParaRPr>
          </a:p>
        </p:txBody>
      </p:sp>
      <p:sp>
        <p:nvSpPr>
          <p:cNvPr id="90" name="PlaceHolder 4"/>
          <p:cNvSpPr>
            <a:spLocks noGrp="1"/>
          </p:cNvSpPr>
          <p:nvPr>
            <p:ph type="sldNum" idx="7"/>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89E3-AB84-4E12-B935-C84A1D54981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3938760" y="122400"/>
            <a:ext cx="1203120" cy="1380960"/>
          </a:xfrm>
          <a:prstGeom prst="rect">
            <a:avLst/>
          </a:prstGeom>
          <a:ln w="0">
            <a:noFill/>
          </a:ln>
        </p:spPr>
      </p:pic>
      <p:sp>
        <p:nvSpPr>
          <p:cNvPr id="128" name="PlaceHolder 1"/>
          <p:cNvSpPr>
            <a:spLocks noGrp="1"/>
          </p:cNvSpPr>
          <p:nvPr>
            <p:ph type="title"/>
          </p:nvPr>
        </p:nvSpPr>
        <p:spPr>
          <a:xfrm>
            <a:off x="250560" y="97920"/>
            <a:ext cx="6607080" cy="3589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Click to edit the title text format</a:t>
            </a:r>
            <a:endParaRPr b="1" lang="en-US" sz="1800" spc="-1" strike="noStrike">
              <a:solidFill>
                <a:srgbClr val="595959"/>
              </a:solidFill>
              <a:latin typeface="Calibri"/>
            </a:endParaRPr>
          </a:p>
        </p:txBody>
      </p:sp>
      <p:sp>
        <p:nvSpPr>
          <p:cNvPr id="129" name="PlaceHolder 2"/>
          <p:cNvSpPr>
            <a:spLocks noGrp="1"/>
          </p:cNvSpPr>
          <p:nvPr>
            <p:ph type="body"/>
          </p:nvPr>
        </p:nvSpPr>
        <p:spPr>
          <a:xfrm>
            <a:off x="250920" y="1056960"/>
            <a:ext cx="8642160" cy="4048200"/>
          </a:xfrm>
          <a:prstGeom prst="rect">
            <a:avLst/>
          </a:prstGeom>
          <a:noFill/>
          <a:ln w="0">
            <a:noFill/>
          </a:ln>
        </p:spPr>
        <p:txBody>
          <a:bodyPr lIns="90000" rIns="90000" tIns="46800" bIns="46800" anchor="t">
            <a:normAutofit/>
          </a:bodyPr>
          <a:p>
            <a:pPr marL="255600" indent="-2556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Click to edit the outline text format</a:t>
            </a:r>
            <a:endParaRPr b="0" lang="en-US" sz="1800" spc="-1" strike="noStrike">
              <a:solidFill>
                <a:srgbClr val="595959"/>
              </a:solidFill>
              <a:latin typeface="Calibri"/>
            </a:endParaRPr>
          </a:p>
          <a:p>
            <a:pPr lvl="1" marL="555480" indent="-2124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cond Outline Level</a:t>
            </a:r>
            <a:endParaRPr b="0" lang="en-US" sz="1800" spc="-1" strike="noStrike">
              <a:solidFill>
                <a:srgbClr val="595959"/>
              </a:solidFill>
              <a:latin typeface="Calibri"/>
            </a:endParaRPr>
          </a:p>
          <a:p>
            <a:pPr lvl="2" marL="8557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Third Outline Level</a:t>
            </a:r>
            <a:endParaRPr b="0" lang="en-US" sz="1800" spc="-1" strike="noStrike">
              <a:solidFill>
                <a:srgbClr val="595959"/>
              </a:solidFill>
              <a:latin typeface="Calibri"/>
            </a:endParaRPr>
          </a:p>
          <a:p>
            <a:pPr lvl="3" marL="1198440" indent="-16956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ourth Outline Level</a:t>
            </a:r>
            <a:endParaRPr b="0" lang="en-US" sz="1800" spc="-1" strike="noStrike">
              <a:solidFill>
                <a:srgbClr val="595959"/>
              </a:solidFill>
              <a:latin typeface="Calibri"/>
            </a:endParaRPr>
          </a:p>
          <a:p>
            <a:pPr lvl="4" marL="15415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ifth Outline Level</a:t>
            </a:r>
            <a:endParaRPr b="0" lang="en-US" sz="1800" spc="-1" strike="noStrike">
              <a:solidFill>
                <a:srgbClr val="595959"/>
              </a:solidFill>
              <a:latin typeface="Calibri"/>
            </a:endParaRPr>
          </a:p>
          <a:p>
            <a:pPr lvl="5"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ixth Outline Level</a:t>
            </a:r>
            <a:endParaRPr b="0" lang="en-US" sz="1800" spc="-1" strike="noStrike">
              <a:solidFill>
                <a:srgbClr val="595959"/>
              </a:solidFill>
              <a:latin typeface="Calibri"/>
            </a:endParaRPr>
          </a:p>
          <a:p>
            <a:pPr lvl="6"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venth Outline Level</a:t>
            </a:r>
            <a:endParaRPr b="0" lang="en-US" sz="1800" spc="-1" strike="noStrike">
              <a:solidFill>
                <a:srgbClr val="595959"/>
              </a:solidFill>
              <a:latin typeface="Calibri"/>
            </a:endParaRPr>
          </a:p>
        </p:txBody>
      </p:sp>
      <p:sp>
        <p:nvSpPr>
          <p:cNvPr id="130" name="PlaceHolder 3"/>
          <p:cNvSpPr>
            <a:spLocks noGrp="1"/>
          </p:cNvSpPr>
          <p:nvPr>
            <p:ph type="ftr" idx="8"/>
          </p:nvPr>
        </p:nvSpPr>
        <p:spPr>
          <a:xfrm>
            <a:off x="3124080" y="5297040"/>
            <a:ext cx="2895840" cy="30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KoM TEAMS Online XX/06/2021</a:t>
            </a:r>
            <a:endParaRPr b="0" lang="en-US" sz="1200" spc="-1" strike="noStrike">
              <a:solidFill>
                <a:srgbClr val="000000"/>
              </a:solidFill>
              <a:latin typeface="Times New Roman"/>
            </a:endParaRPr>
          </a:p>
        </p:txBody>
      </p:sp>
      <p:sp>
        <p:nvSpPr>
          <p:cNvPr id="131" name="PlaceHolder 4"/>
          <p:cNvSpPr>
            <a:spLocks noGrp="1"/>
          </p:cNvSpPr>
          <p:nvPr>
            <p:ph type="sldNum" idx="9"/>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AF99-10F8-419F-865F-7E48845CDD4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magine 10" descr=""/>
          <p:cNvPicPr/>
          <p:nvPr/>
        </p:nvPicPr>
        <p:blipFill>
          <a:blip r:embed="rId2"/>
          <a:stretch/>
        </p:blipFill>
        <p:spPr>
          <a:xfrm>
            <a:off x="4205160" y="1461960"/>
            <a:ext cx="730440" cy="730440"/>
          </a:xfrm>
          <a:prstGeom prst="rect">
            <a:avLst/>
          </a:prstGeom>
          <a:ln w="0">
            <a:noFill/>
          </a:ln>
        </p:spPr>
      </p:pic>
      <p:grpSp>
        <p:nvGrpSpPr>
          <p:cNvPr id="169" name="Gruppo 25"/>
          <p:cNvGrpSpPr/>
          <p:nvPr/>
        </p:nvGrpSpPr>
        <p:grpSpPr>
          <a:xfrm>
            <a:off x="0" y="625320"/>
            <a:ext cx="9144000" cy="0"/>
            <a:chOff x="0" y="625320"/>
            <a:chExt cx="9144000" cy="0"/>
          </a:xfrm>
        </p:grpSpPr>
        <p:sp>
          <p:nvSpPr>
            <p:cNvPr id="170" name="Connettore 1 11"/>
            <p:cNvSpPr/>
            <p:nvPr/>
          </p:nvSpPr>
          <p:spPr>
            <a:xfrm>
              <a:off x="988920" y="625320"/>
              <a:ext cx="8155080" cy="0"/>
            </a:xfrm>
            <a:prstGeom prst="line">
              <a:avLst/>
            </a:prstGeom>
            <a:ln w="38160">
              <a:solidFill>
                <a:srgbClr val="0098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ttore 1 12"/>
            <p:cNvSpPr/>
            <p:nvPr/>
          </p:nvSpPr>
          <p:spPr>
            <a:xfrm>
              <a:off x="0" y="625320"/>
              <a:ext cx="990360" cy="0"/>
            </a:xfrm>
            <a:prstGeom prst="line">
              <a:avLst/>
            </a:prstGeom>
            <a:ln w="38160">
              <a:solidFill>
                <a:srgbClr val="42b3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2" name="Immagine 35" descr=""/>
          <p:cNvPicPr/>
          <p:nvPr/>
        </p:nvPicPr>
        <p:blipFill>
          <a:blip r:embed="rId3"/>
          <a:stretch/>
        </p:blipFill>
        <p:spPr>
          <a:xfrm>
            <a:off x="614520" y="1631880"/>
            <a:ext cx="1473120" cy="425520"/>
          </a:xfrm>
          <a:prstGeom prst="rect">
            <a:avLst/>
          </a:prstGeom>
          <a:ln w="0">
            <a:noFill/>
          </a:ln>
        </p:spPr>
      </p:pic>
      <p:pic>
        <p:nvPicPr>
          <p:cNvPr id="173" name="Picture 2" descr=""/>
          <p:cNvPicPr/>
          <p:nvPr/>
        </p:nvPicPr>
        <p:blipFill>
          <a:blip r:embed="rId4"/>
          <a:stretch/>
        </p:blipFill>
        <p:spPr>
          <a:xfrm>
            <a:off x="4118040" y="182520"/>
            <a:ext cx="904680" cy="1038240"/>
          </a:xfrm>
          <a:prstGeom prst="rect">
            <a:avLst/>
          </a:prstGeom>
          <a:ln w="0">
            <a:noFill/>
          </a:ln>
        </p:spPr>
      </p:pic>
      <p:pic>
        <p:nvPicPr>
          <p:cNvPr id="174" name="Picture 3" descr="C:\Users\Laura\Desktop\loghi biosupp\logo_GPA_medium telikh trans.png"/>
          <p:cNvPicPr/>
          <p:nvPr/>
        </p:nvPicPr>
        <p:blipFill>
          <a:blip r:embed="rId5"/>
          <a:stretch/>
        </p:blipFill>
        <p:spPr>
          <a:xfrm>
            <a:off x="2351160" y="1711440"/>
            <a:ext cx="1476360" cy="230040"/>
          </a:xfrm>
          <a:prstGeom prst="rect">
            <a:avLst/>
          </a:prstGeom>
          <a:ln w="0">
            <a:noFill/>
          </a:ln>
        </p:spPr>
      </p:pic>
      <p:pic>
        <p:nvPicPr>
          <p:cNvPr id="175" name="Picture 4" descr="C:\Users\Laura\Desktop\loghi biosupp\asu.png"/>
          <p:cNvPicPr/>
          <p:nvPr/>
        </p:nvPicPr>
        <p:blipFill>
          <a:blip r:embed="rId6"/>
          <a:stretch/>
        </p:blipFill>
        <p:spPr>
          <a:xfrm>
            <a:off x="5240160" y="1649520"/>
            <a:ext cx="1395720" cy="353880"/>
          </a:xfrm>
          <a:prstGeom prst="rect">
            <a:avLst/>
          </a:prstGeom>
          <a:ln w="0">
            <a:noFill/>
          </a:ln>
        </p:spPr>
      </p:pic>
      <p:pic>
        <p:nvPicPr>
          <p:cNvPr id="176" name="Picture 5" descr="C:\Users\Laura\Desktop\loghi biosupp\brno.png"/>
          <p:cNvPicPr/>
          <p:nvPr/>
        </p:nvPicPr>
        <p:blipFill>
          <a:blip r:embed="rId7"/>
          <a:srcRect l="5842" t="15525" r="5497" b="18721"/>
          <a:stretch/>
        </p:blipFill>
        <p:spPr>
          <a:xfrm>
            <a:off x="6956280" y="1590840"/>
            <a:ext cx="1460520" cy="475920"/>
          </a:xfrm>
          <a:prstGeom prst="rect">
            <a:avLst/>
          </a:prstGeom>
          <a:ln w="0">
            <a:noFill/>
          </a:ln>
        </p:spPr>
      </p:pic>
      <p:pic>
        <p:nvPicPr>
          <p:cNvPr id="177" name="Picture 7" descr="C:\Users\Laura\Desktop\loghi biosupp\pltech.jpg"/>
          <p:cNvPicPr/>
          <p:nvPr/>
        </p:nvPicPr>
        <p:blipFill>
          <a:blip r:embed="rId8"/>
          <a:stretch/>
        </p:blipFill>
        <p:spPr>
          <a:xfrm>
            <a:off x="677880" y="2276640"/>
            <a:ext cx="1423800" cy="544320"/>
          </a:xfrm>
          <a:prstGeom prst="rect">
            <a:avLst/>
          </a:prstGeom>
          <a:ln w="0">
            <a:noFill/>
          </a:ln>
        </p:spPr>
      </p:pic>
      <p:pic>
        <p:nvPicPr>
          <p:cNvPr id="178" name="Picture 9" descr="C:\Users\Laura\Desktop\loghi biosupp\sabiomaterials_albero_scritta.png"/>
          <p:cNvPicPr/>
          <p:nvPr/>
        </p:nvPicPr>
        <p:blipFill>
          <a:blip r:embed="rId9"/>
          <a:stretch/>
        </p:blipFill>
        <p:spPr>
          <a:xfrm>
            <a:off x="4041720" y="2405160"/>
            <a:ext cx="1023840" cy="554040"/>
          </a:xfrm>
          <a:prstGeom prst="rect">
            <a:avLst/>
          </a:prstGeom>
          <a:ln w="0">
            <a:noFill/>
          </a:ln>
        </p:spPr>
      </p:pic>
      <p:pic>
        <p:nvPicPr>
          <p:cNvPr id="179" name="Picture 10" descr="C:\Users\Laura\Desktop\loghi biosupp\logo-nafigate-color.png"/>
          <p:cNvPicPr/>
          <p:nvPr/>
        </p:nvPicPr>
        <p:blipFill>
          <a:blip r:embed="rId10"/>
          <a:stretch/>
        </p:blipFill>
        <p:spPr>
          <a:xfrm>
            <a:off x="5310360" y="2511360"/>
            <a:ext cx="1325520" cy="273240"/>
          </a:xfrm>
          <a:prstGeom prst="rect">
            <a:avLst/>
          </a:prstGeom>
          <a:ln w="0">
            <a:noFill/>
          </a:ln>
        </p:spPr>
      </p:pic>
      <p:pic>
        <p:nvPicPr>
          <p:cNvPr id="180" name="Picture 11" descr="C:\Users\Laura\Desktop\loghi biosupp\unilevfer.png"/>
          <p:cNvPicPr/>
          <p:nvPr/>
        </p:nvPicPr>
        <p:blipFill>
          <a:blip r:embed="rId11"/>
          <a:stretch/>
        </p:blipFill>
        <p:spPr>
          <a:xfrm>
            <a:off x="7216920" y="2300400"/>
            <a:ext cx="687240" cy="758880"/>
          </a:xfrm>
          <a:prstGeom prst="rect">
            <a:avLst/>
          </a:prstGeom>
          <a:ln w="0">
            <a:noFill/>
          </a:ln>
        </p:spPr>
      </p:pic>
      <p:pic>
        <p:nvPicPr>
          <p:cNvPr id="181" name="Picture 12" descr="C:\Users\Laura\Desktop\loghi biosupp\mica.png"/>
          <p:cNvPicPr/>
          <p:nvPr/>
        </p:nvPicPr>
        <p:blipFill>
          <a:blip r:embed="rId12"/>
          <a:srcRect l="5896" t="31665" r="0" b="32773"/>
          <a:stretch/>
        </p:blipFill>
        <p:spPr>
          <a:xfrm>
            <a:off x="781200" y="3235320"/>
            <a:ext cx="1137960" cy="430200"/>
          </a:xfrm>
          <a:prstGeom prst="rect">
            <a:avLst/>
          </a:prstGeom>
          <a:ln w="0">
            <a:noFill/>
          </a:ln>
        </p:spPr>
      </p:pic>
      <p:pic>
        <p:nvPicPr>
          <p:cNvPr id="182" name="Picture 13" descr="C:\Users\Laura\Desktop\loghi biosupp\wdg_logo_image.png"/>
          <p:cNvPicPr/>
          <p:nvPr/>
        </p:nvPicPr>
        <p:blipFill>
          <a:blip r:embed="rId13"/>
          <a:stretch/>
        </p:blipFill>
        <p:spPr>
          <a:xfrm>
            <a:off x="2333520" y="3311640"/>
            <a:ext cx="1373400" cy="250560"/>
          </a:xfrm>
          <a:prstGeom prst="rect">
            <a:avLst/>
          </a:prstGeom>
          <a:ln w="0">
            <a:noFill/>
          </a:ln>
        </p:spPr>
      </p:pic>
      <p:pic>
        <p:nvPicPr>
          <p:cNvPr id="183" name="Picture 14" descr="C:\Users\Laura\Desktop\loghi biosupp\grp.png"/>
          <p:cNvPicPr/>
          <p:nvPr/>
        </p:nvPicPr>
        <p:blipFill>
          <a:blip r:embed="rId14"/>
          <a:srcRect l="5052" t="18415" r="4583" b="19492"/>
          <a:stretch/>
        </p:blipFill>
        <p:spPr>
          <a:xfrm>
            <a:off x="3884760" y="3201840"/>
            <a:ext cx="1338120" cy="495360"/>
          </a:xfrm>
          <a:prstGeom prst="rect">
            <a:avLst/>
          </a:prstGeom>
          <a:ln w="0">
            <a:noFill/>
          </a:ln>
        </p:spPr>
      </p:pic>
      <p:pic>
        <p:nvPicPr>
          <p:cNvPr id="184" name="Picture 15" descr="C:\Users\Laura\Desktop\loghi biosupp\ASALogo1.jpg"/>
          <p:cNvPicPr/>
          <p:nvPr/>
        </p:nvPicPr>
        <p:blipFill>
          <a:blip r:embed="rId15"/>
          <a:stretch/>
        </p:blipFill>
        <p:spPr>
          <a:xfrm>
            <a:off x="2881440" y="3838680"/>
            <a:ext cx="1649160" cy="431640"/>
          </a:xfrm>
          <a:prstGeom prst="rect">
            <a:avLst/>
          </a:prstGeom>
          <a:ln w="0">
            <a:noFill/>
          </a:ln>
        </p:spPr>
      </p:pic>
      <p:pic>
        <p:nvPicPr>
          <p:cNvPr id="185" name="Picture 16" descr="C:\Users\Laura\Desktop\loghi biosupp\sav.png"/>
          <p:cNvPicPr/>
          <p:nvPr/>
        </p:nvPicPr>
        <p:blipFill>
          <a:blip r:embed="rId16"/>
          <a:stretch/>
        </p:blipFill>
        <p:spPr>
          <a:xfrm>
            <a:off x="4836960" y="3821040"/>
            <a:ext cx="771840" cy="630360"/>
          </a:xfrm>
          <a:prstGeom prst="rect">
            <a:avLst/>
          </a:prstGeom>
          <a:ln w="0">
            <a:noFill/>
          </a:ln>
        </p:spPr>
      </p:pic>
      <p:pic>
        <p:nvPicPr>
          <p:cNvPr id="186" name="Picture 17" descr="C:\Users\Laura\Desktop\loghi biosupp\Iris_logo_positive.png"/>
          <p:cNvPicPr/>
          <p:nvPr/>
        </p:nvPicPr>
        <p:blipFill>
          <a:blip r:embed="rId17"/>
          <a:stretch/>
        </p:blipFill>
        <p:spPr>
          <a:xfrm>
            <a:off x="5300640" y="3144960"/>
            <a:ext cx="1274760" cy="636480"/>
          </a:xfrm>
          <a:prstGeom prst="rect">
            <a:avLst/>
          </a:prstGeom>
          <a:ln w="0">
            <a:noFill/>
          </a:ln>
        </p:spPr>
      </p:pic>
      <p:pic>
        <p:nvPicPr>
          <p:cNvPr id="187" name="Picture 18" descr="C:\Users\Laura\Desktop\loghi biosupp\logo enco-1.png"/>
          <p:cNvPicPr/>
          <p:nvPr/>
        </p:nvPicPr>
        <p:blipFill>
          <a:blip r:embed="rId18"/>
          <a:stretch/>
        </p:blipFill>
        <p:spPr>
          <a:xfrm>
            <a:off x="6827760" y="3200400"/>
            <a:ext cx="1465200" cy="550800"/>
          </a:xfrm>
          <a:prstGeom prst="rect">
            <a:avLst/>
          </a:prstGeom>
          <a:ln w="0">
            <a:noFill/>
          </a:ln>
        </p:spPr>
      </p:pic>
      <p:sp>
        <p:nvSpPr>
          <p:cNvPr id="188" name="Rettangolo arrotondato 32"/>
          <p:cNvSpPr/>
          <p:nvPr/>
        </p:nvSpPr>
        <p:spPr>
          <a:xfrm>
            <a:off x="495360" y="1309680"/>
            <a:ext cx="8194680" cy="3173400"/>
          </a:xfrm>
          <a:prstGeom prst="roundRect">
            <a:avLst>
              <a:gd name="adj" fmla="val 16667"/>
            </a:avLst>
          </a:prstGeom>
          <a:noFill/>
          <a:ln w="25560">
            <a:solidFill>
              <a:srgbClr val="0098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3" descr=""/>
          <p:cNvPicPr/>
          <p:nvPr/>
        </p:nvPicPr>
        <p:blipFill>
          <a:blip r:embed="rId19"/>
          <a:stretch/>
        </p:blipFill>
        <p:spPr>
          <a:xfrm>
            <a:off x="237960" y="4665600"/>
            <a:ext cx="2583000" cy="1040040"/>
          </a:xfrm>
          <a:prstGeom prst="rect">
            <a:avLst/>
          </a:prstGeom>
          <a:ln w="0">
            <a:noFill/>
          </a:ln>
        </p:spPr>
      </p:pic>
      <p:pic>
        <p:nvPicPr>
          <p:cNvPr id="190" name="Grupo 6" descr=""/>
          <p:cNvPicPr/>
          <p:nvPr/>
        </p:nvPicPr>
        <p:blipFill>
          <a:blip r:embed="rId20"/>
          <a:stretch/>
        </p:blipFill>
        <p:spPr>
          <a:xfrm>
            <a:off x="871560" y="5291280"/>
            <a:ext cx="8278920" cy="463320"/>
          </a:xfrm>
          <a:prstGeom prst="rect">
            <a:avLst/>
          </a:prstGeom>
          <a:ln w="0">
            <a:noFill/>
          </a:ln>
        </p:spPr>
      </p:pic>
      <p:sp>
        <p:nvSpPr>
          <p:cNvPr id="191" name="CuadroTexto 7"/>
          <p:cNvSpPr/>
          <p:nvPr/>
        </p:nvSpPr>
        <p:spPr>
          <a:xfrm>
            <a:off x="3301920" y="5294160"/>
            <a:ext cx="58546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his project has received funding from the Bio-based Industries Joint Undertaking (JU) under the European Union’s Horizon 2020 research and innovation programme under Grant Agreement No. 101023685. The JU receives support from the European Union’s Horizon 2020 research and innovation programme and the Bio-based Industries Consortium.</a:t>
            </a:r>
            <a:endParaRPr b="0" lang="en-US" sz="800" spc="-1" strike="noStrike">
              <a:solidFill>
                <a:srgbClr val="000000"/>
              </a:solidFill>
              <a:latin typeface="Arial"/>
            </a:endParaRPr>
          </a:p>
        </p:txBody>
      </p:sp>
      <p:pic>
        <p:nvPicPr>
          <p:cNvPr id="192" name="Immagine 36" descr="Immagine che contiene Carattere, Elementi grafici, testo, tipografia&#10;&#10;Descrizione generata automaticamente"/>
          <p:cNvPicPr/>
          <p:nvPr/>
        </p:nvPicPr>
        <p:blipFill>
          <a:blip r:embed="rId21"/>
          <a:stretch/>
        </p:blipFill>
        <p:spPr>
          <a:xfrm>
            <a:off x="2174760" y="2478240"/>
            <a:ext cx="1690920" cy="296640"/>
          </a:xfrm>
          <a:prstGeom prst="rect">
            <a:avLst/>
          </a:prstGeom>
          <a:ln w="0">
            <a:noFill/>
          </a:ln>
        </p:spPr>
      </p:pic>
      <p:sp>
        <p:nvSpPr>
          <p:cNvPr id="193" name="PlaceHolder 1"/>
          <p:cNvSpPr>
            <a:spLocks noGrp="1"/>
          </p:cNvSpPr>
          <p:nvPr>
            <p:ph type="title"/>
          </p:nvPr>
        </p:nvSpPr>
        <p:spPr>
          <a:xfrm>
            <a:off x="250560" y="97920"/>
            <a:ext cx="6607080" cy="3589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Click to edit the title text format</a:t>
            </a:r>
            <a:endParaRPr b="1" lang="en-US" sz="1800" spc="-1" strike="noStrike">
              <a:solidFill>
                <a:srgbClr val="595959"/>
              </a:solidFill>
              <a:latin typeface="Calibri"/>
            </a:endParaRPr>
          </a:p>
        </p:txBody>
      </p:sp>
      <p:sp>
        <p:nvSpPr>
          <p:cNvPr id="194" name="PlaceHolder 2"/>
          <p:cNvSpPr>
            <a:spLocks noGrp="1"/>
          </p:cNvSpPr>
          <p:nvPr>
            <p:ph type="body"/>
          </p:nvPr>
        </p:nvSpPr>
        <p:spPr>
          <a:xfrm>
            <a:off x="250920" y="1056960"/>
            <a:ext cx="8642160" cy="4048200"/>
          </a:xfrm>
          <a:prstGeom prst="rect">
            <a:avLst/>
          </a:prstGeom>
          <a:noFill/>
          <a:ln w="0">
            <a:noFill/>
          </a:ln>
        </p:spPr>
        <p:txBody>
          <a:bodyPr lIns="90000" rIns="90000" tIns="46800" bIns="46800" anchor="t">
            <a:normAutofit/>
          </a:bodyPr>
          <a:p>
            <a:pPr marL="255600" indent="-2556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Click to edit the outline text format</a:t>
            </a:r>
            <a:endParaRPr b="0" lang="en-US" sz="1800" spc="-1" strike="noStrike">
              <a:solidFill>
                <a:srgbClr val="595959"/>
              </a:solidFill>
              <a:latin typeface="Calibri"/>
            </a:endParaRPr>
          </a:p>
          <a:p>
            <a:pPr lvl="1" marL="555480" indent="-21240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cond Outline Level</a:t>
            </a:r>
            <a:endParaRPr b="0" lang="en-US" sz="1800" spc="-1" strike="noStrike">
              <a:solidFill>
                <a:srgbClr val="595959"/>
              </a:solidFill>
              <a:latin typeface="Calibri"/>
            </a:endParaRPr>
          </a:p>
          <a:p>
            <a:pPr lvl="2" marL="8557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Third Outline Level</a:t>
            </a:r>
            <a:endParaRPr b="0" lang="en-US" sz="1800" spc="-1" strike="noStrike">
              <a:solidFill>
                <a:srgbClr val="595959"/>
              </a:solidFill>
              <a:latin typeface="Calibri"/>
            </a:endParaRPr>
          </a:p>
          <a:p>
            <a:pPr lvl="3" marL="1198440" indent="-16956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ourth Outline Level</a:t>
            </a:r>
            <a:endParaRPr b="0" lang="en-US" sz="1800" spc="-1" strike="noStrike">
              <a:solidFill>
                <a:srgbClr val="595959"/>
              </a:solidFill>
              <a:latin typeface="Calibri"/>
            </a:endParaRPr>
          </a:p>
          <a:p>
            <a:pPr lvl="4" marL="1541520" indent="-16992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Fifth Outline Level</a:t>
            </a:r>
            <a:endParaRPr b="0" lang="en-US" sz="1800" spc="-1" strike="noStrike">
              <a:solidFill>
                <a:srgbClr val="595959"/>
              </a:solidFill>
              <a:latin typeface="Calibri"/>
            </a:endParaRPr>
          </a:p>
          <a:p>
            <a:pPr lvl="5"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ixth Outline Level</a:t>
            </a:r>
            <a:endParaRPr b="0" lang="en-US" sz="1800" spc="-1" strike="noStrike">
              <a:solidFill>
                <a:srgbClr val="595959"/>
              </a:solidFill>
              <a:latin typeface="Calibri"/>
            </a:endParaRPr>
          </a:p>
          <a:p>
            <a:pPr lvl="6" marL="15415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Seventh Outline Level</a:t>
            </a:r>
            <a:endParaRPr b="0" lang="en-US" sz="18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3701" r:id="rId22"/>
    <p:sldLayoutId id="2147483702" r:id="rId23"/>
    <p:sldLayoutId id="2147483703" r:id="rId24"/>
    <p:sldLayoutId id="2147483704" r:id="rId25"/>
    <p:sldLayoutId id="2147483705" r:id="rId26"/>
    <p:sldLayoutId id="2147483706" r:id="rId27"/>
    <p:sldLayoutId id="2147483707" r:id="rId28"/>
    <p:sldLayoutId id="2147483708" r:id="rId29"/>
    <p:sldLayoutId id="2147483709" r:id="rId30"/>
    <p:sldLayoutId id="2147483710" r:id="rId31"/>
    <p:sldLayoutId id="2147483711" r:id="rId32"/>
    <p:sldLayoutId id="2147483712" r:id="rId3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15"/>
          <p:cNvGrpSpPr/>
          <p:nvPr/>
        </p:nvGrpSpPr>
        <p:grpSpPr>
          <a:xfrm>
            <a:off x="0" y="0"/>
            <a:ext cx="9144000" cy="5715000"/>
            <a:chOff x="0" y="0"/>
            <a:chExt cx="9144000" cy="5715000"/>
          </a:xfrm>
        </p:grpSpPr>
        <p:sp>
          <p:nvSpPr>
            <p:cNvPr id="232" name="AutoShape 3"/>
            <p:cNvSpPr/>
            <p:nvPr/>
          </p:nvSpPr>
          <p:spPr>
            <a:xfrm>
              <a:off x="0" y="0"/>
              <a:ext cx="9144000" cy="57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7"/>
            <p:cNvSpPr/>
            <p:nvPr/>
          </p:nvSpPr>
          <p:spPr>
            <a:xfrm>
              <a:off x="0" y="0"/>
              <a:ext cx="9144000" cy="5715000"/>
            </a:xfrm>
            <a:custGeom>
              <a:avLst/>
              <a:gdLst/>
              <a:ahLst/>
              <a:rect l="l" t="t" r="r" b="b"/>
              <a:pathLst>
                <a:path w="38360" h="21600">
                  <a:moveTo>
                    <a:pt x="31324" y="11836"/>
                  </a:moveTo>
                  <a:lnTo>
                    <a:pt x="31324" y="11836"/>
                  </a:lnTo>
                  <a:lnTo>
                    <a:pt x="31298" y="11851"/>
                  </a:lnTo>
                  <a:lnTo>
                    <a:pt x="31270" y="11864"/>
                  </a:lnTo>
                  <a:lnTo>
                    <a:pt x="31240" y="11876"/>
                  </a:lnTo>
                  <a:lnTo>
                    <a:pt x="31211" y="11884"/>
                  </a:lnTo>
                  <a:lnTo>
                    <a:pt x="31182" y="11890"/>
                  </a:lnTo>
                  <a:lnTo>
                    <a:pt x="31151" y="11892"/>
                  </a:lnTo>
                  <a:lnTo>
                    <a:pt x="31122" y="11893"/>
                  </a:lnTo>
                  <a:lnTo>
                    <a:pt x="31091" y="11891"/>
                  </a:lnTo>
                  <a:lnTo>
                    <a:pt x="31062" y="11887"/>
                  </a:lnTo>
                  <a:lnTo>
                    <a:pt x="31031" y="11880"/>
                  </a:lnTo>
                  <a:lnTo>
                    <a:pt x="31003" y="11871"/>
                  </a:lnTo>
                  <a:lnTo>
                    <a:pt x="30974" y="11859"/>
                  </a:lnTo>
                  <a:lnTo>
                    <a:pt x="30947" y="11845"/>
                  </a:lnTo>
                  <a:lnTo>
                    <a:pt x="30921" y="11829"/>
                  </a:lnTo>
                  <a:lnTo>
                    <a:pt x="30895" y="11809"/>
                  </a:lnTo>
                  <a:lnTo>
                    <a:pt x="30883" y="11798"/>
                  </a:lnTo>
                  <a:lnTo>
                    <a:pt x="30872" y="11788"/>
                  </a:lnTo>
                  <a:lnTo>
                    <a:pt x="30859" y="11774"/>
                  </a:lnTo>
                  <a:lnTo>
                    <a:pt x="30847" y="11760"/>
                  </a:lnTo>
                  <a:lnTo>
                    <a:pt x="30835" y="11745"/>
                  </a:lnTo>
                  <a:lnTo>
                    <a:pt x="30825" y="11730"/>
                  </a:lnTo>
                  <a:lnTo>
                    <a:pt x="30815" y="11715"/>
                  </a:lnTo>
                  <a:lnTo>
                    <a:pt x="30807" y="11700"/>
                  </a:lnTo>
                  <a:lnTo>
                    <a:pt x="30799" y="11683"/>
                  </a:lnTo>
                  <a:lnTo>
                    <a:pt x="30792" y="11668"/>
                  </a:lnTo>
                  <a:lnTo>
                    <a:pt x="30786" y="11652"/>
                  </a:lnTo>
                  <a:lnTo>
                    <a:pt x="30780" y="11634"/>
                  </a:lnTo>
                  <a:lnTo>
                    <a:pt x="30775" y="11617"/>
                  </a:lnTo>
                  <a:lnTo>
                    <a:pt x="30772" y="11600"/>
                  </a:lnTo>
                  <a:lnTo>
                    <a:pt x="30769" y="11583"/>
                  </a:lnTo>
                  <a:lnTo>
                    <a:pt x="30767" y="11566"/>
                  </a:lnTo>
                  <a:lnTo>
                    <a:pt x="30766" y="11548"/>
                  </a:lnTo>
                  <a:lnTo>
                    <a:pt x="30765" y="11531"/>
                  </a:lnTo>
                  <a:lnTo>
                    <a:pt x="30766" y="11514"/>
                  </a:lnTo>
                  <a:lnTo>
                    <a:pt x="30767" y="11497"/>
                  </a:lnTo>
                  <a:lnTo>
                    <a:pt x="30769" y="11479"/>
                  </a:lnTo>
                  <a:lnTo>
                    <a:pt x="30772" y="11461"/>
                  </a:lnTo>
                  <a:lnTo>
                    <a:pt x="30775" y="11445"/>
                  </a:lnTo>
                  <a:lnTo>
                    <a:pt x="30780" y="11429"/>
                  </a:lnTo>
                  <a:lnTo>
                    <a:pt x="30786" y="11411"/>
                  </a:lnTo>
                  <a:lnTo>
                    <a:pt x="30792" y="11394"/>
                  </a:lnTo>
                  <a:lnTo>
                    <a:pt x="30799" y="11378"/>
                  </a:lnTo>
                  <a:lnTo>
                    <a:pt x="30807" y="11363"/>
                  </a:lnTo>
                  <a:lnTo>
                    <a:pt x="30815" y="11348"/>
                  </a:lnTo>
                  <a:lnTo>
                    <a:pt x="30825" y="11332"/>
                  </a:lnTo>
                  <a:lnTo>
                    <a:pt x="30835" y="11317"/>
                  </a:lnTo>
                  <a:lnTo>
                    <a:pt x="30847" y="11303"/>
                  </a:lnTo>
                  <a:lnTo>
                    <a:pt x="30859" y="11289"/>
                  </a:lnTo>
                  <a:lnTo>
                    <a:pt x="30872" y="11275"/>
                  </a:lnTo>
                  <a:lnTo>
                    <a:pt x="32736" y="9411"/>
                  </a:lnTo>
                  <a:lnTo>
                    <a:pt x="32749" y="9397"/>
                  </a:lnTo>
                  <a:lnTo>
                    <a:pt x="32762" y="9383"/>
                  </a:lnTo>
                  <a:lnTo>
                    <a:pt x="-32764" y="9369"/>
                  </a:lnTo>
                  <a:lnTo>
                    <a:pt x="-32753" y="9353"/>
                  </a:lnTo>
                  <a:lnTo>
                    <a:pt x="-32744" y="9338"/>
                  </a:lnTo>
                  <a:lnTo>
                    <a:pt x="-32734" y="9323"/>
                  </a:lnTo>
                  <a:lnTo>
                    <a:pt x="-32727" y="9306"/>
                  </a:lnTo>
                  <a:lnTo>
                    <a:pt x="-32720" y="9290"/>
                  </a:lnTo>
                  <a:lnTo>
                    <a:pt x="-32713" y="9274"/>
                  </a:lnTo>
                  <a:lnTo>
                    <a:pt x="-32709" y="9257"/>
                  </a:lnTo>
                  <a:lnTo>
                    <a:pt x="-32704" y="9241"/>
                  </a:lnTo>
                  <a:lnTo>
                    <a:pt x="-32700" y="9223"/>
                  </a:lnTo>
                  <a:lnTo>
                    <a:pt x="-32697" y="9207"/>
                  </a:lnTo>
                  <a:lnTo>
                    <a:pt x="-32696" y="9189"/>
                  </a:lnTo>
                  <a:lnTo>
                    <a:pt x="-32695" y="9171"/>
                  </a:lnTo>
                  <a:lnTo>
                    <a:pt x="-32693" y="9154"/>
                  </a:lnTo>
                  <a:lnTo>
                    <a:pt x="-32695" y="9136"/>
                  </a:lnTo>
                  <a:lnTo>
                    <a:pt x="-32696" y="9120"/>
                  </a:lnTo>
                  <a:lnTo>
                    <a:pt x="-32697" y="9102"/>
                  </a:lnTo>
                  <a:lnTo>
                    <a:pt x="-32700" y="9085"/>
                  </a:lnTo>
                  <a:lnTo>
                    <a:pt x="-32704" y="9068"/>
                  </a:lnTo>
                  <a:lnTo>
                    <a:pt x="-32709" y="9051"/>
                  </a:lnTo>
                  <a:lnTo>
                    <a:pt x="-32713" y="9034"/>
                  </a:lnTo>
                  <a:lnTo>
                    <a:pt x="-32720" y="9018"/>
                  </a:lnTo>
                  <a:lnTo>
                    <a:pt x="-32727" y="9001"/>
                  </a:lnTo>
                  <a:lnTo>
                    <a:pt x="-32734" y="8986"/>
                  </a:lnTo>
                  <a:lnTo>
                    <a:pt x="-32744" y="8970"/>
                  </a:lnTo>
                  <a:lnTo>
                    <a:pt x="-32753" y="8954"/>
                  </a:lnTo>
                  <a:lnTo>
                    <a:pt x="-32764" y="8940"/>
                  </a:lnTo>
                  <a:lnTo>
                    <a:pt x="32762" y="8925"/>
                  </a:lnTo>
                  <a:lnTo>
                    <a:pt x="32749" y="8911"/>
                  </a:lnTo>
                  <a:lnTo>
                    <a:pt x="32736" y="8898"/>
                  </a:lnTo>
                  <a:lnTo>
                    <a:pt x="32723" y="8885"/>
                  </a:lnTo>
                  <a:lnTo>
                    <a:pt x="32709" y="8873"/>
                  </a:lnTo>
                  <a:lnTo>
                    <a:pt x="32695" y="8862"/>
                  </a:lnTo>
                  <a:lnTo>
                    <a:pt x="32679" y="8851"/>
                  </a:lnTo>
                  <a:lnTo>
                    <a:pt x="32664" y="8842"/>
                  </a:lnTo>
                  <a:lnTo>
                    <a:pt x="32649" y="8833"/>
                  </a:lnTo>
                  <a:lnTo>
                    <a:pt x="32632" y="8825"/>
                  </a:lnTo>
                  <a:lnTo>
                    <a:pt x="32616" y="8818"/>
                  </a:lnTo>
                  <a:lnTo>
                    <a:pt x="32600" y="8812"/>
                  </a:lnTo>
                  <a:lnTo>
                    <a:pt x="32583" y="8806"/>
                  </a:lnTo>
                  <a:lnTo>
                    <a:pt x="32567" y="8802"/>
                  </a:lnTo>
                  <a:lnTo>
                    <a:pt x="32549" y="8798"/>
                  </a:lnTo>
                  <a:lnTo>
                    <a:pt x="32532" y="8796"/>
                  </a:lnTo>
                  <a:lnTo>
                    <a:pt x="32515" y="8794"/>
                  </a:lnTo>
                  <a:lnTo>
                    <a:pt x="32497" y="8792"/>
                  </a:lnTo>
                  <a:lnTo>
                    <a:pt x="32480" y="8792"/>
                  </a:lnTo>
                  <a:lnTo>
                    <a:pt x="32462" y="8792"/>
                  </a:lnTo>
                  <a:lnTo>
                    <a:pt x="32446" y="8794"/>
                  </a:lnTo>
                  <a:lnTo>
                    <a:pt x="32428" y="8796"/>
                  </a:lnTo>
                  <a:lnTo>
                    <a:pt x="32411" y="8798"/>
                  </a:lnTo>
                  <a:lnTo>
                    <a:pt x="32394" y="8802"/>
                  </a:lnTo>
                  <a:lnTo>
                    <a:pt x="32377" y="8806"/>
                  </a:lnTo>
                  <a:lnTo>
                    <a:pt x="32360" y="8812"/>
                  </a:lnTo>
                  <a:lnTo>
                    <a:pt x="32344" y="8818"/>
                  </a:lnTo>
                  <a:lnTo>
                    <a:pt x="32327" y="8825"/>
                  </a:lnTo>
                  <a:lnTo>
                    <a:pt x="32312" y="8833"/>
                  </a:lnTo>
                  <a:lnTo>
                    <a:pt x="32296" y="8842"/>
                  </a:lnTo>
                  <a:lnTo>
                    <a:pt x="32280" y="8851"/>
                  </a:lnTo>
                  <a:lnTo>
                    <a:pt x="32266" y="8862"/>
                  </a:lnTo>
                  <a:lnTo>
                    <a:pt x="32251" y="8873"/>
                  </a:lnTo>
                  <a:lnTo>
                    <a:pt x="32237" y="8885"/>
                  </a:lnTo>
                  <a:lnTo>
                    <a:pt x="32224" y="8898"/>
                  </a:lnTo>
                  <a:lnTo>
                    <a:pt x="28568" y="12553"/>
                  </a:lnTo>
                  <a:lnTo>
                    <a:pt x="28554" y="12566"/>
                  </a:lnTo>
                  <a:lnTo>
                    <a:pt x="28540" y="12578"/>
                  </a:lnTo>
                  <a:lnTo>
                    <a:pt x="28526" y="12589"/>
                  </a:lnTo>
                  <a:lnTo>
                    <a:pt x="28511" y="12599"/>
                  </a:lnTo>
                  <a:lnTo>
                    <a:pt x="28496" y="12609"/>
                  </a:lnTo>
                  <a:lnTo>
                    <a:pt x="28480" y="12618"/>
                  </a:lnTo>
                  <a:lnTo>
                    <a:pt x="28465" y="12626"/>
                  </a:lnTo>
                  <a:lnTo>
                    <a:pt x="28449" y="12633"/>
                  </a:lnTo>
                  <a:lnTo>
                    <a:pt x="28432" y="12639"/>
                  </a:lnTo>
                  <a:lnTo>
                    <a:pt x="28415" y="12645"/>
                  </a:lnTo>
                  <a:lnTo>
                    <a:pt x="28398" y="12648"/>
                  </a:lnTo>
                  <a:lnTo>
                    <a:pt x="28382" y="12653"/>
                  </a:lnTo>
                  <a:lnTo>
                    <a:pt x="28364" y="12655"/>
                  </a:lnTo>
                  <a:lnTo>
                    <a:pt x="28347" y="12657"/>
                  </a:lnTo>
                  <a:lnTo>
                    <a:pt x="28329" y="12659"/>
                  </a:lnTo>
                  <a:lnTo>
                    <a:pt x="28312" y="12659"/>
                  </a:lnTo>
                  <a:lnTo>
                    <a:pt x="28295" y="12659"/>
                  </a:lnTo>
                  <a:lnTo>
                    <a:pt x="28277" y="12657"/>
                  </a:lnTo>
                  <a:lnTo>
                    <a:pt x="28260" y="12655"/>
                  </a:lnTo>
                  <a:lnTo>
                    <a:pt x="28243" y="12653"/>
                  </a:lnTo>
                  <a:lnTo>
                    <a:pt x="28226" y="12648"/>
                  </a:lnTo>
                  <a:lnTo>
                    <a:pt x="28209" y="12645"/>
                  </a:lnTo>
                  <a:lnTo>
                    <a:pt x="28192" y="12639"/>
                  </a:lnTo>
                  <a:lnTo>
                    <a:pt x="28175" y="12633"/>
                  </a:lnTo>
                  <a:lnTo>
                    <a:pt x="28160" y="12626"/>
                  </a:lnTo>
                  <a:lnTo>
                    <a:pt x="28143" y="12618"/>
                  </a:lnTo>
                  <a:lnTo>
                    <a:pt x="28128" y="12609"/>
                  </a:lnTo>
                  <a:lnTo>
                    <a:pt x="28113" y="12599"/>
                  </a:lnTo>
                  <a:lnTo>
                    <a:pt x="28098" y="12589"/>
                  </a:lnTo>
                  <a:lnTo>
                    <a:pt x="28084" y="12578"/>
                  </a:lnTo>
                  <a:lnTo>
                    <a:pt x="28069" y="12566"/>
                  </a:lnTo>
                  <a:lnTo>
                    <a:pt x="28055" y="12553"/>
                  </a:lnTo>
                  <a:lnTo>
                    <a:pt x="28042" y="12539"/>
                  </a:lnTo>
                  <a:lnTo>
                    <a:pt x="28031" y="12525"/>
                  </a:lnTo>
                  <a:lnTo>
                    <a:pt x="28020" y="12511"/>
                  </a:lnTo>
                  <a:lnTo>
                    <a:pt x="28010" y="12495"/>
                  </a:lnTo>
                  <a:lnTo>
                    <a:pt x="28000" y="12480"/>
                  </a:lnTo>
                  <a:lnTo>
                    <a:pt x="27991" y="12465"/>
                  </a:lnTo>
                  <a:lnTo>
                    <a:pt x="27983" y="12450"/>
                  </a:lnTo>
                  <a:lnTo>
                    <a:pt x="27976" y="12433"/>
                  </a:lnTo>
                  <a:lnTo>
                    <a:pt x="27970" y="12417"/>
                  </a:lnTo>
                  <a:lnTo>
                    <a:pt x="27965" y="12399"/>
                  </a:lnTo>
                  <a:lnTo>
                    <a:pt x="27960" y="12383"/>
                  </a:lnTo>
                  <a:lnTo>
                    <a:pt x="27957" y="12366"/>
                  </a:lnTo>
                  <a:lnTo>
                    <a:pt x="27953" y="12349"/>
                  </a:lnTo>
                  <a:lnTo>
                    <a:pt x="27951" y="12331"/>
                  </a:lnTo>
                  <a:lnTo>
                    <a:pt x="27950" y="12314"/>
                  </a:lnTo>
                  <a:lnTo>
                    <a:pt x="27950" y="12297"/>
                  </a:lnTo>
                  <a:lnTo>
                    <a:pt x="27950" y="12279"/>
                  </a:lnTo>
                  <a:lnTo>
                    <a:pt x="27951" y="12262"/>
                  </a:lnTo>
                  <a:lnTo>
                    <a:pt x="27953" y="12244"/>
                  </a:lnTo>
                  <a:lnTo>
                    <a:pt x="27957" y="12228"/>
                  </a:lnTo>
                  <a:lnTo>
                    <a:pt x="27960" y="12210"/>
                  </a:lnTo>
                  <a:lnTo>
                    <a:pt x="27965" y="12194"/>
                  </a:lnTo>
                  <a:lnTo>
                    <a:pt x="27970" y="12176"/>
                  </a:lnTo>
                  <a:lnTo>
                    <a:pt x="27976" y="12160"/>
                  </a:lnTo>
                  <a:lnTo>
                    <a:pt x="27983" y="12144"/>
                  </a:lnTo>
                  <a:lnTo>
                    <a:pt x="27991" y="12128"/>
                  </a:lnTo>
                  <a:lnTo>
                    <a:pt x="28000" y="12113"/>
                  </a:lnTo>
                  <a:lnTo>
                    <a:pt x="28010" y="12098"/>
                  </a:lnTo>
                  <a:lnTo>
                    <a:pt x="28020" y="12082"/>
                  </a:lnTo>
                  <a:lnTo>
                    <a:pt x="28031" y="12068"/>
                  </a:lnTo>
                  <a:lnTo>
                    <a:pt x="28042" y="12054"/>
                  </a:lnTo>
                  <a:lnTo>
                    <a:pt x="28055" y="12040"/>
                  </a:lnTo>
                  <a:lnTo>
                    <a:pt x="32003" y="8094"/>
                  </a:lnTo>
                  <a:lnTo>
                    <a:pt x="32016" y="8080"/>
                  </a:lnTo>
                  <a:lnTo>
                    <a:pt x="32028" y="8066"/>
                  </a:lnTo>
                  <a:lnTo>
                    <a:pt x="32040" y="8052"/>
                  </a:lnTo>
                  <a:lnTo>
                    <a:pt x="32049" y="8036"/>
                  </a:lnTo>
                  <a:lnTo>
                    <a:pt x="32060" y="8021"/>
                  </a:lnTo>
                  <a:lnTo>
                    <a:pt x="32068" y="8006"/>
                  </a:lnTo>
                  <a:lnTo>
                    <a:pt x="32076" y="7990"/>
                  </a:lnTo>
                  <a:lnTo>
                    <a:pt x="32083" y="7974"/>
                  </a:lnTo>
                  <a:lnTo>
                    <a:pt x="32089" y="7958"/>
                  </a:lnTo>
                  <a:lnTo>
                    <a:pt x="32095" y="7940"/>
                  </a:lnTo>
                  <a:lnTo>
                    <a:pt x="32098" y="7924"/>
                  </a:lnTo>
                  <a:lnTo>
                    <a:pt x="32103" y="7906"/>
                  </a:lnTo>
                  <a:lnTo>
                    <a:pt x="32105" y="7890"/>
                  </a:lnTo>
                  <a:lnTo>
                    <a:pt x="32108" y="7872"/>
                  </a:lnTo>
                  <a:lnTo>
                    <a:pt x="32109" y="7855"/>
                  </a:lnTo>
                  <a:lnTo>
                    <a:pt x="32109" y="7837"/>
                  </a:lnTo>
                  <a:lnTo>
                    <a:pt x="32109" y="7821"/>
                  </a:lnTo>
                  <a:lnTo>
                    <a:pt x="32108" y="7803"/>
                  </a:lnTo>
                  <a:lnTo>
                    <a:pt x="32105" y="7785"/>
                  </a:lnTo>
                  <a:lnTo>
                    <a:pt x="32103" y="7768"/>
                  </a:lnTo>
                  <a:lnTo>
                    <a:pt x="32098" y="7751"/>
                  </a:lnTo>
                  <a:lnTo>
                    <a:pt x="32095" y="7735"/>
                  </a:lnTo>
                  <a:lnTo>
                    <a:pt x="32089" y="7717"/>
                  </a:lnTo>
                  <a:lnTo>
                    <a:pt x="32083" y="7701"/>
                  </a:lnTo>
                  <a:lnTo>
                    <a:pt x="32076" y="7684"/>
                  </a:lnTo>
                  <a:lnTo>
                    <a:pt x="32068" y="7669"/>
                  </a:lnTo>
                  <a:lnTo>
                    <a:pt x="32060" y="7654"/>
                  </a:lnTo>
                  <a:lnTo>
                    <a:pt x="32049" y="7639"/>
                  </a:lnTo>
                  <a:lnTo>
                    <a:pt x="32040" y="7623"/>
                  </a:lnTo>
                  <a:lnTo>
                    <a:pt x="32028" y="7609"/>
                  </a:lnTo>
                  <a:lnTo>
                    <a:pt x="32016" y="7595"/>
                  </a:lnTo>
                  <a:lnTo>
                    <a:pt x="32003" y="7581"/>
                  </a:lnTo>
                  <a:lnTo>
                    <a:pt x="31989" y="7568"/>
                  </a:lnTo>
                  <a:lnTo>
                    <a:pt x="31975" y="7556"/>
                  </a:lnTo>
                  <a:lnTo>
                    <a:pt x="31961" y="7545"/>
                  </a:lnTo>
                  <a:lnTo>
                    <a:pt x="31946" y="7535"/>
                  </a:lnTo>
                  <a:lnTo>
                    <a:pt x="31930" y="7525"/>
                  </a:lnTo>
                  <a:lnTo>
                    <a:pt x="31915" y="7517"/>
                  </a:lnTo>
                  <a:lnTo>
                    <a:pt x="31900" y="7508"/>
                  </a:lnTo>
                  <a:lnTo>
                    <a:pt x="31884" y="7501"/>
                  </a:lnTo>
                  <a:lnTo>
                    <a:pt x="31867" y="7495"/>
                  </a:lnTo>
                  <a:lnTo>
                    <a:pt x="31849" y="7490"/>
                  </a:lnTo>
                  <a:lnTo>
                    <a:pt x="31833" y="7486"/>
                  </a:lnTo>
                  <a:lnTo>
                    <a:pt x="31815" y="7481"/>
                  </a:lnTo>
                  <a:lnTo>
                    <a:pt x="31799" y="7479"/>
                  </a:lnTo>
                  <a:lnTo>
                    <a:pt x="31781" y="7477"/>
                  </a:lnTo>
                  <a:lnTo>
                    <a:pt x="31764" y="7475"/>
                  </a:lnTo>
                  <a:lnTo>
                    <a:pt x="31747" y="7475"/>
                  </a:lnTo>
                  <a:lnTo>
                    <a:pt x="31730" y="7475"/>
                  </a:lnTo>
                  <a:lnTo>
                    <a:pt x="31712" y="7477"/>
                  </a:lnTo>
                  <a:lnTo>
                    <a:pt x="31695" y="7479"/>
                  </a:lnTo>
                  <a:lnTo>
                    <a:pt x="31678" y="7481"/>
                  </a:lnTo>
                  <a:lnTo>
                    <a:pt x="31660" y="7486"/>
                  </a:lnTo>
                  <a:lnTo>
                    <a:pt x="31644" y="7490"/>
                  </a:lnTo>
                  <a:lnTo>
                    <a:pt x="31626" y="7495"/>
                  </a:lnTo>
                  <a:lnTo>
                    <a:pt x="31610" y="7501"/>
                  </a:lnTo>
                  <a:lnTo>
                    <a:pt x="31595" y="7508"/>
                  </a:lnTo>
                  <a:lnTo>
                    <a:pt x="31578" y="7517"/>
                  </a:lnTo>
                  <a:lnTo>
                    <a:pt x="31563" y="7525"/>
                  </a:lnTo>
                  <a:lnTo>
                    <a:pt x="31548" y="7535"/>
                  </a:lnTo>
                  <a:lnTo>
                    <a:pt x="31533" y="7545"/>
                  </a:lnTo>
                  <a:lnTo>
                    <a:pt x="31518" y="7556"/>
                  </a:lnTo>
                  <a:lnTo>
                    <a:pt x="31504" y="7568"/>
                  </a:lnTo>
                  <a:lnTo>
                    <a:pt x="31490" y="7581"/>
                  </a:lnTo>
                  <a:lnTo>
                    <a:pt x="29709" y="9363"/>
                  </a:lnTo>
                  <a:lnTo>
                    <a:pt x="29695" y="9376"/>
                  </a:lnTo>
                  <a:lnTo>
                    <a:pt x="29681" y="9387"/>
                  </a:lnTo>
                  <a:lnTo>
                    <a:pt x="29667" y="9398"/>
                  </a:lnTo>
                  <a:lnTo>
                    <a:pt x="29652" y="9409"/>
                  </a:lnTo>
                  <a:lnTo>
                    <a:pt x="29637" y="9418"/>
                  </a:lnTo>
                  <a:lnTo>
                    <a:pt x="29621" y="9427"/>
                  </a:lnTo>
                  <a:lnTo>
                    <a:pt x="29605" y="9436"/>
                  </a:lnTo>
                  <a:lnTo>
                    <a:pt x="29589" y="9443"/>
                  </a:lnTo>
                  <a:lnTo>
                    <a:pt x="29572" y="9448"/>
                  </a:lnTo>
                  <a:lnTo>
                    <a:pt x="29556" y="9453"/>
                  </a:lnTo>
                  <a:lnTo>
                    <a:pt x="29539" y="9458"/>
                  </a:lnTo>
                  <a:lnTo>
                    <a:pt x="29522" y="9461"/>
                  </a:lnTo>
                  <a:lnTo>
                    <a:pt x="29505" y="9465"/>
                  </a:lnTo>
                  <a:lnTo>
                    <a:pt x="29488" y="9467"/>
                  </a:lnTo>
                  <a:lnTo>
                    <a:pt x="29470" y="9468"/>
                  </a:lnTo>
                  <a:lnTo>
                    <a:pt x="29452" y="9468"/>
                  </a:lnTo>
                  <a:lnTo>
                    <a:pt x="29435" y="9468"/>
                  </a:lnTo>
                  <a:lnTo>
                    <a:pt x="29418" y="9467"/>
                  </a:lnTo>
                  <a:lnTo>
                    <a:pt x="29401" y="9465"/>
                  </a:lnTo>
                  <a:lnTo>
                    <a:pt x="29383" y="9463"/>
                  </a:lnTo>
                  <a:lnTo>
                    <a:pt x="29367" y="9458"/>
                  </a:lnTo>
                  <a:lnTo>
                    <a:pt x="29349" y="9453"/>
                  </a:lnTo>
                  <a:lnTo>
                    <a:pt x="29333" y="9448"/>
                  </a:lnTo>
                  <a:lnTo>
                    <a:pt x="29316" y="9443"/>
                  </a:lnTo>
                  <a:lnTo>
                    <a:pt x="29300" y="9436"/>
                  </a:lnTo>
                  <a:lnTo>
                    <a:pt x="29284" y="9427"/>
                  </a:lnTo>
                  <a:lnTo>
                    <a:pt x="29268" y="9418"/>
                  </a:lnTo>
                  <a:lnTo>
                    <a:pt x="29253" y="9409"/>
                  </a:lnTo>
                  <a:lnTo>
                    <a:pt x="29239" y="9398"/>
                  </a:lnTo>
                  <a:lnTo>
                    <a:pt x="29223" y="9387"/>
                  </a:lnTo>
                  <a:lnTo>
                    <a:pt x="29211" y="9376"/>
                  </a:lnTo>
                  <a:lnTo>
                    <a:pt x="29196" y="9363"/>
                  </a:lnTo>
                  <a:lnTo>
                    <a:pt x="29184" y="9349"/>
                  </a:lnTo>
                  <a:lnTo>
                    <a:pt x="29172" y="9335"/>
                  </a:lnTo>
                  <a:lnTo>
                    <a:pt x="29160" y="9321"/>
                  </a:lnTo>
                  <a:lnTo>
                    <a:pt x="29149" y="9305"/>
                  </a:lnTo>
                  <a:lnTo>
                    <a:pt x="29140" y="9290"/>
                  </a:lnTo>
                  <a:lnTo>
                    <a:pt x="29132" y="9275"/>
                  </a:lnTo>
                  <a:lnTo>
                    <a:pt x="29124" y="9258"/>
                  </a:lnTo>
                  <a:lnTo>
                    <a:pt x="29117" y="9243"/>
                  </a:lnTo>
                  <a:lnTo>
                    <a:pt x="29111" y="9227"/>
                  </a:lnTo>
                  <a:lnTo>
                    <a:pt x="29105" y="9209"/>
                  </a:lnTo>
                  <a:lnTo>
                    <a:pt x="29100" y="9193"/>
                  </a:lnTo>
                  <a:lnTo>
                    <a:pt x="29097" y="9175"/>
                  </a:lnTo>
                  <a:lnTo>
                    <a:pt x="29094" y="9159"/>
                  </a:lnTo>
                  <a:lnTo>
                    <a:pt x="29092" y="9141"/>
                  </a:lnTo>
                  <a:lnTo>
                    <a:pt x="29091" y="9123"/>
                  </a:lnTo>
                  <a:lnTo>
                    <a:pt x="29091" y="9106"/>
                  </a:lnTo>
                  <a:lnTo>
                    <a:pt x="29091" y="9089"/>
                  </a:lnTo>
                  <a:lnTo>
                    <a:pt x="29092" y="9072"/>
                  </a:lnTo>
                  <a:lnTo>
                    <a:pt x="29094" y="9054"/>
                  </a:lnTo>
                  <a:lnTo>
                    <a:pt x="29097" y="9036"/>
                  </a:lnTo>
                  <a:lnTo>
                    <a:pt x="29100" y="9020"/>
                  </a:lnTo>
                  <a:lnTo>
                    <a:pt x="29105" y="9004"/>
                  </a:lnTo>
                  <a:lnTo>
                    <a:pt x="29111" y="8986"/>
                  </a:lnTo>
                  <a:lnTo>
                    <a:pt x="29117" y="8970"/>
                  </a:lnTo>
                  <a:lnTo>
                    <a:pt x="29124" y="8953"/>
                  </a:lnTo>
                  <a:lnTo>
                    <a:pt x="29132" y="8938"/>
                  </a:lnTo>
                  <a:lnTo>
                    <a:pt x="29140" y="8923"/>
                  </a:lnTo>
                  <a:lnTo>
                    <a:pt x="29149" y="8907"/>
                  </a:lnTo>
                  <a:lnTo>
                    <a:pt x="29160" y="8892"/>
                  </a:lnTo>
                  <a:lnTo>
                    <a:pt x="29172" y="8878"/>
                  </a:lnTo>
                  <a:lnTo>
                    <a:pt x="29184" y="8864"/>
                  </a:lnTo>
                  <a:lnTo>
                    <a:pt x="29196" y="8850"/>
                  </a:lnTo>
                  <a:lnTo>
                    <a:pt x="30044" y="8002"/>
                  </a:lnTo>
                  <a:lnTo>
                    <a:pt x="30056" y="7977"/>
                  </a:lnTo>
                  <a:lnTo>
                    <a:pt x="30066" y="7951"/>
                  </a:lnTo>
                  <a:lnTo>
                    <a:pt x="30073" y="7923"/>
                  </a:lnTo>
                  <a:lnTo>
                    <a:pt x="30079" y="7896"/>
                  </a:lnTo>
                  <a:lnTo>
                    <a:pt x="30083" y="7867"/>
                  </a:lnTo>
                  <a:lnTo>
                    <a:pt x="30084" y="7839"/>
                  </a:lnTo>
                  <a:lnTo>
                    <a:pt x="30083" y="7812"/>
                  </a:lnTo>
                  <a:lnTo>
                    <a:pt x="30080" y="7784"/>
                  </a:lnTo>
                  <a:lnTo>
                    <a:pt x="30076" y="7756"/>
                  </a:lnTo>
                  <a:lnTo>
                    <a:pt x="30067" y="7729"/>
                  </a:lnTo>
                  <a:lnTo>
                    <a:pt x="30058" y="7703"/>
                  </a:lnTo>
                  <a:lnTo>
                    <a:pt x="30048" y="7676"/>
                  </a:lnTo>
                  <a:lnTo>
                    <a:pt x="30033" y="7651"/>
                  </a:lnTo>
                  <a:lnTo>
                    <a:pt x="30017" y="7627"/>
                  </a:lnTo>
                  <a:lnTo>
                    <a:pt x="29999" y="7605"/>
                  </a:lnTo>
                  <a:lnTo>
                    <a:pt x="29979" y="7582"/>
                  </a:lnTo>
                  <a:lnTo>
                    <a:pt x="29965" y="7569"/>
                  </a:lnTo>
                  <a:lnTo>
                    <a:pt x="29951" y="7558"/>
                  </a:lnTo>
                  <a:lnTo>
                    <a:pt x="29937" y="7546"/>
                  </a:lnTo>
                  <a:lnTo>
                    <a:pt x="29922" y="7535"/>
                  </a:lnTo>
                  <a:lnTo>
                    <a:pt x="29907" y="7526"/>
                  </a:lnTo>
                  <a:lnTo>
                    <a:pt x="29891" y="7518"/>
                  </a:lnTo>
                  <a:lnTo>
                    <a:pt x="29875" y="7509"/>
                  </a:lnTo>
                  <a:lnTo>
                    <a:pt x="29860" y="7502"/>
                  </a:lnTo>
                  <a:lnTo>
                    <a:pt x="29842" y="7497"/>
                  </a:lnTo>
                  <a:lnTo>
                    <a:pt x="29826" y="7491"/>
                  </a:lnTo>
                  <a:lnTo>
                    <a:pt x="29809" y="7486"/>
                  </a:lnTo>
                  <a:lnTo>
                    <a:pt x="29792" y="7482"/>
                  </a:lnTo>
                  <a:lnTo>
                    <a:pt x="29775" y="7480"/>
                  </a:lnTo>
                  <a:lnTo>
                    <a:pt x="29758" y="7478"/>
                  </a:lnTo>
                  <a:lnTo>
                    <a:pt x="29740" y="7477"/>
                  </a:lnTo>
                  <a:lnTo>
                    <a:pt x="29722" y="7475"/>
                  </a:lnTo>
                  <a:lnTo>
                    <a:pt x="29706" y="7477"/>
                  </a:lnTo>
                  <a:lnTo>
                    <a:pt x="29688" y="7478"/>
                  </a:lnTo>
                  <a:lnTo>
                    <a:pt x="29671" y="7480"/>
                  </a:lnTo>
                  <a:lnTo>
                    <a:pt x="29653" y="7482"/>
                  </a:lnTo>
                  <a:lnTo>
                    <a:pt x="29637" y="7486"/>
                  </a:lnTo>
                  <a:lnTo>
                    <a:pt x="29619" y="7491"/>
                  </a:lnTo>
                  <a:lnTo>
                    <a:pt x="29603" y="7497"/>
                  </a:lnTo>
                  <a:lnTo>
                    <a:pt x="29586" y="7502"/>
                  </a:lnTo>
                  <a:lnTo>
                    <a:pt x="29570" y="7509"/>
                  </a:lnTo>
                  <a:lnTo>
                    <a:pt x="29554" y="7518"/>
                  </a:lnTo>
                  <a:lnTo>
                    <a:pt x="29538" y="7526"/>
                  </a:lnTo>
                  <a:lnTo>
                    <a:pt x="29523" y="7535"/>
                  </a:lnTo>
                  <a:lnTo>
                    <a:pt x="29509" y="7546"/>
                  </a:lnTo>
                  <a:lnTo>
                    <a:pt x="29495" y="7558"/>
                  </a:lnTo>
                  <a:lnTo>
                    <a:pt x="29481" y="7569"/>
                  </a:lnTo>
                  <a:lnTo>
                    <a:pt x="29466" y="7582"/>
                  </a:lnTo>
                  <a:lnTo>
                    <a:pt x="29154" y="7894"/>
                  </a:lnTo>
                  <a:lnTo>
                    <a:pt x="28876" y="8173"/>
                  </a:lnTo>
                  <a:lnTo>
                    <a:pt x="28863" y="8186"/>
                  </a:lnTo>
                  <a:lnTo>
                    <a:pt x="28849" y="8197"/>
                  </a:lnTo>
                  <a:lnTo>
                    <a:pt x="28834" y="8208"/>
                  </a:lnTo>
                  <a:lnTo>
                    <a:pt x="28820" y="8218"/>
                  </a:lnTo>
                  <a:lnTo>
                    <a:pt x="28804" y="8228"/>
                  </a:lnTo>
                  <a:lnTo>
                    <a:pt x="28788" y="8237"/>
                  </a:lnTo>
                  <a:lnTo>
                    <a:pt x="28773" y="8245"/>
                  </a:lnTo>
                  <a:lnTo>
                    <a:pt x="28756" y="8252"/>
                  </a:lnTo>
                  <a:lnTo>
                    <a:pt x="28740" y="8258"/>
                  </a:lnTo>
                  <a:lnTo>
                    <a:pt x="28723" y="8263"/>
                  </a:lnTo>
                  <a:lnTo>
                    <a:pt x="28706" y="8268"/>
                  </a:lnTo>
                  <a:lnTo>
                    <a:pt x="28689" y="8272"/>
                  </a:lnTo>
                  <a:lnTo>
                    <a:pt x="28672" y="8275"/>
                  </a:lnTo>
                  <a:lnTo>
                    <a:pt x="28654" y="8277"/>
                  </a:lnTo>
                  <a:lnTo>
                    <a:pt x="28638" y="8278"/>
                  </a:lnTo>
                  <a:lnTo>
                    <a:pt x="28620" y="8278"/>
                  </a:lnTo>
                  <a:lnTo>
                    <a:pt x="28602" y="8278"/>
                  </a:lnTo>
                  <a:lnTo>
                    <a:pt x="28585" y="8277"/>
                  </a:lnTo>
                  <a:lnTo>
                    <a:pt x="28568" y="8275"/>
                  </a:lnTo>
                  <a:lnTo>
                    <a:pt x="28551" y="8272"/>
                  </a:lnTo>
                  <a:lnTo>
                    <a:pt x="28533" y="8268"/>
                  </a:lnTo>
                  <a:lnTo>
                    <a:pt x="28517" y="8263"/>
                  </a:lnTo>
                  <a:lnTo>
                    <a:pt x="28500" y="8258"/>
                  </a:lnTo>
                  <a:lnTo>
                    <a:pt x="28484" y="8252"/>
                  </a:lnTo>
                  <a:lnTo>
                    <a:pt x="28467" y="8245"/>
                  </a:lnTo>
                  <a:lnTo>
                    <a:pt x="28451" y="8237"/>
                  </a:lnTo>
                  <a:lnTo>
                    <a:pt x="28436" y="8228"/>
                  </a:lnTo>
                  <a:lnTo>
                    <a:pt x="28420" y="8218"/>
                  </a:lnTo>
                  <a:lnTo>
                    <a:pt x="28405" y="8208"/>
                  </a:lnTo>
                  <a:lnTo>
                    <a:pt x="28391" y="8197"/>
                  </a:lnTo>
                  <a:lnTo>
                    <a:pt x="28377" y="8186"/>
                  </a:lnTo>
                  <a:lnTo>
                    <a:pt x="28364" y="8173"/>
                  </a:lnTo>
                  <a:lnTo>
                    <a:pt x="28351" y="8159"/>
                  </a:lnTo>
                  <a:lnTo>
                    <a:pt x="28338" y="8144"/>
                  </a:lnTo>
                  <a:lnTo>
                    <a:pt x="28328" y="8130"/>
                  </a:lnTo>
                  <a:lnTo>
                    <a:pt x="28317" y="8115"/>
                  </a:lnTo>
                  <a:lnTo>
                    <a:pt x="28308" y="8100"/>
                  </a:lnTo>
                  <a:lnTo>
                    <a:pt x="28298" y="8085"/>
                  </a:lnTo>
                  <a:lnTo>
                    <a:pt x="28291" y="8068"/>
                  </a:lnTo>
                  <a:lnTo>
                    <a:pt x="28284" y="8053"/>
                  </a:lnTo>
                  <a:lnTo>
                    <a:pt x="28277" y="8036"/>
                  </a:lnTo>
                  <a:lnTo>
                    <a:pt x="28273" y="8019"/>
                  </a:lnTo>
                  <a:lnTo>
                    <a:pt x="28268" y="8002"/>
                  </a:lnTo>
                  <a:lnTo>
                    <a:pt x="28264" y="7985"/>
                  </a:lnTo>
                  <a:lnTo>
                    <a:pt x="28261" y="7968"/>
                  </a:lnTo>
                  <a:lnTo>
                    <a:pt x="28258" y="7951"/>
                  </a:lnTo>
                  <a:lnTo>
                    <a:pt x="28257" y="7933"/>
                  </a:lnTo>
                  <a:lnTo>
                    <a:pt x="28257" y="7916"/>
                  </a:lnTo>
                  <a:lnTo>
                    <a:pt x="28257" y="7899"/>
                  </a:lnTo>
                  <a:lnTo>
                    <a:pt x="28258" y="7882"/>
                  </a:lnTo>
                  <a:lnTo>
                    <a:pt x="28261" y="7864"/>
                  </a:lnTo>
                  <a:lnTo>
                    <a:pt x="28264" y="7846"/>
                  </a:lnTo>
                  <a:lnTo>
                    <a:pt x="28268" y="7830"/>
                  </a:lnTo>
                  <a:lnTo>
                    <a:pt x="28273" y="7813"/>
                  </a:lnTo>
                  <a:lnTo>
                    <a:pt x="28277" y="7796"/>
                  </a:lnTo>
                  <a:lnTo>
                    <a:pt x="28284" y="7779"/>
                  </a:lnTo>
                  <a:lnTo>
                    <a:pt x="28291" y="7763"/>
                  </a:lnTo>
                  <a:lnTo>
                    <a:pt x="28298" y="7748"/>
                  </a:lnTo>
                  <a:lnTo>
                    <a:pt x="28308" y="7732"/>
                  </a:lnTo>
                  <a:lnTo>
                    <a:pt x="28317" y="7717"/>
                  </a:lnTo>
                  <a:lnTo>
                    <a:pt x="28328" y="7702"/>
                  </a:lnTo>
                  <a:lnTo>
                    <a:pt x="28338" y="7688"/>
                  </a:lnTo>
                  <a:lnTo>
                    <a:pt x="28351" y="7674"/>
                  </a:lnTo>
                  <a:lnTo>
                    <a:pt x="28364" y="7660"/>
                  </a:lnTo>
                  <a:lnTo>
                    <a:pt x="30468" y="5555"/>
                  </a:lnTo>
                  <a:lnTo>
                    <a:pt x="30481" y="5542"/>
                  </a:lnTo>
                  <a:lnTo>
                    <a:pt x="30494" y="5528"/>
                  </a:lnTo>
                  <a:lnTo>
                    <a:pt x="30504" y="5513"/>
                  </a:lnTo>
                  <a:lnTo>
                    <a:pt x="30515" y="5499"/>
                  </a:lnTo>
                  <a:lnTo>
                    <a:pt x="30524" y="5484"/>
                  </a:lnTo>
                  <a:lnTo>
                    <a:pt x="30534" y="5467"/>
                  </a:lnTo>
                  <a:lnTo>
                    <a:pt x="30541" y="5452"/>
                  </a:lnTo>
                  <a:lnTo>
                    <a:pt x="30548" y="5436"/>
                  </a:lnTo>
                  <a:lnTo>
                    <a:pt x="30555" y="5419"/>
                  </a:lnTo>
                  <a:lnTo>
                    <a:pt x="30559" y="5403"/>
                  </a:lnTo>
                  <a:lnTo>
                    <a:pt x="30564" y="5385"/>
                  </a:lnTo>
                  <a:lnTo>
                    <a:pt x="30568" y="5369"/>
                  </a:lnTo>
                  <a:lnTo>
                    <a:pt x="30571" y="5351"/>
                  </a:lnTo>
                  <a:lnTo>
                    <a:pt x="30572" y="5333"/>
                  </a:lnTo>
                  <a:lnTo>
                    <a:pt x="30575" y="5317"/>
                  </a:lnTo>
                  <a:lnTo>
                    <a:pt x="30575" y="5299"/>
                  </a:lnTo>
                  <a:lnTo>
                    <a:pt x="30575" y="5282"/>
                  </a:lnTo>
                  <a:lnTo>
                    <a:pt x="30572" y="5264"/>
                  </a:lnTo>
                  <a:lnTo>
                    <a:pt x="30571" y="5248"/>
                  </a:lnTo>
                  <a:lnTo>
                    <a:pt x="30568" y="5230"/>
                  </a:lnTo>
                  <a:lnTo>
                    <a:pt x="30564" y="5212"/>
                  </a:lnTo>
                  <a:lnTo>
                    <a:pt x="30559" y="5196"/>
                  </a:lnTo>
                  <a:lnTo>
                    <a:pt x="30555" y="5180"/>
                  </a:lnTo>
                  <a:lnTo>
                    <a:pt x="30548" y="5163"/>
                  </a:lnTo>
                  <a:lnTo>
                    <a:pt x="30541" y="5147"/>
                  </a:lnTo>
                  <a:lnTo>
                    <a:pt x="30534" y="5130"/>
                  </a:lnTo>
                  <a:lnTo>
                    <a:pt x="30524" y="5115"/>
                  </a:lnTo>
                  <a:lnTo>
                    <a:pt x="30515" y="5100"/>
                  </a:lnTo>
                  <a:lnTo>
                    <a:pt x="30504" y="5085"/>
                  </a:lnTo>
                  <a:lnTo>
                    <a:pt x="30494" y="5070"/>
                  </a:lnTo>
                  <a:lnTo>
                    <a:pt x="30481" y="5056"/>
                  </a:lnTo>
                  <a:lnTo>
                    <a:pt x="30468" y="5043"/>
                  </a:lnTo>
                  <a:lnTo>
                    <a:pt x="30455" y="5031"/>
                  </a:lnTo>
                  <a:lnTo>
                    <a:pt x="30441" y="5018"/>
                  </a:lnTo>
                  <a:lnTo>
                    <a:pt x="30427" y="5007"/>
                  </a:lnTo>
                  <a:lnTo>
                    <a:pt x="30411" y="4997"/>
                  </a:lnTo>
                  <a:lnTo>
                    <a:pt x="30396" y="4987"/>
                  </a:lnTo>
                  <a:lnTo>
                    <a:pt x="30381" y="4978"/>
                  </a:lnTo>
                  <a:lnTo>
                    <a:pt x="30364" y="4971"/>
                  </a:lnTo>
                  <a:lnTo>
                    <a:pt x="30348" y="4964"/>
                  </a:lnTo>
                  <a:lnTo>
                    <a:pt x="30332" y="4957"/>
                  </a:lnTo>
                  <a:lnTo>
                    <a:pt x="30315" y="4952"/>
                  </a:lnTo>
                  <a:lnTo>
                    <a:pt x="30299" y="4947"/>
                  </a:lnTo>
                  <a:lnTo>
                    <a:pt x="30281" y="4944"/>
                  </a:lnTo>
                  <a:lnTo>
                    <a:pt x="30265" y="4940"/>
                  </a:lnTo>
                  <a:lnTo>
                    <a:pt x="30247" y="4939"/>
                  </a:lnTo>
                  <a:lnTo>
                    <a:pt x="30229" y="4937"/>
                  </a:lnTo>
                  <a:lnTo>
                    <a:pt x="30212" y="4937"/>
                  </a:lnTo>
                  <a:lnTo>
                    <a:pt x="30194" y="4937"/>
                  </a:lnTo>
                  <a:lnTo>
                    <a:pt x="30178" y="4939"/>
                  </a:lnTo>
                  <a:lnTo>
                    <a:pt x="30160" y="4940"/>
                  </a:lnTo>
                  <a:lnTo>
                    <a:pt x="30143" y="4944"/>
                  </a:lnTo>
                  <a:lnTo>
                    <a:pt x="30126" y="4947"/>
                  </a:lnTo>
                  <a:lnTo>
                    <a:pt x="30109" y="4952"/>
                  </a:lnTo>
                  <a:lnTo>
                    <a:pt x="30092" y="4957"/>
                  </a:lnTo>
                  <a:lnTo>
                    <a:pt x="30076" y="4964"/>
                  </a:lnTo>
                  <a:lnTo>
                    <a:pt x="30059" y="4971"/>
                  </a:lnTo>
                  <a:lnTo>
                    <a:pt x="30044" y="4978"/>
                  </a:lnTo>
                  <a:lnTo>
                    <a:pt x="30028" y="4987"/>
                  </a:lnTo>
                  <a:lnTo>
                    <a:pt x="30012" y="4997"/>
                  </a:lnTo>
                  <a:lnTo>
                    <a:pt x="29998" y="5007"/>
                  </a:lnTo>
                  <a:lnTo>
                    <a:pt x="29983" y="5018"/>
                  </a:lnTo>
                  <a:lnTo>
                    <a:pt x="29969" y="5031"/>
                  </a:lnTo>
                  <a:lnTo>
                    <a:pt x="29956" y="5043"/>
                  </a:lnTo>
                  <a:lnTo>
                    <a:pt x="29624" y="5374"/>
                  </a:lnTo>
                  <a:lnTo>
                    <a:pt x="29610" y="5387"/>
                  </a:lnTo>
                  <a:lnTo>
                    <a:pt x="29596" y="5400"/>
                  </a:lnTo>
                  <a:lnTo>
                    <a:pt x="29581" y="5411"/>
                  </a:lnTo>
                  <a:lnTo>
                    <a:pt x="29566" y="5421"/>
                  </a:lnTo>
                  <a:lnTo>
                    <a:pt x="29551" y="5431"/>
                  </a:lnTo>
                  <a:lnTo>
                    <a:pt x="29536" y="5440"/>
                  </a:lnTo>
                  <a:lnTo>
                    <a:pt x="29520" y="5447"/>
                  </a:lnTo>
                  <a:lnTo>
                    <a:pt x="29504" y="5454"/>
                  </a:lnTo>
                  <a:lnTo>
                    <a:pt x="29488" y="5461"/>
                  </a:lnTo>
                  <a:lnTo>
                    <a:pt x="29471" y="5466"/>
                  </a:lnTo>
                  <a:lnTo>
                    <a:pt x="29454" y="5471"/>
                  </a:lnTo>
                  <a:lnTo>
                    <a:pt x="29437" y="5474"/>
                  </a:lnTo>
                  <a:lnTo>
                    <a:pt x="29419" y="5478"/>
                  </a:lnTo>
                  <a:lnTo>
                    <a:pt x="29402" y="5480"/>
                  </a:lnTo>
                  <a:lnTo>
                    <a:pt x="29384" y="5481"/>
                  </a:lnTo>
                  <a:lnTo>
                    <a:pt x="29368" y="5481"/>
                  </a:lnTo>
                  <a:lnTo>
                    <a:pt x="29350" y="5481"/>
                  </a:lnTo>
                  <a:lnTo>
                    <a:pt x="29333" y="5480"/>
                  </a:lnTo>
                  <a:lnTo>
                    <a:pt x="29315" y="5478"/>
                  </a:lnTo>
                  <a:lnTo>
                    <a:pt x="29299" y="5474"/>
                  </a:lnTo>
                  <a:lnTo>
                    <a:pt x="29281" y="5471"/>
                  </a:lnTo>
                  <a:lnTo>
                    <a:pt x="29265" y="5466"/>
                  </a:lnTo>
                  <a:lnTo>
                    <a:pt x="29247" y="5461"/>
                  </a:lnTo>
                  <a:lnTo>
                    <a:pt x="29230" y="5454"/>
                  </a:lnTo>
                  <a:lnTo>
                    <a:pt x="29215" y="5447"/>
                  </a:lnTo>
                  <a:lnTo>
                    <a:pt x="29199" y="5440"/>
                  </a:lnTo>
                  <a:lnTo>
                    <a:pt x="29184" y="5431"/>
                  </a:lnTo>
                  <a:lnTo>
                    <a:pt x="29168" y="5421"/>
                  </a:lnTo>
                  <a:lnTo>
                    <a:pt x="29153" y="5411"/>
                  </a:lnTo>
                  <a:lnTo>
                    <a:pt x="29139" y="5400"/>
                  </a:lnTo>
                  <a:lnTo>
                    <a:pt x="29125" y="5387"/>
                  </a:lnTo>
                  <a:lnTo>
                    <a:pt x="29111" y="5374"/>
                  </a:lnTo>
                  <a:lnTo>
                    <a:pt x="29098" y="5362"/>
                  </a:lnTo>
                  <a:lnTo>
                    <a:pt x="29086" y="5347"/>
                  </a:lnTo>
                  <a:lnTo>
                    <a:pt x="29076" y="5333"/>
                  </a:lnTo>
                  <a:lnTo>
                    <a:pt x="29065" y="5318"/>
                  </a:lnTo>
                  <a:lnTo>
                    <a:pt x="29056" y="5303"/>
                  </a:lnTo>
                  <a:lnTo>
                    <a:pt x="29046" y="5288"/>
                  </a:lnTo>
                  <a:lnTo>
                    <a:pt x="29038" y="5271"/>
                  </a:lnTo>
                  <a:lnTo>
                    <a:pt x="29031" y="5255"/>
                  </a:lnTo>
                  <a:lnTo>
                    <a:pt x="29025" y="5238"/>
                  </a:lnTo>
                  <a:lnTo>
                    <a:pt x="29020" y="5222"/>
                  </a:lnTo>
                  <a:lnTo>
                    <a:pt x="29016" y="5205"/>
                  </a:lnTo>
                  <a:lnTo>
                    <a:pt x="29012" y="5188"/>
                  </a:lnTo>
                  <a:lnTo>
                    <a:pt x="29009" y="5171"/>
                  </a:lnTo>
                  <a:lnTo>
                    <a:pt x="29006" y="5154"/>
                  </a:lnTo>
                  <a:lnTo>
                    <a:pt x="29005" y="5136"/>
                  </a:lnTo>
                  <a:lnTo>
                    <a:pt x="29005" y="5119"/>
                  </a:lnTo>
                  <a:lnTo>
                    <a:pt x="29005" y="5101"/>
                  </a:lnTo>
                  <a:lnTo>
                    <a:pt x="29006" y="5085"/>
                  </a:lnTo>
                  <a:lnTo>
                    <a:pt x="29009" y="5067"/>
                  </a:lnTo>
                  <a:lnTo>
                    <a:pt x="29012" y="5049"/>
                  </a:lnTo>
                  <a:lnTo>
                    <a:pt x="29016" y="5033"/>
                  </a:lnTo>
                  <a:lnTo>
                    <a:pt x="29020" y="5015"/>
                  </a:lnTo>
                  <a:lnTo>
                    <a:pt x="29025" y="4999"/>
                  </a:lnTo>
                  <a:lnTo>
                    <a:pt x="29031" y="4982"/>
                  </a:lnTo>
                  <a:lnTo>
                    <a:pt x="29039" y="4966"/>
                  </a:lnTo>
                  <a:lnTo>
                    <a:pt x="29046" y="4951"/>
                  </a:lnTo>
                  <a:lnTo>
                    <a:pt x="29056" y="4934"/>
                  </a:lnTo>
                  <a:lnTo>
                    <a:pt x="29065" y="4919"/>
                  </a:lnTo>
                  <a:lnTo>
                    <a:pt x="29076" y="4905"/>
                  </a:lnTo>
                  <a:lnTo>
                    <a:pt x="29086" y="4890"/>
                  </a:lnTo>
                  <a:lnTo>
                    <a:pt x="29098" y="4876"/>
                  </a:lnTo>
                  <a:lnTo>
                    <a:pt x="29111" y="4863"/>
                  </a:lnTo>
                  <a:lnTo>
                    <a:pt x="-31562" y="0"/>
                  </a:lnTo>
                  <a:lnTo>
                    <a:pt x="0" y="0"/>
                  </a:lnTo>
                  <a:lnTo>
                    <a:pt x="0" y="18728"/>
                  </a:lnTo>
                  <a:lnTo>
                    <a:pt x="8964" y="9694"/>
                  </a:lnTo>
                  <a:lnTo>
                    <a:pt x="8991" y="9679"/>
                  </a:lnTo>
                  <a:lnTo>
                    <a:pt x="9019" y="9666"/>
                  </a:lnTo>
                  <a:lnTo>
                    <a:pt x="9047" y="9654"/>
                  </a:lnTo>
                  <a:lnTo>
                    <a:pt x="9077" y="9646"/>
                  </a:lnTo>
                  <a:lnTo>
                    <a:pt x="9106" y="9640"/>
                  </a:lnTo>
                  <a:lnTo>
                    <a:pt x="9137" y="9637"/>
                  </a:lnTo>
                  <a:lnTo>
                    <a:pt x="9167" y="9636"/>
                  </a:lnTo>
                  <a:lnTo>
                    <a:pt x="9196" y="9639"/>
                  </a:lnTo>
                  <a:lnTo>
                    <a:pt x="9227" y="9642"/>
                  </a:lnTo>
                  <a:lnTo>
                    <a:pt x="9256" y="9649"/>
                  </a:lnTo>
                  <a:lnTo>
                    <a:pt x="9286" y="9659"/>
                  </a:lnTo>
                  <a:lnTo>
                    <a:pt x="9314" y="9670"/>
                  </a:lnTo>
                  <a:lnTo>
                    <a:pt x="9341" y="9684"/>
                  </a:lnTo>
                  <a:lnTo>
                    <a:pt x="9368" y="9701"/>
                  </a:lnTo>
                  <a:lnTo>
                    <a:pt x="9392" y="9721"/>
                  </a:lnTo>
                  <a:lnTo>
                    <a:pt x="9405" y="9731"/>
                  </a:lnTo>
                  <a:lnTo>
                    <a:pt x="9417" y="9742"/>
                  </a:lnTo>
                  <a:lnTo>
                    <a:pt x="9430" y="9756"/>
                  </a:lnTo>
                  <a:lnTo>
                    <a:pt x="9442" y="9770"/>
                  </a:lnTo>
                  <a:lnTo>
                    <a:pt x="9452" y="9784"/>
                  </a:lnTo>
                  <a:lnTo>
                    <a:pt x="9463" y="9799"/>
                  </a:lnTo>
                  <a:lnTo>
                    <a:pt x="9472" y="9815"/>
                  </a:lnTo>
                  <a:lnTo>
                    <a:pt x="9482" y="9830"/>
                  </a:lnTo>
                  <a:lnTo>
                    <a:pt x="9489" y="9846"/>
                  </a:lnTo>
                  <a:lnTo>
                    <a:pt x="9496" y="9862"/>
                  </a:lnTo>
                  <a:lnTo>
                    <a:pt x="9503" y="9878"/>
                  </a:lnTo>
                  <a:lnTo>
                    <a:pt x="9508" y="9896"/>
                  </a:lnTo>
                  <a:lnTo>
                    <a:pt x="9512" y="9912"/>
                  </a:lnTo>
                  <a:lnTo>
                    <a:pt x="9516" y="9930"/>
                  </a:lnTo>
                  <a:lnTo>
                    <a:pt x="9519" y="9946"/>
                  </a:lnTo>
                  <a:lnTo>
                    <a:pt x="9522" y="9964"/>
                  </a:lnTo>
                  <a:lnTo>
                    <a:pt x="9523" y="9981"/>
                  </a:lnTo>
                  <a:lnTo>
                    <a:pt x="9523" y="9999"/>
                  </a:lnTo>
                  <a:lnTo>
                    <a:pt x="9523" y="10015"/>
                  </a:lnTo>
                  <a:lnTo>
                    <a:pt x="9522" y="10033"/>
                  </a:lnTo>
                  <a:lnTo>
                    <a:pt x="9519" y="10051"/>
                  </a:lnTo>
                  <a:lnTo>
                    <a:pt x="9516" y="10068"/>
                  </a:lnTo>
                  <a:lnTo>
                    <a:pt x="9512" y="10085"/>
                  </a:lnTo>
                  <a:lnTo>
                    <a:pt x="9508" y="10101"/>
                  </a:lnTo>
                  <a:lnTo>
                    <a:pt x="9503" y="10119"/>
                  </a:lnTo>
                  <a:lnTo>
                    <a:pt x="9496" y="10135"/>
                  </a:lnTo>
                  <a:lnTo>
                    <a:pt x="9489" y="10152"/>
                  </a:lnTo>
                  <a:lnTo>
                    <a:pt x="9482" y="10167"/>
                  </a:lnTo>
                  <a:lnTo>
                    <a:pt x="9472" y="10182"/>
                  </a:lnTo>
                  <a:lnTo>
                    <a:pt x="9463" y="10197"/>
                  </a:lnTo>
                  <a:lnTo>
                    <a:pt x="9452" y="10213"/>
                  </a:lnTo>
                  <a:lnTo>
                    <a:pt x="9442" y="10227"/>
                  </a:lnTo>
                  <a:lnTo>
                    <a:pt x="9430" y="10241"/>
                  </a:lnTo>
                  <a:lnTo>
                    <a:pt x="9417" y="10255"/>
                  </a:lnTo>
                  <a:lnTo>
                    <a:pt x="7552" y="12119"/>
                  </a:lnTo>
                  <a:lnTo>
                    <a:pt x="7539" y="12133"/>
                  </a:lnTo>
                  <a:lnTo>
                    <a:pt x="7527" y="12147"/>
                  </a:lnTo>
                  <a:lnTo>
                    <a:pt x="7515" y="12161"/>
                  </a:lnTo>
                  <a:lnTo>
                    <a:pt x="7506" y="12176"/>
                  </a:lnTo>
                  <a:lnTo>
                    <a:pt x="7495" y="12191"/>
                  </a:lnTo>
                  <a:lnTo>
                    <a:pt x="7487" y="12207"/>
                  </a:lnTo>
                  <a:lnTo>
                    <a:pt x="7479" y="12223"/>
                  </a:lnTo>
                  <a:lnTo>
                    <a:pt x="7472" y="12240"/>
                  </a:lnTo>
                  <a:lnTo>
                    <a:pt x="7466" y="12256"/>
                  </a:lnTo>
                  <a:lnTo>
                    <a:pt x="7460" y="12272"/>
                  </a:lnTo>
                  <a:lnTo>
                    <a:pt x="7457" y="12289"/>
                  </a:lnTo>
                  <a:lnTo>
                    <a:pt x="7452" y="12306"/>
                  </a:lnTo>
                  <a:lnTo>
                    <a:pt x="7450" y="12323"/>
                  </a:lnTo>
                  <a:lnTo>
                    <a:pt x="7447" y="12341"/>
                  </a:lnTo>
                  <a:lnTo>
                    <a:pt x="7446" y="12358"/>
                  </a:lnTo>
                  <a:lnTo>
                    <a:pt x="7446" y="12376"/>
                  </a:lnTo>
                  <a:lnTo>
                    <a:pt x="7446" y="12393"/>
                  </a:lnTo>
                  <a:lnTo>
                    <a:pt x="7447" y="12410"/>
                  </a:lnTo>
                  <a:lnTo>
                    <a:pt x="7450" y="12427"/>
                  </a:lnTo>
                  <a:lnTo>
                    <a:pt x="7452" y="12445"/>
                  </a:lnTo>
                  <a:lnTo>
                    <a:pt x="7457" y="12461"/>
                  </a:lnTo>
                  <a:lnTo>
                    <a:pt x="7460" y="12479"/>
                  </a:lnTo>
                  <a:lnTo>
                    <a:pt x="7466" y="12495"/>
                  </a:lnTo>
                  <a:lnTo>
                    <a:pt x="7472" y="12512"/>
                  </a:lnTo>
                  <a:lnTo>
                    <a:pt x="7479" y="12528"/>
                  </a:lnTo>
                  <a:lnTo>
                    <a:pt x="7487" y="12544"/>
                  </a:lnTo>
                  <a:lnTo>
                    <a:pt x="7495" y="12560"/>
                  </a:lnTo>
                  <a:lnTo>
                    <a:pt x="7506" y="12575"/>
                  </a:lnTo>
                  <a:lnTo>
                    <a:pt x="7515" y="12589"/>
                  </a:lnTo>
                  <a:lnTo>
                    <a:pt x="7527" y="12605"/>
                  </a:lnTo>
                  <a:lnTo>
                    <a:pt x="7539" y="12618"/>
                  </a:lnTo>
                  <a:lnTo>
                    <a:pt x="7552" y="12632"/>
                  </a:lnTo>
                  <a:lnTo>
                    <a:pt x="7566" y="12645"/>
                  </a:lnTo>
                  <a:lnTo>
                    <a:pt x="7580" y="12656"/>
                  </a:lnTo>
                  <a:lnTo>
                    <a:pt x="7594" y="12668"/>
                  </a:lnTo>
                  <a:lnTo>
                    <a:pt x="7609" y="12679"/>
                  </a:lnTo>
                  <a:lnTo>
                    <a:pt x="7625" y="12688"/>
                  </a:lnTo>
                  <a:lnTo>
                    <a:pt x="7640" y="12696"/>
                  </a:lnTo>
                  <a:lnTo>
                    <a:pt x="7655" y="12704"/>
                  </a:lnTo>
                  <a:lnTo>
                    <a:pt x="7672" y="12711"/>
                  </a:lnTo>
                  <a:lnTo>
                    <a:pt x="7688" y="12717"/>
                  </a:lnTo>
                  <a:lnTo>
                    <a:pt x="7706" y="12723"/>
                  </a:lnTo>
                  <a:lnTo>
                    <a:pt x="7722" y="12728"/>
                  </a:lnTo>
                  <a:lnTo>
                    <a:pt x="7738" y="12731"/>
                  </a:lnTo>
                  <a:lnTo>
                    <a:pt x="7756" y="12734"/>
                  </a:lnTo>
                  <a:lnTo>
                    <a:pt x="7774" y="12736"/>
                  </a:lnTo>
                  <a:lnTo>
                    <a:pt x="7791" y="12737"/>
                  </a:lnTo>
                  <a:lnTo>
                    <a:pt x="7808" y="12737"/>
                  </a:lnTo>
                  <a:lnTo>
                    <a:pt x="7825" y="12737"/>
                  </a:lnTo>
                  <a:lnTo>
                    <a:pt x="7843" y="12736"/>
                  </a:lnTo>
                  <a:lnTo>
                    <a:pt x="7861" y="12734"/>
                  </a:lnTo>
                  <a:lnTo>
                    <a:pt x="7877" y="12731"/>
                  </a:lnTo>
                  <a:lnTo>
                    <a:pt x="7895" y="12728"/>
                  </a:lnTo>
                  <a:lnTo>
                    <a:pt x="7911" y="12723"/>
                  </a:lnTo>
                  <a:lnTo>
                    <a:pt x="7929" y="12717"/>
                  </a:lnTo>
                  <a:lnTo>
                    <a:pt x="7945" y="12711"/>
                  </a:lnTo>
                  <a:lnTo>
                    <a:pt x="7960" y="12704"/>
                  </a:lnTo>
                  <a:lnTo>
                    <a:pt x="7977" y="12696"/>
                  </a:lnTo>
                  <a:lnTo>
                    <a:pt x="7992" y="12688"/>
                  </a:lnTo>
                  <a:lnTo>
                    <a:pt x="8007" y="12679"/>
                  </a:lnTo>
                  <a:lnTo>
                    <a:pt x="8023" y="12668"/>
                  </a:lnTo>
                  <a:lnTo>
                    <a:pt x="8037" y="12656"/>
                  </a:lnTo>
                  <a:lnTo>
                    <a:pt x="8051" y="12645"/>
                  </a:lnTo>
                  <a:lnTo>
                    <a:pt x="8065" y="12632"/>
                  </a:lnTo>
                  <a:lnTo>
                    <a:pt x="11720" y="8977"/>
                  </a:lnTo>
                  <a:lnTo>
                    <a:pt x="11733" y="8964"/>
                  </a:lnTo>
                  <a:lnTo>
                    <a:pt x="11747" y="8952"/>
                  </a:lnTo>
                  <a:lnTo>
                    <a:pt x="11761" y="8940"/>
                  </a:lnTo>
                  <a:lnTo>
                    <a:pt x="11777" y="8931"/>
                  </a:lnTo>
                  <a:lnTo>
                    <a:pt x="11792" y="8920"/>
                  </a:lnTo>
                  <a:lnTo>
                    <a:pt x="11807" y="8912"/>
                  </a:lnTo>
                  <a:lnTo>
                    <a:pt x="11824" y="8904"/>
                  </a:lnTo>
                  <a:lnTo>
                    <a:pt x="11840" y="8897"/>
                  </a:lnTo>
                  <a:lnTo>
                    <a:pt x="11857" y="8891"/>
                  </a:lnTo>
                  <a:lnTo>
                    <a:pt x="11873" y="8885"/>
                  </a:lnTo>
                  <a:lnTo>
                    <a:pt x="11889" y="8882"/>
                  </a:lnTo>
                  <a:lnTo>
                    <a:pt x="11907" y="8877"/>
                  </a:lnTo>
                  <a:lnTo>
                    <a:pt x="11925" y="8875"/>
                  </a:lnTo>
                  <a:lnTo>
                    <a:pt x="11941" y="8872"/>
                  </a:lnTo>
                  <a:lnTo>
                    <a:pt x="11959" y="8871"/>
                  </a:lnTo>
                  <a:lnTo>
                    <a:pt x="11976" y="8871"/>
                  </a:lnTo>
                  <a:lnTo>
                    <a:pt x="11994" y="8871"/>
                  </a:lnTo>
                  <a:lnTo>
                    <a:pt x="12011" y="8872"/>
                  </a:lnTo>
                  <a:lnTo>
                    <a:pt x="12028" y="8875"/>
                  </a:lnTo>
                  <a:lnTo>
                    <a:pt x="12046" y="8877"/>
                  </a:lnTo>
                  <a:lnTo>
                    <a:pt x="12062" y="8882"/>
                  </a:lnTo>
                  <a:lnTo>
                    <a:pt x="12080" y="8885"/>
                  </a:lnTo>
                  <a:lnTo>
                    <a:pt x="12096" y="8891"/>
                  </a:lnTo>
                  <a:lnTo>
                    <a:pt x="12112" y="8897"/>
                  </a:lnTo>
                  <a:lnTo>
                    <a:pt x="12129" y="8904"/>
                  </a:lnTo>
                  <a:lnTo>
                    <a:pt x="12145" y="8912"/>
                  </a:lnTo>
                  <a:lnTo>
                    <a:pt x="12161" y="8920"/>
                  </a:lnTo>
                  <a:lnTo>
                    <a:pt x="12176" y="8931"/>
                  </a:lnTo>
                  <a:lnTo>
                    <a:pt x="12190" y="8940"/>
                  </a:lnTo>
                  <a:lnTo>
                    <a:pt x="12205" y="8952"/>
                  </a:lnTo>
                  <a:lnTo>
                    <a:pt x="12219" y="8964"/>
                  </a:lnTo>
                  <a:lnTo>
                    <a:pt x="12232" y="8977"/>
                  </a:lnTo>
                  <a:lnTo>
                    <a:pt x="12245" y="8991"/>
                  </a:lnTo>
                  <a:lnTo>
                    <a:pt x="12257" y="9005"/>
                  </a:lnTo>
                  <a:lnTo>
                    <a:pt x="12269" y="9019"/>
                  </a:lnTo>
                  <a:lnTo>
                    <a:pt x="12279" y="9034"/>
                  </a:lnTo>
                  <a:lnTo>
                    <a:pt x="12289" y="9049"/>
                  </a:lnTo>
                  <a:lnTo>
                    <a:pt x="12297" y="9065"/>
                  </a:lnTo>
                  <a:lnTo>
                    <a:pt x="12305" y="9080"/>
                  </a:lnTo>
                  <a:lnTo>
                    <a:pt x="12312" y="9096"/>
                  </a:lnTo>
                  <a:lnTo>
                    <a:pt x="12318" y="9113"/>
                  </a:lnTo>
                  <a:lnTo>
                    <a:pt x="12324" y="9130"/>
                  </a:lnTo>
                  <a:lnTo>
                    <a:pt x="12328" y="9147"/>
                  </a:lnTo>
                  <a:lnTo>
                    <a:pt x="12332" y="9163"/>
                  </a:lnTo>
                  <a:lnTo>
                    <a:pt x="12334" y="9181"/>
                  </a:lnTo>
                  <a:lnTo>
                    <a:pt x="12337" y="9198"/>
                  </a:lnTo>
                  <a:lnTo>
                    <a:pt x="12338" y="9216"/>
                  </a:lnTo>
                  <a:lnTo>
                    <a:pt x="12339" y="9232"/>
                  </a:lnTo>
                  <a:lnTo>
                    <a:pt x="12338" y="9250"/>
                  </a:lnTo>
                  <a:lnTo>
                    <a:pt x="12337" y="9268"/>
                  </a:lnTo>
                  <a:lnTo>
                    <a:pt x="12334" y="9285"/>
                  </a:lnTo>
                  <a:lnTo>
                    <a:pt x="12332" y="9302"/>
                  </a:lnTo>
                  <a:lnTo>
                    <a:pt x="12328" y="9319"/>
                  </a:lnTo>
                  <a:lnTo>
                    <a:pt x="12324" y="9336"/>
                  </a:lnTo>
                  <a:lnTo>
                    <a:pt x="12318" y="9353"/>
                  </a:lnTo>
                  <a:lnTo>
                    <a:pt x="12312" y="9370"/>
                  </a:lnTo>
                  <a:lnTo>
                    <a:pt x="12305" y="9385"/>
                  </a:lnTo>
                  <a:lnTo>
                    <a:pt x="12297" y="9402"/>
                  </a:lnTo>
                  <a:lnTo>
                    <a:pt x="12289" y="9417"/>
                  </a:lnTo>
                  <a:lnTo>
                    <a:pt x="12279" y="9432"/>
                  </a:lnTo>
                  <a:lnTo>
                    <a:pt x="12269" y="9447"/>
                  </a:lnTo>
                  <a:lnTo>
                    <a:pt x="12257" y="9461"/>
                  </a:lnTo>
                  <a:lnTo>
                    <a:pt x="12245" y="9475"/>
                  </a:lnTo>
                  <a:lnTo>
                    <a:pt x="12232" y="9490"/>
                  </a:lnTo>
                  <a:lnTo>
                    <a:pt x="8285" y="13436"/>
                  </a:lnTo>
                  <a:lnTo>
                    <a:pt x="8273" y="13450"/>
                  </a:lnTo>
                  <a:lnTo>
                    <a:pt x="8261" y="13464"/>
                  </a:lnTo>
                  <a:lnTo>
                    <a:pt x="8249" y="13478"/>
                  </a:lnTo>
                  <a:lnTo>
                    <a:pt x="8239" y="13493"/>
                  </a:lnTo>
                  <a:lnTo>
                    <a:pt x="8229" y="13508"/>
                  </a:lnTo>
                  <a:lnTo>
                    <a:pt x="8221" y="13524"/>
                  </a:lnTo>
                  <a:lnTo>
                    <a:pt x="8213" y="13540"/>
                  </a:lnTo>
                  <a:lnTo>
                    <a:pt x="8206" y="13555"/>
                  </a:lnTo>
                  <a:lnTo>
                    <a:pt x="8200" y="13572"/>
                  </a:lnTo>
                  <a:lnTo>
                    <a:pt x="8194" y="13589"/>
                  </a:lnTo>
                  <a:lnTo>
                    <a:pt x="8189" y="13606"/>
                  </a:lnTo>
                  <a:lnTo>
                    <a:pt x="8186" y="13623"/>
                  </a:lnTo>
                  <a:lnTo>
                    <a:pt x="8182" y="13640"/>
                  </a:lnTo>
                  <a:lnTo>
                    <a:pt x="8181" y="13657"/>
                  </a:lnTo>
                  <a:lnTo>
                    <a:pt x="8180" y="13675"/>
                  </a:lnTo>
                  <a:lnTo>
                    <a:pt x="8179" y="13693"/>
                  </a:lnTo>
                  <a:lnTo>
                    <a:pt x="8180" y="13709"/>
                  </a:lnTo>
                  <a:lnTo>
                    <a:pt x="8181" y="13727"/>
                  </a:lnTo>
                  <a:lnTo>
                    <a:pt x="8182" y="13744"/>
                  </a:lnTo>
                  <a:lnTo>
                    <a:pt x="8186" y="13762"/>
                  </a:lnTo>
                  <a:lnTo>
                    <a:pt x="8189" y="13778"/>
                  </a:lnTo>
                  <a:lnTo>
                    <a:pt x="8194" y="13795"/>
                  </a:lnTo>
                  <a:lnTo>
                    <a:pt x="8200" y="13812"/>
                  </a:lnTo>
                  <a:lnTo>
                    <a:pt x="8206" y="13829"/>
                  </a:lnTo>
                  <a:lnTo>
                    <a:pt x="8213" y="13845"/>
                  </a:lnTo>
                  <a:lnTo>
                    <a:pt x="8221" y="13860"/>
                  </a:lnTo>
                  <a:lnTo>
                    <a:pt x="8229" y="13876"/>
                  </a:lnTo>
                  <a:lnTo>
                    <a:pt x="8239" y="13891"/>
                  </a:lnTo>
                  <a:lnTo>
                    <a:pt x="8249" y="13906"/>
                  </a:lnTo>
                  <a:lnTo>
                    <a:pt x="8261" y="13920"/>
                  </a:lnTo>
                  <a:lnTo>
                    <a:pt x="8273" y="13934"/>
                  </a:lnTo>
                  <a:lnTo>
                    <a:pt x="8285" y="13949"/>
                  </a:lnTo>
                  <a:lnTo>
                    <a:pt x="8298" y="13961"/>
                  </a:lnTo>
                  <a:lnTo>
                    <a:pt x="8312" y="13973"/>
                  </a:lnTo>
                  <a:lnTo>
                    <a:pt x="8327" y="13985"/>
                  </a:lnTo>
                  <a:lnTo>
                    <a:pt x="8342" y="13994"/>
                  </a:lnTo>
                  <a:lnTo>
                    <a:pt x="8357" y="14005"/>
                  </a:lnTo>
                  <a:lnTo>
                    <a:pt x="8372" y="14013"/>
                  </a:lnTo>
                  <a:lnTo>
                    <a:pt x="8389" y="14021"/>
                  </a:lnTo>
                  <a:lnTo>
                    <a:pt x="8405" y="14028"/>
                  </a:lnTo>
                  <a:lnTo>
                    <a:pt x="8422" y="14034"/>
                  </a:lnTo>
                  <a:lnTo>
                    <a:pt x="8438" y="14040"/>
                  </a:lnTo>
                  <a:lnTo>
                    <a:pt x="8456" y="14044"/>
                  </a:lnTo>
                  <a:lnTo>
                    <a:pt x="8472" y="14048"/>
                  </a:lnTo>
                  <a:lnTo>
                    <a:pt x="8490" y="14051"/>
                  </a:lnTo>
                  <a:lnTo>
                    <a:pt x="8506" y="14053"/>
                  </a:lnTo>
                  <a:lnTo>
                    <a:pt x="8524" y="14054"/>
                  </a:lnTo>
                  <a:lnTo>
                    <a:pt x="8541" y="14054"/>
                  </a:lnTo>
                  <a:lnTo>
                    <a:pt x="8559" y="14054"/>
                  </a:lnTo>
                  <a:lnTo>
                    <a:pt x="8577" y="14053"/>
                  </a:lnTo>
                  <a:lnTo>
                    <a:pt x="8593" y="14051"/>
                  </a:lnTo>
                  <a:lnTo>
                    <a:pt x="8611" y="14048"/>
                  </a:lnTo>
                  <a:lnTo>
                    <a:pt x="8628" y="14044"/>
                  </a:lnTo>
                  <a:lnTo>
                    <a:pt x="8645" y="14040"/>
                  </a:lnTo>
                  <a:lnTo>
                    <a:pt x="8661" y="14034"/>
                  </a:lnTo>
                  <a:lnTo>
                    <a:pt x="8678" y="14028"/>
                  </a:lnTo>
                  <a:lnTo>
                    <a:pt x="8694" y="14021"/>
                  </a:lnTo>
                  <a:lnTo>
                    <a:pt x="8710" y="14013"/>
                  </a:lnTo>
                  <a:lnTo>
                    <a:pt x="8726" y="14005"/>
                  </a:lnTo>
                  <a:lnTo>
                    <a:pt x="8741" y="13994"/>
                  </a:lnTo>
                  <a:lnTo>
                    <a:pt x="8756" y="13985"/>
                  </a:lnTo>
                  <a:lnTo>
                    <a:pt x="8770" y="13973"/>
                  </a:lnTo>
                  <a:lnTo>
                    <a:pt x="8784" y="13961"/>
                  </a:lnTo>
                  <a:lnTo>
                    <a:pt x="8797" y="13949"/>
                  </a:lnTo>
                  <a:lnTo>
                    <a:pt x="10579" y="12167"/>
                  </a:lnTo>
                  <a:lnTo>
                    <a:pt x="10592" y="12154"/>
                  </a:lnTo>
                  <a:lnTo>
                    <a:pt x="10606" y="12142"/>
                  </a:lnTo>
                  <a:lnTo>
                    <a:pt x="10622" y="12132"/>
                  </a:lnTo>
                  <a:lnTo>
                    <a:pt x="10636" y="12121"/>
                  </a:lnTo>
                  <a:lnTo>
                    <a:pt x="10651" y="12112"/>
                  </a:lnTo>
                  <a:lnTo>
                    <a:pt x="10667" y="12102"/>
                  </a:lnTo>
                  <a:lnTo>
                    <a:pt x="10683" y="12094"/>
                  </a:lnTo>
                  <a:lnTo>
                    <a:pt x="10699" y="12087"/>
                  </a:lnTo>
                  <a:lnTo>
                    <a:pt x="10715" y="12081"/>
                  </a:lnTo>
                  <a:lnTo>
                    <a:pt x="10732" y="12076"/>
                  </a:lnTo>
                  <a:lnTo>
                    <a:pt x="10750" y="12072"/>
                  </a:lnTo>
                  <a:lnTo>
                    <a:pt x="10766" y="12067"/>
                  </a:lnTo>
                  <a:lnTo>
                    <a:pt x="10784" y="12065"/>
                  </a:lnTo>
                  <a:lnTo>
                    <a:pt x="10801" y="12062"/>
                  </a:lnTo>
                  <a:lnTo>
                    <a:pt x="10818" y="12061"/>
                  </a:lnTo>
                  <a:lnTo>
                    <a:pt x="10835" y="12061"/>
                  </a:lnTo>
                  <a:lnTo>
                    <a:pt x="10853" y="12061"/>
                  </a:lnTo>
                  <a:lnTo>
                    <a:pt x="10870" y="12062"/>
                  </a:lnTo>
                  <a:lnTo>
                    <a:pt x="10888" y="12065"/>
                  </a:lnTo>
                  <a:lnTo>
                    <a:pt x="10904" y="12067"/>
                  </a:lnTo>
                  <a:lnTo>
                    <a:pt x="10922" y="12072"/>
                  </a:lnTo>
                  <a:lnTo>
                    <a:pt x="10939" y="12076"/>
                  </a:lnTo>
                  <a:lnTo>
                    <a:pt x="10955" y="12081"/>
                  </a:lnTo>
                  <a:lnTo>
                    <a:pt x="10971" y="12087"/>
                  </a:lnTo>
                  <a:lnTo>
                    <a:pt x="10988" y="12094"/>
                  </a:lnTo>
                  <a:lnTo>
                    <a:pt x="11004" y="12102"/>
                  </a:lnTo>
                  <a:lnTo>
                    <a:pt x="11020" y="12112"/>
                  </a:lnTo>
                  <a:lnTo>
                    <a:pt x="11035" y="12121"/>
                  </a:lnTo>
                  <a:lnTo>
                    <a:pt x="11050" y="12132"/>
                  </a:lnTo>
                  <a:lnTo>
                    <a:pt x="11064" y="12142"/>
                  </a:lnTo>
                  <a:lnTo>
                    <a:pt x="11078" y="12154"/>
                  </a:lnTo>
                  <a:lnTo>
                    <a:pt x="11092" y="12167"/>
                  </a:lnTo>
                  <a:lnTo>
                    <a:pt x="11104" y="12181"/>
                  </a:lnTo>
                  <a:lnTo>
                    <a:pt x="11117" y="12195"/>
                  </a:lnTo>
                  <a:lnTo>
                    <a:pt x="11128" y="12209"/>
                  </a:lnTo>
                  <a:lnTo>
                    <a:pt x="11138" y="12224"/>
                  </a:lnTo>
                  <a:lnTo>
                    <a:pt x="11147" y="12240"/>
                  </a:lnTo>
                  <a:lnTo>
                    <a:pt x="11157" y="12255"/>
                  </a:lnTo>
                  <a:lnTo>
                    <a:pt x="11164" y="12271"/>
                  </a:lnTo>
                  <a:lnTo>
                    <a:pt x="11171" y="12287"/>
                  </a:lnTo>
                  <a:lnTo>
                    <a:pt x="11178" y="12303"/>
                  </a:lnTo>
                  <a:lnTo>
                    <a:pt x="11183" y="12321"/>
                  </a:lnTo>
                  <a:lnTo>
                    <a:pt x="11187" y="12337"/>
                  </a:lnTo>
                  <a:lnTo>
                    <a:pt x="11191" y="12355"/>
                  </a:lnTo>
                  <a:lnTo>
                    <a:pt x="11194" y="12371"/>
                  </a:lnTo>
                  <a:lnTo>
                    <a:pt x="11197" y="12389"/>
                  </a:lnTo>
                  <a:lnTo>
                    <a:pt x="11198" y="12406"/>
                  </a:lnTo>
                  <a:lnTo>
                    <a:pt x="11198" y="12424"/>
                  </a:lnTo>
                  <a:lnTo>
                    <a:pt x="11198" y="12440"/>
                  </a:lnTo>
                  <a:lnTo>
                    <a:pt x="11197" y="12458"/>
                  </a:lnTo>
                  <a:lnTo>
                    <a:pt x="11194" y="12475"/>
                  </a:lnTo>
                  <a:lnTo>
                    <a:pt x="11191" y="12493"/>
                  </a:lnTo>
                  <a:lnTo>
                    <a:pt x="11187" y="12510"/>
                  </a:lnTo>
                  <a:lnTo>
                    <a:pt x="11183" y="12526"/>
                  </a:lnTo>
                  <a:lnTo>
                    <a:pt x="11178" y="12544"/>
                  </a:lnTo>
                  <a:lnTo>
                    <a:pt x="11171" y="12560"/>
                  </a:lnTo>
                  <a:lnTo>
                    <a:pt x="11164" y="12576"/>
                  </a:lnTo>
                  <a:lnTo>
                    <a:pt x="11157" y="12592"/>
                  </a:lnTo>
                  <a:lnTo>
                    <a:pt x="11147" y="12607"/>
                  </a:lnTo>
                  <a:lnTo>
                    <a:pt x="11138" y="12622"/>
                  </a:lnTo>
                  <a:lnTo>
                    <a:pt x="11128" y="12637"/>
                  </a:lnTo>
                  <a:lnTo>
                    <a:pt x="11117" y="12652"/>
                  </a:lnTo>
                  <a:lnTo>
                    <a:pt x="11104" y="12666"/>
                  </a:lnTo>
                  <a:lnTo>
                    <a:pt x="11092" y="12680"/>
                  </a:lnTo>
                  <a:lnTo>
                    <a:pt x="10245" y="13527"/>
                  </a:lnTo>
                  <a:lnTo>
                    <a:pt x="10232" y="13553"/>
                  </a:lnTo>
                  <a:lnTo>
                    <a:pt x="10222" y="13579"/>
                  </a:lnTo>
                  <a:lnTo>
                    <a:pt x="10214" y="13607"/>
                  </a:lnTo>
                  <a:lnTo>
                    <a:pt x="10210" y="13634"/>
                  </a:lnTo>
                  <a:lnTo>
                    <a:pt x="10206" y="13662"/>
                  </a:lnTo>
                  <a:lnTo>
                    <a:pt x="10204" y="13690"/>
                  </a:lnTo>
                  <a:lnTo>
                    <a:pt x="10205" y="13717"/>
                  </a:lnTo>
                  <a:lnTo>
                    <a:pt x="10208" y="13745"/>
                  </a:lnTo>
                  <a:lnTo>
                    <a:pt x="10213" y="13774"/>
                  </a:lnTo>
                  <a:lnTo>
                    <a:pt x="10220" y="13801"/>
                  </a:lnTo>
                  <a:lnTo>
                    <a:pt x="10229" y="13826"/>
                  </a:lnTo>
                  <a:lnTo>
                    <a:pt x="10241" y="13853"/>
                  </a:lnTo>
                  <a:lnTo>
                    <a:pt x="10255" y="13878"/>
                  </a:lnTo>
                  <a:lnTo>
                    <a:pt x="10271" y="13903"/>
                  </a:lnTo>
                  <a:lnTo>
                    <a:pt x="10289" y="13925"/>
                  </a:lnTo>
                  <a:lnTo>
                    <a:pt x="10309" y="13947"/>
                  </a:lnTo>
                  <a:lnTo>
                    <a:pt x="10322" y="13960"/>
                  </a:lnTo>
                  <a:lnTo>
                    <a:pt x="10336" y="13972"/>
                  </a:lnTo>
                  <a:lnTo>
                    <a:pt x="10352" y="13984"/>
                  </a:lnTo>
                  <a:lnTo>
                    <a:pt x="10366" y="13994"/>
                  </a:lnTo>
                  <a:lnTo>
                    <a:pt x="10381" y="14004"/>
                  </a:lnTo>
                  <a:lnTo>
                    <a:pt x="10397" y="14012"/>
                  </a:lnTo>
                  <a:lnTo>
                    <a:pt x="10413" y="14020"/>
                  </a:lnTo>
                  <a:lnTo>
                    <a:pt x="10429" y="14027"/>
                  </a:lnTo>
                  <a:lnTo>
                    <a:pt x="10445" y="14033"/>
                  </a:lnTo>
                  <a:lnTo>
                    <a:pt x="10462" y="14039"/>
                  </a:lnTo>
                  <a:lnTo>
                    <a:pt x="10480" y="14044"/>
                  </a:lnTo>
                  <a:lnTo>
                    <a:pt x="10496" y="14047"/>
                  </a:lnTo>
                  <a:lnTo>
                    <a:pt x="10514" y="14049"/>
                  </a:lnTo>
                  <a:lnTo>
                    <a:pt x="10531" y="14052"/>
                  </a:lnTo>
                  <a:lnTo>
                    <a:pt x="10548" y="14053"/>
                  </a:lnTo>
                  <a:lnTo>
                    <a:pt x="10565" y="14054"/>
                  </a:lnTo>
                  <a:lnTo>
                    <a:pt x="10583" y="14053"/>
                  </a:lnTo>
                  <a:lnTo>
                    <a:pt x="10600" y="14052"/>
                  </a:lnTo>
                  <a:lnTo>
                    <a:pt x="10617" y="14049"/>
                  </a:lnTo>
                  <a:lnTo>
                    <a:pt x="10634" y="14047"/>
                  </a:lnTo>
                  <a:lnTo>
                    <a:pt x="10652" y="14044"/>
                  </a:lnTo>
                  <a:lnTo>
                    <a:pt x="10669" y="14039"/>
                  </a:lnTo>
                  <a:lnTo>
                    <a:pt x="10685" y="14033"/>
                  </a:lnTo>
                  <a:lnTo>
                    <a:pt x="10701" y="14027"/>
                  </a:lnTo>
                  <a:lnTo>
                    <a:pt x="10718" y="14020"/>
                  </a:lnTo>
                  <a:lnTo>
                    <a:pt x="10734" y="14012"/>
                  </a:lnTo>
                  <a:lnTo>
                    <a:pt x="10750" y="14004"/>
                  </a:lnTo>
                  <a:lnTo>
                    <a:pt x="10765" y="13994"/>
                  </a:lnTo>
                  <a:lnTo>
                    <a:pt x="10780" y="13984"/>
                  </a:lnTo>
                  <a:lnTo>
                    <a:pt x="10794" y="13972"/>
                  </a:lnTo>
                  <a:lnTo>
                    <a:pt x="10808" y="13960"/>
                  </a:lnTo>
                  <a:lnTo>
                    <a:pt x="10821" y="13947"/>
                  </a:lnTo>
                  <a:lnTo>
                    <a:pt x="11135" y="13635"/>
                  </a:lnTo>
                  <a:lnTo>
                    <a:pt x="11412" y="13357"/>
                  </a:lnTo>
                  <a:lnTo>
                    <a:pt x="11426" y="13344"/>
                  </a:lnTo>
                  <a:lnTo>
                    <a:pt x="11440" y="13332"/>
                  </a:lnTo>
                  <a:lnTo>
                    <a:pt x="11454" y="13322"/>
                  </a:lnTo>
                  <a:lnTo>
                    <a:pt x="11469" y="13311"/>
                  </a:lnTo>
                  <a:lnTo>
                    <a:pt x="11484" y="13302"/>
                  </a:lnTo>
                  <a:lnTo>
                    <a:pt x="11500" y="13292"/>
                  </a:lnTo>
                  <a:lnTo>
                    <a:pt x="11516" y="13284"/>
                  </a:lnTo>
                  <a:lnTo>
                    <a:pt x="11533" y="13277"/>
                  </a:lnTo>
                  <a:lnTo>
                    <a:pt x="11549" y="13271"/>
                  </a:lnTo>
                  <a:lnTo>
                    <a:pt x="11565" y="13267"/>
                  </a:lnTo>
                  <a:lnTo>
                    <a:pt x="11582" y="13262"/>
                  </a:lnTo>
                  <a:lnTo>
                    <a:pt x="11599" y="13257"/>
                  </a:lnTo>
                  <a:lnTo>
                    <a:pt x="11616" y="13255"/>
                  </a:lnTo>
                  <a:lnTo>
                    <a:pt x="11633" y="13252"/>
                  </a:lnTo>
                  <a:lnTo>
                    <a:pt x="11651" y="13251"/>
                  </a:lnTo>
                  <a:lnTo>
                    <a:pt x="11669" y="13251"/>
                  </a:lnTo>
                  <a:lnTo>
                    <a:pt x="11686" y="13251"/>
                  </a:lnTo>
                  <a:lnTo>
                    <a:pt x="11703" y="13252"/>
                  </a:lnTo>
                  <a:lnTo>
                    <a:pt x="11720" y="13255"/>
                  </a:lnTo>
                  <a:lnTo>
                    <a:pt x="11738" y="13257"/>
                  </a:lnTo>
                  <a:lnTo>
                    <a:pt x="11754" y="13262"/>
                  </a:lnTo>
                  <a:lnTo>
                    <a:pt x="11772" y="13267"/>
                  </a:lnTo>
                  <a:lnTo>
                    <a:pt x="11788" y="13271"/>
                  </a:lnTo>
                  <a:lnTo>
                    <a:pt x="11805" y="13277"/>
                  </a:lnTo>
                  <a:lnTo>
                    <a:pt x="11821" y="13284"/>
                  </a:lnTo>
                  <a:lnTo>
                    <a:pt x="11837" y="13292"/>
                  </a:lnTo>
                  <a:lnTo>
                    <a:pt x="11853" y="13302"/>
                  </a:lnTo>
                  <a:lnTo>
                    <a:pt x="11868" y="13311"/>
                  </a:lnTo>
                  <a:lnTo>
                    <a:pt x="11882" y="13322"/>
                  </a:lnTo>
                  <a:lnTo>
                    <a:pt x="11898" y="13332"/>
                  </a:lnTo>
                  <a:lnTo>
                    <a:pt x="11912" y="13344"/>
                  </a:lnTo>
                  <a:lnTo>
                    <a:pt x="11925" y="13357"/>
                  </a:lnTo>
                  <a:lnTo>
                    <a:pt x="11938" y="13371"/>
                  </a:lnTo>
                  <a:lnTo>
                    <a:pt x="11949" y="13385"/>
                  </a:lnTo>
                  <a:lnTo>
                    <a:pt x="11961" y="13399"/>
                  </a:lnTo>
                  <a:lnTo>
                    <a:pt x="11972" y="13414"/>
                  </a:lnTo>
                  <a:lnTo>
                    <a:pt x="11981" y="13430"/>
                  </a:lnTo>
                  <a:lnTo>
                    <a:pt x="11989" y="13445"/>
                  </a:lnTo>
                  <a:lnTo>
                    <a:pt x="11997" y="13461"/>
                  </a:lnTo>
                  <a:lnTo>
                    <a:pt x="12004" y="13477"/>
                  </a:lnTo>
                  <a:lnTo>
                    <a:pt x="12010" y="13493"/>
                  </a:lnTo>
                  <a:lnTo>
                    <a:pt x="12016" y="13511"/>
                  </a:lnTo>
                  <a:lnTo>
                    <a:pt x="12021" y="13527"/>
                  </a:lnTo>
                  <a:lnTo>
                    <a:pt x="12024" y="13545"/>
                  </a:lnTo>
                  <a:lnTo>
                    <a:pt x="12027" y="13561"/>
                  </a:lnTo>
                  <a:lnTo>
                    <a:pt x="12029" y="13579"/>
                  </a:lnTo>
                  <a:lnTo>
                    <a:pt x="12030" y="13596"/>
                  </a:lnTo>
                  <a:lnTo>
                    <a:pt x="12030" y="13614"/>
                  </a:lnTo>
                  <a:lnTo>
                    <a:pt x="12030" y="13630"/>
                  </a:lnTo>
                  <a:lnTo>
                    <a:pt x="12029" y="13648"/>
                  </a:lnTo>
                  <a:lnTo>
                    <a:pt x="12027" y="13666"/>
                  </a:lnTo>
                  <a:lnTo>
                    <a:pt x="12024" y="13683"/>
                  </a:lnTo>
                  <a:lnTo>
                    <a:pt x="12021" y="13700"/>
                  </a:lnTo>
                  <a:lnTo>
                    <a:pt x="12016" y="13716"/>
                  </a:lnTo>
                  <a:lnTo>
                    <a:pt x="12010" y="13734"/>
                  </a:lnTo>
                  <a:lnTo>
                    <a:pt x="12004" y="13750"/>
                  </a:lnTo>
                  <a:lnTo>
                    <a:pt x="11997" y="13767"/>
                  </a:lnTo>
                  <a:lnTo>
                    <a:pt x="11989" y="13782"/>
                  </a:lnTo>
                  <a:lnTo>
                    <a:pt x="11981" y="13797"/>
                  </a:lnTo>
                  <a:lnTo>
                    <a:pt x="11972" y="13812"/>
                  </a:lnTo>
                  <a:lnTo>
                    <a:pt x="11961" y="13828"/>
                  </a:lnTo>
                  <a:lnTo>
                    <a:pt x="11949" y="13842"/>
                  </a:lnTo>
                  <a:lnTo>
                    <a:pt x="11938" y="13856"/>
                  </a:lnTo>
                  <a:lnTo>
                    <a:pt x="11925" y="13870"/>
                  </a:lnTo>
                  <a:lnTo>
                    <a:pt x="9820" y="15974"/>
                  </a:lnTo>
                  <a:lnTo>
                    <a:pt x="9807" y="15987"/>
                  </a:lnTo>
                  <a:lnTo>
                    <a:pt x="9795" y="16001"/>
                  </a:lnTo>
                  <a:lnTo>
                    <a:pt x="9783" y="16017"/>
                  </a:lnTo>
                  <a:lnTo>
                    <a:pt x="9773" y="16031"/>
                  </a:lnTo>
                  <a:lnTo>
                    <a:pt x="9763" y="16046"/>
                  </a:lnTo>
                  <a:lnTo>
                    <a:pt x="9755" y="16062"/>
                  </a:lnTo>
                  <a:lnTo>
                    <a:pt x="9747" y="16078"/>
                  </a:lnTo>
                  <a:lnTo>
                    <a:pt x="9740" y="16094"/>
                  </a:lnTo>
                  <a:lnTo>
                    <a:pt x="9734" y="16111"/>
                  </a:lnTo>
                  <a:lnTo>
                    <a:pt x="9728" y="16127"/>
                  </a:lnTo>
                  <a:lnTo>
                    <a:pt x="9724" y="16145"/>
                  </a:lnTo>
                  <a:lnTo>
                    <a:pt x="9720" y="16161"/>
                  </a:lnTo>
                  <a:lnTo>
                    <a:pt x="9718" y="16179"/>
                  </a:lnTo>
                  <a:lnTo>
                    <a:pt x="9715" y="16196"/>
                  </a:lnTo>
                  <a:lnTo>
                    <a:pt x="9714" y="16213"/>
                  </a:lnTo>
                  <a:lnTo>
                    <a:pt x="9714" y="16230"/>
                  </a:lnTo>
                  <a:lnTo>
                    <a:pt x="9714" y="16248"/>
                  </a:lnTo>
                  <a:lnTo>
                    <a:pt x="9715" y="16265"/>
                  </a:lnTo>
                  <a:lnTo>
                    <a:pt x="9718" y="16282"/>
                  </a:lnTo>
                  <a:lnTo>
                    <a:pt x="9720" y="16299"/>
                  </a:lnTo>
                  <a:lnTo>
                    <a:pt x="9724" y="16317"/>
                  </a:lnTo>
                  <a:lnTo>
                    <a:pt x="9728" y="16334"/>
                  </a:lnTo>
                  <a:lnTo>
                    <a:pt x="9734" y="16350"/>
                  </a:lnTo>
                  <a:lnTo>
                    <a:pt x="9740" y="16366"/>
                  </a:lnTo>
                  <a:lnTo>
                    <a:pt x="9747" y="16383"/>
                  </a:lnTo>
                  <a:lnTo>
                    <a:pt x="9755" y="16399"/>
                  </a:lnTo>
                  <a:lnTo>
                    <a:pt x="9763" y="16414"/>
                  </a:lnTo>
                  <a:lnTo>
                    <a:pt x="9773" y="16430"/>
                  </a:lnTo>
                  <a:lnTo>
                    <a:pt x="9783" y="16445"/>
                  </a:lnTo>
                  <a:lnTo>
                    <a:pt x="9795" y="16459"/>
                  </a:lnTo>
                  <a:lnTo>
                    <a:pt x="9807" y="16473"/>
                  </a:lnTo>
                  <a:lnTo>
                    <a:pt x="9820" y="16486"/>
                  </a:lnTo>
                  <a:lnTo>
                    <a:pt x="9834" y="16499"/>
                  </a:lnTo>
                  <a:lnTo>
                    <a:pt x="9847" y="16512"/>
                  </a:lnTo>
                  <a:lnTo>
                    <a:pt x="9862" y="16522"/>
                  </a:lnTo>
                  <a:lnTo>
                    <a:pt x="9876" y="16533"/>
                  </a:lnTo>
                  <a:lnTo>
                    <a:pt x="9891" y="16542"/>
                  </a:lnTo>
                  <a:lnTo>
                    <a:pt x="9908" y="16552"/>
                  </a:lnTo>
                  <a:lnTo>
                    <a:pt x="9923" y="16559"/>
                  </a:lnTo>
                  <a:lnTo>
                    <a:pt x="9940" y="16566"/>
                  </a:lnTo>
                  <a:lnTo>
                    <a:pt x="9956" y="16573"/>
                  </a:lnTo>
                  <a:lnTo>
                    <a:pt x="9972" y="16578"/>
                  </a:lnTo>
                  <a:lnTo>
                    <a:pt x="9990" y="16582"/>
                  </a:lnTo>
                  <a:lnTo>
                    <a:pt x="10006" y="16586"/>
                  </a:lnTo>
                  <a:lnTo>
                    <a:pt x="10024" y="16589"/>
                  </a:lnTo>
                  <a:lnTo>
                    <a:pt x="10042" y="16591"/>
                  </a:lnTo>
                  <a:lnTo>
                    <a:pt x="10059" y="16593"/>
                  </a:lnTo>
                  <a:lnTo>
                    <a:pt x="10076" y="16593"/>
                  </a:lnTo>
                  <a:lnTo>
                    <a:pt x="10093" y="16593"/>
                  </a:lnTo>
                  <a:lnTo>
                    <a:pt x="10111" y="16591"/>
                  </a:lnTo>
                  <a:lnTo>
                    <a:pt x="10129" y="16589"/>
                  </a:lnTo>
                  <a:lnTo>
                    <a:pt x="10145" y="16586"/>
                  </a:lnTo>
                  <a:lnTo>
                    <a:pt x="10163" y="16582"/>
                  </a:lnTo>
                  <a:lnTo>
                    <a:pt x="10179" y="16578"/>
                  </a:lnTo>
                  <a:lnTo>
                    <a:pt x="10195" y="16573"/>
                  </a:lnTo>
                  <a:lnTo>
                    <a:pt x="10213" y="16566"/>
                  </a:lnTo>
                  <a:lnTo>
                    <a:pt x="10228" y="16559"/>
                  </a:lnTo>
                  <a:lnTo>
                    <a:pt x="10245" y="16552"/>
                  </a:lnTo>
                  <a:lnTo>
                    <a:pt x="10260" y="16542"/>
                  </a:lnTo>
                  <a:lnTo>
                    <a:pt x="10275" y="16533"/>
                  </a:lnTo>
                  <a:lnTo>
                    <a:pt x="10291" y="16522"/>
                  </a:lnTo>
                  <a:lnTo>
                    <a:pt x="10305" y="16512"/>
                  </a:lnTo>
                  <a:lnTo>
                    <a:pt x="10319" y="16499"/>
                  </a:lnTo>
                  <a:lnTo>
                    <a:pt x="10333" y="16486"/>
                  </a:lnTo>
                  <a:lnTo>
                    <a:pt x="10665" y="16155"/>
                  </a:lnTo>
                  <a:lnTo>
                    <a:pt x="10678" y="16142"/>
                  </a:lnTo>
                  <a:lnTo>
                    <a:pt x="10692" y="16129"/>
                  </a:lnTo>
                  <a:lnTo>
                    <a:pt x="10706" y="16119"/>
                  </a:lnTo>
                  <a:lnTo>
                    <a:pt x="10721" y="16108"/>
                  </a:lnTo>
                  <a:lnTo>
                    <a:pt x="10737" y="16099"/>
                  </a:lnTo>
                  <a:lnTo>
                    <a:pt x="10752" y="16089"/>
                  </a:lnTo>
                  <a:lnTo>
                    <a:pt x="10768" y="16082"/>
                  </a:lnTo>
                  <a:lnTo>
                    <a:pt x="10785" y="16075"/>
                  </a:lnTo>
                  <a:lnTo>
                    <a:pt x="10801" y="16068"/>
                  </a:lnTo>
                  <a:lnTo>
                    <a:pt x="10818" y="16064"/>
                  </a:lnTo>
                  <a:lnTo>
                    <a:pt x="10834" y="16059"/>
                  </a:lnTo>
                  <a:lnTo>
                    <a:pt x="10852" y="16055"/>
                  </a:lnTo>
                  <a:lnTo>
                    <a:pt x="10869" y="16052"/>
                  </a:lnTo>
                  <a:lnTo>
                    <a:pt x="10886" y="16049"/>
                  </a:lnTo>
                  <a:lnTo>
                    <a:pt x="10903" y="16048"/>
                  </a:lnTo>
                  <a:lnTo>
                    <a:pt x="10921" y="16048"/>
                  </a:lnTo>
                  <a:lnTo>
                    <a:pt x="10939" y="16048"/>
                  </a:lnTo>
                  <a:lnTo>
                    <a:pt x="10956" y="16049"/>
                  </a:lnTo>
                  <a:lnTo>
                    <a:pt x="10973" y="16052"/>
                  </a:lnTo>
                  <a:lnTo>
                    <a:pt x="10990" y="16055"/>
                  </a:lnTo>
                  <a:lnTo>
                    <a:pt x="11007" y="16059"/>
                  </a:lnTo>
                  <a:lnTo>
                    <a:pt x="11024" y="16064"/>
                  </a:lnTo>
                  <a:lnTo>
                    <a:pt x="11041" y="16068"/>
                  </a:lnTo>
                  <a:lnTo>
                    <a:pt x="11057" y="16075"/>
                  </a:lnTo>
                  <a:lnTo>
                    <a:pt x="11074" y="16082"/>
                  </a:lnTo>
                  <a:lnTo>
                    <a:pt x="11089" y="16089"/>
                  </a:lnTo>
                  <a:lnTo>
                    <a:pt x="11105" y="16099"/>
                  </a:lnTo>
                  <a:lnTo>
                    <a:pt x="11120" y="16108"/>
                  </a:lnTo>
                  <a:lnTo>
                    <a:pt x="11135" y="16119"/>
                  </a:lnTo>
                  <a:lnTo>
                    <a:pt x="11150" y="16129"/>
                  </a:lnTo>
                  <a:lnTo>
                    <a:pt x="11164" y="16142"/>
                  </a:lnTo>
                  <a:lnTo>
                    <a:pt x="11177" y="16155"/>
                  </a:lnTo>
                  <a:lnTo>
                    <a:pt x="11190" y="16168"/>
                  </a:lnTo>
                  <a:lnTo>
                    <a:pt x="11201" y="16182"/>
                  </a:lnTo>
                  <a:lnTo>
                    <a:pt x="11213" y="16196"/>
                  </a:lnTo>
                  <a:lnTo>
                    <a:pt x="11224" y="16211"/>
                  </a:lnTo>
                  <a:lnTo>
                    <a:pt x="11233" y="16227"/>
                  </a:lnTo>
                  <a:lnTo>
                    <a:pt x="11241" y="16242"/>
                  </a:lnTo>
                  <a:lnTo>
                    <a:pt x="11250" y="16258"/>
                  </a:lnTo>
                  <a:lnTo>
                    <a:pt x="11257" y="16275"/>
                  </a:lnTo>
                  <a:lnTo>
                    <a:pt x="11263" y="16291"/>
                  </a:lnTo>
                  <a:lnTo>
                    <a:pt x="11268" y="16308"/>
                  </a:lnTo>
                  <a:lnTo>
                    <a:pt x="11273" y="16324"/>
                  </a:lnTo>
                  <a:lnTo>
                    <a:pt x="11277" y="16342"/>
                  </a:lnTo>
                  <a:lnTo>
                    <a:pt x="11279" y="16358"/>
                  </a:lnTo>
                  <a:lnTo>
                    <a:pt x="11281" y="16376"/>
                  </a:lnTo>
                  <a:lnTo>
                    <a:pt x="11282" y="16393"/>
                  </a:lnTo>
                  <a:lnTo>
                    <a:pt x="11284" y="16411"/>
                  </a:lnTo>
                  <a:lnTo>
                    <a:pt x="11282" y="16429"/>
                  </a:lnTo>
                  <a:lnTo>
                    <a:pt x="11281" y="16445"/>
                  </a:lnTo>
                  <a:lnTo>
                    <a:pt x="11279" y="16463"/>
                  </a:lnTo>
                  <a:lnTo>
                    <a:pt x="11277" y="16480"/>
                  </a:lnTo>
                  <a:lnTo>
                    <a:pt x="11273" y="16497"/>
                  </a:lnTo>
                  <a:lnTo>
                    <a:pt x="11268" y="16514"/>
                  </a:lnTo>
                  <a:lnTo>
                    <a:pt x="11263" y="16531"/>
                  </a:lnTo>
                  <a:lnTo>
                    <a:pt x="11257" y="16547"/>
                  </a:lnTo>
                  <a:lnTo>
                    <a:pt x="11250" y="16564"/>
                  </a:lnTo>
                  <a:lnTo>
                    <a:pt x="11241" y="16579"/>
                  </a:lnTo>
                  <a:lnTo>
                    <a:pt x="11233" y="16595"/>
                  </a:lnTo>
                  <a:lnTo>
                    <a:pt x="11224" y="16611"/>
                  </a:lnTo>
                  <a:lnTo>
                    <a:pt x="11213" y="16625"/>
                  </a:lnTo>
                  <a:lnTo>
                    <a:pt x="11201" y="16640"/>
                  </a:lnTo>
                  <a:lnTo>
                    <a:pt x="11190" y="16654"/>
                  </a:lnTo>
                  <a:lnTo>
                    <a:pt x="11177" y="16667"/>
                  </a:lnTo>
                  <a:lnTo>
                    <a:pt x="6243" y="21600"/>
                  </a:lnTo>
                  <a:lnTo>
                    <a:pt x="-27176" y="21600"/>
                  </a:lnTo>
                  <a:lnTo>
                    <a:pt x="-27176" y="4745"/>
                  </a:lnTo>
                  <a:lnTo>
                    <a:pt x="31324" y="118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8"/>
            <p:cNvSpPr/>
            <p:nvPr/>
          </p:nvSpPr>
          <p:spPr>
            <a:xfrm>
              <a:off x="7042680" y="0"/>
              <a:ext cx="669600" cy="605880"/>
            </a:xfrm>
            <a:custGeom>
              <a:avLst/>
              <a:gdLst/>
              <a:ahLst/>
              <a:rect l="l" t="t" r="r" b="b"/>
              <a:pathLst>
                <a:path w="2812" h="2288">
                  <a:moveTo>
                    <a:pt x="104" y="2183"/>
                  </a:moveTo>
                  <a:lnTo>
                    <a:pt x="104" y="2183"/>
                  </a:lnTo>
                  <a:lnTo>
                    <a:pt x="117" y="2196"/>
                  </a:lnTo>
                  <a:lnTo>
                    <a:pt x="131" y="2208"/>
                  </a:lnTo>
                  <a:lnTo>
                    <a:pt x="145" y="2218"/>
                  </a:lnTo>
                  <a:lnTo>
                    <a:pt x="161" y="2229"/>
                  </a:lnTo>
                  <a:lnTo>
                    <a:pt x="176" y="2238"/>
                  </a:lnTo>
                  <a:lnTo>
                    <a:pt x="191" y="2247"/>
                  </a:lnTo>
                  <a:lnTo>
                    <a:pt x="206" y="2255"/>
                  </a:lnTo>
                  <a:lnTo>
                    <a:pt x="223" y="2262"/>
                  </a:lnTo>
                  <a:lnTo>
                    <a:pt x="239" y="2268"/>
                  </a:lnTo>
                  <a:lnTo>
                    <a:pt x="256" y="2273"/>
                  </a:lnTo>
                  <a:lnTo>
                    <a:pt x="272" y="2278"/>
                  </a:lnTo>
                  <a:lnTo>
                    <a:pt x="290" y="2282"/>
                  </a:lnTo>
                  <a:lnTo>
                    <a:pt x="306" y="2284"/>
                  </a:lnTo>
                  <a:lnTo>
                    <a:pt x="324" y="2286"/>
                  </a:lnTo>
                  <a:lnTo>
                    <a:pt x="340" y="2288"/>
                  </a:lnTo>
                  <a:lnTo>
                    <a:pt x="358" y="2288"/>
                  </a:lnTo>
                  <a:lnTo>
                    <a:pt x="374" y="2288"/>
                  </a:lnTo>
                  <a:lnTo>
                    <a:pt x="392" y="2286"/>
                  </a:lnTo>
                  <a:lnTo>
                    <a:pt x="409" y="2284"/>
                  </a:lnTo>
                  <a:lnTo>
                    <a:pt x="426" y="2282"/>
                  </a:lnTo>
                  <a:lnTo>
                    <a:pt x="442" y="2278"/>
                  </a:lnTo>
                  <a:lnTo>
                    <a:pt x="460" y="2273"/>
                  </a:lnTo>
                  <a:lnTo>
                    <a:pt x="476" y="2268"/>
                  </a:lnTo>
                  <a:lnTo>
                    <a:pt x="493" y="2262"/>
                  </a:lnTo>
                  <a:lnTo>
                    <a:pt x="508" y="2255"/>
                  </a:lnTo>
                  <a:lnTo>
                    <a:pt x="524" y="2247"/>
                  </a:lnTo>
                  <a:lnTo>
                    <a:pt x="540" y="2238"/>
                  </a:lnTo>
                  <a:lnTo>
                    <a:pt x="555" y="2229"/>
                  </a:lnTo>
                  <a:lnTo>
                    <a:pt x="569" y="2218"/>
                  </a:lnTo>
                  <a:lnTo>
                    <a:pt x="583" y="2208"/>
                  </a:lnTo>
                  <a:lnTo>
                    <a:pt x="597" y="2196"/>
                  </a:lnTo>
                  <a:lnTo>
                    <a:pt x="611" y="2183"/>
                  </a:lnTo>
                  <a:lnTo>
                    <a:pt x="2812" y="0"/>
                  </a:lnTo>
                  <a:lnTo>
                    <a:pt x="1778" y="0"/>
                  </a:lnTo>
                  <a:lnTo>
                    <a:pt x="104" y="1676"/>
                  </a:lnTo>
                  <a:lnTo>
                    <a:pt x="91" y="1690"/>
                  </a:lnTo>
                  <a:lnTo>
                    <a:pt x="80" y="1704"/>
                  </a:lnTo>
                  <a:lnTo>
                    <a:pt x="69" y="1718"/>
                  </a:lnTo>
                  <a:lnTo>
                    <a:pt x="58" y="1732"/>
                  </a:lnTo>
                  <a:lnTo>
                    <a:pt x="49" y="1748"/>
                  </a:lnTo>
                  <a:lnTo>
                    <a:pt x="41" y="1763"/>
                  </a:lnTo>
                  <a:lnTo>
                    <a:pt x="33" y="1779"/>
                  </a:lnTo>
                  <a:lnTo>
                    <a:pt x="26" y="1795"/>
                  </a:lnTo>
                  <a:lnTo>
                    <a:pt x="20" y="1811"/>
                  </a:lnTo>
                  <a:lnTo>
                    <a:pt x="14" y="1827"/>
                  </a:lnTo>
                  <a:lnTo>
                    <a:pt x="9" y="1845"/>
                  </a:lnTo>
                  <a:lnTo>
                    <a:pt x="6" y="1862"/>
                  </a:lnTo>
                  <a:lnTo>
                    <a:pt x="3" y="1878"/>
                  </a:lnTo>
                  <a:lnTo>
                    <a:pt x="1" y="1896"/>
                  </a:lnTo>
                  <a:lnTo>
                    <a:pt x="0" y="1913"/>
                  </a:lnTo>
                  <a:lnTo>
                    <a:pt x="0" y="1930"/>
                  </a:lnTo>
                  <a:lnTo>
                    <a:pt x="0" y="1947"/>
                  </a:lnTo>
                  <a:lnTo>
                    <a:pt x="1" y="1964"/>
                  </a:lnTo>
                  <a:lnTo>
                    <a:pt x="3" y="1981"/>
                  </a:lnTo>
                  <a:lnTo>
                    <a:pt x="6" y="1998"/>
                  </a:lnTo>
                  <a:lnTo>
                    <a:pt x="9" y="2015"/>
                  </a:lnTo>
                  <a:lnTo>
                    <a:pt x="14" y="2032"/>
                  </a:lnTo>
                  <a:lnTo>
                    <a:pt x="20" y="2048"/>
                  </a:lnTo>
                  <a:lnTo>
                    <a:pt x="26" y="2065"/>
                  </a:lnTo>
                  <a:lnTo>
                    <a:pt x="33" y="2081"/>
                  </a:lnTo>
                  <a:lnTo>
                    <a:pt x="41" y="2096"/>
                  </a:lnTo>
                  <a:lnTo>
                    <a:pt x="49" y="2112"/>
                  </a:lnTo>
                  <a:lnTo>
                    <a:pt x="58" y="2127"/>
                  </a:lnTo>
                  <a:lnTo>
                    <a:pt x="69" y="2142"/>
                  </a:lnTo>
                  <a:lnTo>
                    <a:pt x="80" y="2156"/>
                  </a:lnTo>
                  <a:lnTo>
                    <a:pt x="91" y="2170"/>
                  </a:lnTo>
                  <a:lnTo>
                    <a:pt x="104" y="2183"/>
                  </a:lnTo>
                  <a:close/>
                </a:path>
              </a:pathLst>
            </a:custGeom>
            <a:solidFill>
              <a:srgbClr val="79b8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9"/>
            <p:cNvSpPr/>
            <p:nvPr/>
          </p:nvSpPr>
          <p:spPr>
            <a:xfrm>
              <a:off x="8778240" y="1571400"/>
              <a:ext cx="365760" cy="542160"/>
            </a:xfrm>
            <a:custGeom>
              <a:avLst/>
              <a:gdLst/>
              <a:ahLst/>
              <a:rect l="l" t="t" r="r" b="b"/>
              <a:pathLst>
                <a:path w="1535" h="2050">
                  <a:moveTo>
                    <a:pt x="105" y="1944"/>
                  </a:moveTo>
                  <a:lnTo>
                    <a:pt x="105" y="1944"/>
                  </a:lnTo>
                  <a:lnTo>
                    <a:pt x="119" y="1957"/>
                  </a:lnTo>
                  <a:lnTo>
                    <a:pt x="133" y="1969"/>
                  </a:lnTo>
                  <a:lnTo>
                    <a:pt x="147" y="1980"/>
                  </a:lnTo>
                  <a:lnTo>
                    <a:pt x="163" y="1990"/>
                  </a:lnTo>
                  <a:lnTo>
                    <a:pt x="178" y="2000"/>
                  </a:lnTo>
                  <a:lnTo>
                    <a:pt x="193" y="2009"/>
                  </a:lnTo>
                  <a:lnTo>
                    <a:pt x="210" y="2017"/>
                  </a:lnTo>
                  <a:lnTo>
                    <a:pt x="226" y="2024"/>
                  </a:lnTo>
                  <a:lnTo>
                    <a:pt x="243" y="2030"/>
                  </a:lnTo>
                  <a:lnTo>
                    <a:pt x="259" y="2036"/>
                  </a:lnTo>
                  <a:lnTo>
                    <a:pt x="277" y="2040"/>
                  </a:lnTo>
                  <a:lnTo>
                    <a:pt x="293" y="2044"/>
                  </a:lnTo>
                  <a:lnTo>
                    <a:pt x="311" y="2046"/>
                  </a:lnTo>
                  <a:lnTo>
                    <a:pt x="328" y="2049"/>
                  </a:lnTo>
                  <a:lnTo>
                    <a:pt x="345" y="2050"/>
                  </a:lnTo>
                  <a:lnTo>
                    <a:pt x="362" y="2050"/>
                  </a:lnTo>
                  <a:lnTo>
                    <a:pt x="380" y="2050"/>
                  </a:lnTo>
                  <a:lnTo>
                    <a:pt x="397" y="2049"/>
                  </a:lnTo>
                  <a:lnTo>
                    <a:pt x="415" y="2046"/>
                  </a:lnTo>
                  <a:lnTo>
                    <a:pt x="432" y="2044"/>
                  </a:lnTo>
                  <a:lnTo>
                    <a:pt x="449" y="2040"/>
                  </a:lnTo>
                  <a:lnTo>
                    <a:pt x="466" y="2036"/>
                  </a:lnTo>
                  <a:lnTo>
                    <a:pt x="483" y="2030"/>
                  </a:lnTo>
                  <a:lnTo>
                    <a:pt x="500" y="2024"/>
                  </a:lnTo>
                  <a:lnTo>
                    <a:pt x="516" y="2017"/>
                  </a:lnTo>
                  <a:lnTo>
                    <a:pt x="531" y="2009"/>
                  </a:lnTo>
                  <a:lnTo>
                    <a:pt x="548" y="2000"/>
                  </a:lnTo>
                  <a:lnTo>
                    <a:pt x="563" y="1990"/>
                  </a:lnTo>
                  <a:lnTo>
                    <a:pt x="577" y="1980"/>
                  </a:lnTo>
                  <a:lnTo>
                    <a:pt x="592" y="1969"/>
                  </a:lnTo>
                  <a:lnTo>
                    <a:pt x="606" y="1957"/>
                  </a:lnTo>
                  <a:lnTo>
                    <a:pt x="619" y="1944"/>
                  </a:lnTo>
                  <a:lnTo>
                    <a:pt x="1535" y="1029"/>
                  </a:lnTo>
                  <a:lnTo>
                    <a:pt x="1535" y="0"/>
                  </a:lnTo>
                  <a:lnTo>
                    <a:pt x="105" y="1430"/>
                  </a:lnTo>
                  <a:lnTo>
                    <a:pt x="92" y="1443"/>
                  </a:lnTo>
                  <a:lnTo>
                    <a:pt x="81" y="1457"/>
                  </a:lnTo>
                  <a:lnTo>
                    <a:pt x="70" y="1472"/>
                  </a:lnTo>
                  <a:lnTo>
                    <a:pt x="59" y="1486"/>
                  </a:lnTo>
                  <a:lnTo>
                    <a:pt x="50" y="1502"/>
                  </a:lnTo>
                  <a:lnTo>
                    <a:pt x="41" y="1518"/>
                  </a:lnTo>
                  <a:lnTo>
                    <a:pt x="32" y="1533"/>
                  </a:lnTo>
                  <a:lnTo>
                    <a:pt x="25" y="1550"/>
                  </a:lnTo>
                  <a:lnTo>
                    <a:pt x="19" y="1566"/>
                  </a:lnTo>
                  <a:lnTo>
                    <a:pt x="14" y="1584"/>
                  </a:lnTo>
                  <a:lnTo>
                    <a:pt x="10" y="1600"/>
                  </a:lnTo>
                  <a:lnTo>
                    <a:pt x="5" y="1618"/>
                  </a:lnTo>
                  <a:lnTo>
                    <a:pt x="3" y="1634"/>
                  </a:lnTo>
                  <a:lnTo>
                    <a:pt x="1" y="1652"/>
                  </a:lnTo>
                  <a:lnTo>
                    <a:pt x="0" y="1669"/>
                  </a:lnTo>
                  <a:lnTo>
                    <a:pt x="0" y="1687"/>
                  </a:lnTo>
                  <a:lnTo>
                    <a:pt x="0" y="1705"/>
                  </a:lnTo>
                  <a:lnTo>
                    <a:pt x="1" y="1721"/>
                  </a:lnTo>
                  <a:lnTo>
                    <a:pt x="3" y="1739"/>
                  </a:lnTo>
                  <a:lnTo>
                    <a:pt x="5" y="1756"/>
                  </a:lnTo>
                  <a:lnTo>
                    <a:pt x="10" y="1773"/>
                  </a:lnTo>
                  <a:lnTo>
                    <a:pt x="14" y="1790"/>
                  </a:lnTo>
                  <a:lnTo>
                    <a:pt x="19" y="1807"/>
                  </a:lnTo>
                  <a:lnTo>
                    <a:pt x="25" y="1823"/>
                  </a:lnTo>
                  <a:lnTo>
                    <a:pt x="32" y="1840"/>
                  </a:lnTo>
                  <a:lnTo>
                    <a:pt x="41" y="1856"/>
                  </a:lnTo>
                  <a:lnTo>
                    <a:pt x="50" y="1871"/>
                  </a:lnTo>
                  <a:lnTo>
                    <a:pt x="59" y="1887"/>
                  </a:lnTo>
                  <a:lnTo>
                    <a:pt x="70" y="1902"/>
                  </a:lnTo>
                  <a:lnTo>
                    <a:pt x="81" y="1916"/>
                  </a:lnTo>
                  <a:lnTo>
                    <a:pt x="92" y="1930"/>
                  </a:lnTo>
                  <a:lnTo>
                    <a:pt x="105" y="1944"/>
                  </a:lnTo>
                  <a:close/>
                </a:path>
              </a:pathLst>
            </a:custGeom>
            <a:solidFill>
              <a:srgbClr val="0098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rot="5400000">
              <a:off x="-31680" y="1259280"/>
              <a:ext cx="687600" cy="624240"/>
            </a:xfrm>
            <a:custGeom>
              <a:avLst/>
              <a:gdLst/>
              <a:ahLst/>
              <a:rect l="l" t="t" r="r" b="b"/>
              <a:pathLst>
                <a:path w="2886" h="2358">
                  <a:moveTo>
                    <a:pt x="2781" y="104"/>
                  </a:moveTo>
                  <a:lnTo>
                    <a:pt x="2781" y="104"/>
                  </a:lnTo>
                  <a:lnTo>
                    <a:pt x="2767" y="92"/>
                  </a:lnTo>
                  <a:lnTo>
                    <a:pt x="2754" y="80"/>
                  </a:lnTo>
                  <a:lnTo>
                    <a:pt x="2739" y="69"/>
                  </a:lnTo>
                  <a:lnTo>
                    <a:pt x="2725" y="59"/>
                  </a:lnTo>
                  <a:lnTo>
                    <a:pt x="2709" y="49"/>
                  </a:lnTo>
                  <a:lnTo>
                    <a:pt x="2694" y="41"/>
                  </a:lnTo>
                  <a:lnTo>
                    <a:pt x="2678" y="33"/>
                  </a:lnTo>
                  <a:lnTo>
                    <a:pt x="2662" y="26"/>
                  </a:lnTo>
                  <a:lnTo>
                    <a:pt x="2646" y="20"/>
                  </a:lnTo>
                  <a:lnTo>
                    <a:pt x="2630" y="14"/>
                  </a:lnTo>
                  <a:lnTo>
                    <a:pt x="2613" y="9"/>
                  </a:lnTo>
                  <a:lnTo>
                    <a:pt x="2596" y="6"/>
                  </a:lnTo>
                  <a:lnTo>
                    <a:pt x="2579" y="4"/>
                  </a:lnTo>
                  <a:lnTo>
                    <a:pt x="2562" y="1"/>
                  </a:lnTo>
                  <a:lnTo>
                    <a:pt x="2545" y="0"/>
                  </a:lnTo>
                  <a:lnTo>
                    <a:pt x="2527" y="0"/>
                  </a:lnTo>
                  <a:lnTo>
                    <a:pt x="2510" y="0"/>
                  </a:lnTo>
                  <a:lnTo>
                    <a:pt x="2493" y="1"/>
                  </a:lnTo>
                  <a:lnTo>
                    <a:pt x="2476" y="4"/>
                  </a:lnTo>
                  <a:lnTo>
                    <a:pt x="2459" y="6"/>
                  </a:lnTo>
                  <a:lnTo>
                    <a:pt x="2442" y="9"/>
                  </a:lnTo>
                  <a:lnTo>
                    <a:pt x="2425" y="14"/>
                  </a:lnTo>
                  <a:lnTo>
                    <a:pt x="2409" y="20"/>
                  </a:lnTo>
                  <a:lnTo>
                    <a:pt x="2392" y="26"/>
                  </a:lnTo>
                  <a:lnTo>
                    <a:pt x="2376" y="33"/>
                  </a:lnTo>
                  <a:lnTo>
                    <a:pt x="2361" y="41"/>
                  </a:lnTo>
                  <a:lnTo>
                    <a:pt x="2346" y="49"/>
                  </a:lnTo>
                  <a:lnTo>
                    <a:pt x="2330" y="59"/>
                  </a:lnTo>
                  <a:lnTo>
                    <a:pt x="2315" y="69"/>
                  </a:lnTo>
                  <a:lnTo>
                    <a:pt x="2301" y="80"/>
                  </a:lnTo>
                  <a:lnTo>
                    <a:pt x="2287" y="92"/>
                  </a:lnTo>
                  <a:lnTo>
                    <a:pt x="2274" y="104"/>
                  </a:lnTo>
                  <a:lnTo>
                    <a:pt x="0" y="2358"/>
                  </a:lnTo>
                  <a:lnTo>
                    <a:pt x="1035" y="2358"/>
                  </a:lnTo>
                  <a:lnTo>
                    <a:pt x="2781" y="612"/>
                  </a:lnTo>
                  <a:lnTo>
                    <a:pt x="2794" y="597"/>
                  </a:lnTo>
                  <a:lnTo>
                    <a:pt x="2806" y="583"/>
                  </a:lnTo>
                  <a:lnTo>
                    <a:pt x="2816" y="569"/>
                  </a:lnTo>
                  <a:lnTo>
                    <a:pt x="2827" y="555"/>
                  </a:lnTo>
                  <a:lnTo>
                    <a:pt x="2836" y="540"/>
                  </a:lnTo>
                  <a:lnTo>
                    <a:pt x="2844" y="525"/>
                  </a:lnTo>
                  <a:lnTo>
                    <a:pt x="2853" y="508"/>
                  </a:lnTo>
                  <a:lnTo>
                    <a:pt x="2860" y="493"/>
                  </a:lnTo>
                  <a:lnTo>
                    <a:pt x="2866" y="477"/>
                  </a:lnTo>
                  <a:lnTo>
                    <a:pt x="2871" y="460"/>
                  </a:lnTo>
                  <a:lnTo>
                    <a:pt x="2875" y="442"/>
                  </a:lnTo>
                  <a:lnTo>
                    <a:pt x="2880" y="426"/>
                  </a:lnTo>
                  <a:lnTo>
                    <a:pt x="2882" y="410"/>
                  </a:lnTo>
                  <a:lnTo>
                    <a:pt x="2884" y="392"/>
                  </a:lnTo>
                  <a:lnTo>
                    <a:pt x="2886" y="374"/>
                  </a:lnTo>
                  <a:lnTo>
                    <a:pt x="2886" y="358"/>
                  </a:lnTo>
                  <a:lnTo>
                    <a:pt x="2886" y="340"/>
                  </a:lnTo>
                  <a:lnTo>
                    <a:pt x="2884" y="324"/>
                  </a:lnTo>
                  <a:lnTo>
                    <a:pt x="2882" y="306"/>
                  </a:lnTo>
                  <a:lnTo>
                    <a:pt x="2880" y="290"/>
                  </a:lnTo>
                  <a:lnTo>
                    <a:pt x="2875" y="272"/>
                  </a:lnTo>
                  <a:lnTo>
                    <a:pt x="2871" y="256"/>
                  </a:lnTo>
                  <a:lnTo>
                    <a:pt x="2866" y="239"/>
                  </a:lnTo>
                  <a:lnTo>
                    <a:pt x="2860" y="223"/>
                  </a:lnTo>
                  <a:lnTo>
                    <a:pt x="2853" y="207"/>
                  </a:lnTo>
                  <a:lnTo>
                    <a:pt x="2844" y="191"/>
                  </a:lnTo>
                  <a:lnTo>
                    <a:pt x="2836" y="176"/>
                  </a:lnTo>
                  <a:lnTo>
                    <a:pt x="2827" y="161"/>
                  </a:lnTo>
                  <a:lnTo>
                    <a:pt x="2816" y="146"/>
                  </a:lnTo>
                  <a:lnTo>
                    <a:pt x="2806" y="131"/>
                  </a:lnTo>
                  <a:lnTo>
                    <a:pt x="2794" y="117"/>
                  </a:lnTo>
                  <a:lnTo>
                    <a:pt x="2781" y="104"/>
                  </a:lnTo>
                  <a:close/>
                </a:path>
              </a:pathLst>
            </a:custGeom>
            <a:solidFill>
              <a:srgbClr val="79b8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rot="5400000">
              <a:off x="1175400" y="-114840"/>
              <a:ext cx="825840" cy="1055520"/>
            </a:xfrm>
            <a:custGeom>
              <a:avLst/>
              <a:gdLst/>
              <a:ahLst/>
              <a:rect l="l" t="t" r="r" b="b"/>
              <a:pathLst>
                <a:path w="3464" h="3991">
                  <a:moveTo>
                    <a:pt x="3357" y="106"/>
                  </a:moveTo>
                  <a:lnTo>
                    <a:pt x="3357" y="106"/>
                  </a:lnTo>
                  <a:lnTo>
                    <a:pt x="3344" y="93"/>
                  </a:lnTo>
                  <a:lnTo>
                    <a:pt x="3330" y="81"/>
                  </a:lnTo>
                  <a:lnTo>
                    <a:pt x="3315" y="69"/>
                  </a:lnTo>
                  <a:lnTo>
                    <a:pt x="3301" y="60"/>
                  </a:lnTo>
                  <a:lnTo>
                    <a:pt x="3286" y="49"/>
                  </a:lnTo>
                  <a:lnTo>
                    <a:pt x="3269" y="41"/>
                  </a:lnTo>
                  <a:lnTo>
                    <a:pt x="3254" y="33"/>
                  </a:lnTo>
                  <a:lnTo>
                    <a:pt x="3238" y="26"/>
                  </a:lnTo>
                  <a:lnTo>
                    <a:pt x="3221" y="20"/>
                  </a:lnTo>
                  <a:lnTo>
                    <a:pt x="3204" y="14"/>
                  </a:lnTo>
                  <a:lnTo>
                    <a:pt x="3187" y="9"/>
                  </a:lnTo>
                  <a:lnTo>
                    <a:pt x="3170" y="6"/>
                  </a:lnTo>
                  <a:lnTo>
                    <a:pt x="3153" y="3"/>
                  </a:lnTo>
                  <a:lnTo>
                    <a:pt x="3136" y="1"/>
                  </a:lnTo>
                  <a:lnTo>
                    <a:pt x="3118" y="0"/>
                  </a:lnTo>
                  <a:lnTo>
                    <a:pt x="3100" y="0"/>
                  </a:lnTo>
                  <a:lnTo>
                    <a:pt x="3083" y="0"/>
                  </a:lnTo>
                  <a:lnTo>
                    <a:pt x="3066" y="1"/>
                  </a:lnTo>
                  <a:lnTo>
                    <a:pt x="3049" y="3"/>
                  </a:lnTo>
                  <a:lnTo>
                    <a:pt x="3031" y="6"/>
                  </a:lnTo>
                  <a:lnTo>
                    <a:pt x="3015" y="9"/>
                  </a:lnTo>
                  <a:lnTo>
                    <a:pt x="2997" y="14"/>
                  </a:lnTo>
                  <a:lnTo>
                    <a:pt x="2981" y="20"/>
                  </a:lnTo>
                  <a:lnTo>
                    <a:pt x="2964" y="26"/>
                  </a:lnTo>
                  <a:lnTo>
                    <a:pt x="2948" y="33"/>
                  </a:lnTo>
                  <a:lnTo>
                    <a:pt x="2931" y="41"/>
                  </a:lnTo>
                  <a:lnTo>
                    <a:pt x="2916" y="49"/>
                  </a:lnTo>
                  <a:lnTo>
                    <a:pt x="2901" y="60"/>
                  </a:lnTo>
                  <a:lnTo>
                    <a:pt x="2885" y="69"/>
                  </a:lnTo>
                  <a:lnTo>
                    <a:pt x="2871" y="81"/>
                  </a:lnTo>
                  <a:lnTo>
                    <a:pt x="2857" y="93"/>
                  </a:lnTo>
                  <a:lnTo>
                    <a:pt x="2843" y="106"/>
                  </a:lnTo>
                  <a:lnTo>
                    <a:pt x="0" y="2956"/>
                  </a:lnTo>
                  <a:lnTo>
                    <a:pt x="0" y="3991"/>
                  </a:lnTo>
                  <a:lnTo>
                    <a:pt x="3357" y="620"/>
                  </a:lnTo>
                  <a:lnTo>
                    <a:pt x="3370" y="607"/>
                  </a:lnTo>
                  <a:lnTo>
                    <a:pt x="3382" y="593"/>
                  </a:lnTo>
                  <a:lnTo>
                    <a:pt x="3394" y="577"/>
                  </a:lnTo>
                  <a:lnTo>
                    <a:pt x="3404" y="563"/>
                  </a:lnTo>
                  <a:lnTo>
                    <a:pt x="3414" y="548"/>
                  </a:lnTo>
                  <a:lnTo>
                    <a:pt x="3422" y="532"/>
                  </a:lnTo>
                  <a:lnTo>
                    <a:pt x="3430" y="516"/>
                  </a:lnTo>
                  <a:lnTo>
                    <a:pt x="3437" y="500"/>
                  </a:lnTo>
                  <a:lnTo>
                    <a:pt x="3444" y="483"/>
                  </a:lnTo>
                  <a:lnTo>
                    <a:pt x="3449" y="466"/>
                  </a:lnTo>
                  <a:lnTo>
                    <a:pt x="3454" y="449"/>
                  </a:lnTo>
                  <a:lnTo>
                    <a:pt x="3457" y="432"/>
                  </a:lnTo>
                  <a:lnTo>
                    <a:pt x="3461" y="415"/>
                  </a:lnTo>
                  <a:lnTo>
                    <a:pt x="3462" y="398"/>
                  </a:lnTo>
                  <a:lnTo>
                    <a:pt x="3464" y="380"/>
                  </a:lnTo>
                  <a:lnTo>
                    <a:pt x="3464" y="363"/>
                  </a:lnTo>
                  <a:lnTo>
                    <a:pt x="3464" y="345"/>
                  </a:lnTo>
                  <a:lnTo>
                    <a:pt x="3462" y="329"/>
                  </a:lnTo>
                  <a:lnTo>
                    <a:pt x="3461" y="311"/>
                  </a:lnTo>
                  <a:lnTo>
                    <a:pt x="3457" y="293"/>
                  </a:lnTo>
                  <a:lnTo>
                    <a:pt x="3454" y="276"/>
                  </a:lnTo>
                  <a:lnTo>
                    <a:pt x="3449" y="259"/>
                  </a:lnTo>
                  <a:lnTo>
                    <a:pt x="3444" y="243"/>
                  </a:lnTo>
                  <a:lnTo>
                    <a:pt x="3437" y="226"/>
                  </a:lnTo>
                  <a:lnTo>
                    <a:pt x="3430" y="210"/>
                  </a:lnTo>
                  <a:lnTo>
                    <a:pt x="3422" y="194"/>
                  </a:lnTo>
                  <a:lnTo>
                    <a:pt x="3414" y="178"/>
                  </a:lnTo>
                  <a:lnTo>
                    <a:pt x="3404" y="163"/>
                  </a:lnTo>
                  <a:lnTo>
                    <a:pt x="3394" y="148"/>
                  </a:lnTo>
                  <a:lnTo>
                    <a:pt x="3382" y="134"/>
                  </a:lnTo>
                  <a:lnTo>
                    <a:pt x="3370" y="120"/>
                  </a:lnTo>
                  <a:lnTo>
                    <a:pt x="3357" y="106"/>
                  </a:lnTo>
                  <a:close/>
                </a:path>
              </a:pathLst>
            </a:custGeom>
            <a:solidFill>
              <a:srgbClr val="0098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8" name="Picture 2" descr="C:\Users\Laura\Downloads\freccia_biancoverde-removebg-preview.png"/>
          <p:cNvPicPr/>
          <p:nvPr/>
        </p:nvPicPr>
        <p:blipFill>
          <a:blip r:embed="rId2"/>
          <a:stretch/>
        </p:blipFill>
        <p:spPr>
          <a:xfrm flipH="1" rot="14736600">
            <a:off x="-270000" y="166320"/>
            <a:ext cx="2660760" cy="1622520"/>
          </a:xfrm>
          <a:prstGeom prst="rect">
            <a:avLst/>
          </a:prstGeom>
          <a:ln w="0">
            <a:noFill/>
          </a:ln>
        </p:spPr>
      </p:pic>
      <p:pic>
        <p:nvPicPr>
          <p:cNvPr id="239" name="Picture 3" descr="C:\Users\Laura\Downloads\freccia_verde-removebg-preview.png"/>
          <p:cNvPicPr/>
          <p:nvPr/>
        </p:nvPicPr>
        <p:blipFill>
          <a:blip r:embed="rId3"/>
          <a:stretch/>
        </p:blipFill>
        <p:spPr>
          <a:xfrm rot="6816600">
            <a:off x="6817680" y="274680"/>
            <a:ext cx="2633760" cy="1563480"/>
          </a:xfrm>
          <a:prstGeom prst="rect">
            <a:avLst/>
          </a:prstGeom>
          <a:ln w="0">
            <a:noFill/>
          </a:ln>
        </p:spPr>
      </p:pic>
      <p:pic>
        <p:nvPicPr>
          <p:cNvPr id="240" name="Grupo 6" descr=""/>
          <p:cNvPicPr/>
          <p:nvPr/>
        </p:nvPicPr>
        <p:blipFill>
          <a:blip r:embed="rId4"/>
          <a:stretch/>
        </p:blipFill>
        <p:spPr>
          <a:xfrm>
            <a:off x="871560" y="5291280"/>
            <a:ext cx="8278920" cy="463320"/>
          </a:xfrm>
          <a:prstGeom prst="rect">
            <a:avLst/>
          </a:prstGeom>
          <a:ln w="0">
            <a:noFill/>
          </a:ln>
        </p:spPr>
      </p:pic>
      <p:sp>
        <p:nvSpPr>
          <p:cNvPr id="241" name="CuadroTexto 7"/>
          <p:cNvSpPr/>
          <p:nvPr/>
        </p:nvSpPr>
        <p:spPr>
          <a:xfrm>
            <a:off x="3301920" y="5294160"/>
            <a:ext cx="58546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Light"/>
              </a:rPr>
              <a:t>This project has received funding from the Bio-based Industries Joint Undertaking (JU) under the European Union’s Horizon 2020 research and innovation programme under Grant Agreement No. 101023685. The JU receives support from the European Union’s Horizon 2020 research and innovation programme and the Bio-based Industries Consortium.</a:t>
            </a:r>
            <a:endParaRPr b="0" lang="en-US" sz="800" spc="-1" strike="noStrike">
              <a:solidFill>
                <a:srgbClr val="000000"/>
              </a:solidFill>
              <a:latin typeface="Arial"/>
            </a:endParaRPr>
          </a:p>
        </p:txBody>
      </p:sp>
      <p:sp>
        <p:nvSpPr>
          <p:cNvPr id="242" name="PlaceHolder 1"/>
          <p:cNvSpPr>
            <a:spLocks noGrp="1"/>
          </p:cNvSpPr>
          <p:nvPr>
            <p:ph type="title"/>
          </p:nvPr>
        </p:nvSpPr>
        <p:spPr>
          <a:xfrm>
            <a:off x="628560" y="304560"/>
            <a:ext cx="7886880" cy="1104840"/>
          </a:xfrm>
          <a:prstGeom prst="rect">
            <a:avLst/>
          </a:prstGeom>
          <a:noFill/>
          <a:ln w="0">
            <a:noFill/>
          </a:ln>
        </p:spPr>
        <p:txBody>
          <a:bodyPr lIns="71280" rIns="71280" tIns="35640" bIns="35640" anchor="ctr">
            <a:noAutofit/>
          </a:bodyPr>
          <a:p>
            <a:pPr indent="0">
              <a:lnSpc>
                <a:spcPct val="9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400" spc="-1" strike="noStrike">
                <a:solidFill>
                  <a:srgbClr val="292d38"/>
                </a:solidFill>
                <a:latin typeface="Open Sans"/>
              </a:rPr>
              <a:t>Click to edit the title text format</a:t>
            </a:r>
            <a:endParaRPr b="1" lang="en-US" sz="3400" spc="-1" strike="noStrike">
              <a:solidFill>
                <a:srgbClr val="292d38"/>
              </a:solidFill>
              <a:latin typeface="Open Sans"/>
            </a:endParaRPr>
          </a:p>
        </p:txBody>
      </p:sp>
      <p:sp>
        <p:nvSpPr>
          <p:cNvPr id="243" name="PlaceHolder 2"/>
          <p:cNvSpPr>
            <a:spLocks noGrp="1"/>
          </p:cNvSpPr>
          <p:nvPr>
            <p:ph type="body"/>
          </p:nvPr>
        </p:nvSpPr>
        <p:spPr>
          <a:xfrm>
            <a:off x="628560" y="1521000"/>
            <a:ext cx="7886880" cy="3627360"/>
          </a:xfrm>
          <a:prstGeom prst="rect">
            <a:avLst/>
          </a:prstGeom>
          <a:noFill/>
          <a:ln w="0">
            <a:noFill/>
          </a:ln>
        </p:spPr>
        <p:txBody>
          <a:bodyPr lIns="71280" rIns="71280" tIns="35640" bIns="35640" anchor="t">
            <a:normAutofit/>
          </a:bodyPr>
          <a:p>
            <a:pPr marL="1778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Click to edit the outline text format</a:t>
            </a:r>
            <a:endParaRPr b="0" lang="en-US" sz="2200" spc="-1" strike="noStrike">
              <a:solidFill>
                <a:srgbClr val="292d38"/>
              </a:solidFill>
              <a:latin typeface="Open Sans"/>
            </a:endParaRPr>
          </a:p>
          <a:p>
            <a:pPr lvl="1" marL="53352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econd Outline Level</a:t>
            </a:r>
            <a:endParaRPr b="0" lang="en-US" sz="2200" spc="-1" strike="noStrike">
              <a:solidFill>
                <a:srgbClr val="292d38"/>
              </a:solidFill>
              <a:latin typeface="Open Sans"/>
            </a:endParaRPr>
          </a:p>
          <a:p>
            <a:pPr lvl="2" marL="8906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Third Outline Level</a:t>
            </a:r>
            <a:endParaRPr b="0" lang="en-US" sz="2200" spc="-1" strike="noStrike">
              <a:solidFill>
                <a:srgbClr val="292d38"/>
              </a:solidFill>
              <a:latin typeface="Open Sans"/>
            </a:endParaRPr>
          </a:p>
          <a:p>
            <a:pPr lvl="3" marL="124776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Fourth Outline Level</a:t>
            </a:r>
            <a:endParaRPr b="0" lang="en-US" sz="2200" spc="-1" strike="noStrike">
              <a:solidFill>
                <a:srgbClr val="292d38"/>
              </a:solidFill>
              <a:latin typeface="Open Sans"/>
            </a:endParaRPr>
          </a:p>
          <a:p>
            <a:pPr lvl="4" marL="1603440" indent="-177840">
              <a:lnSpc>
                <a:spcPct val="90000"/>
              </a:lnSpc>
              <a:spcBef>
                <a:spcPts val="774"/>
              </a:spcBef>
              <a:buClr>
                <a:srgbClr val="292d38"/>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Fifth Outline Level</a:t>
            </a:r>
            <a:endParaRPr b="0" lang="en-US" sz="2200" spc="-1" strike="noStrike">
              <a:solidFill>
                <a:srgbClr val="292d38"/>
              </a:solidFill>
              <a:latin typeface="Open Sans"/>
            </a:endParaRPr>
          </a:p>
          <a:p>
            <a:pPr lvl="5" marL="1603440" indent="-177840">
              <a:lnSpc>
                <a:spcPct val="90000"/>
              </a:lnSpc>
              <a:spcBef>
                <a:spcPts val="774"/>
              </a:spcBef>
              <a:buClr>
                <a:srgbClr val="000000"/>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ixth Outline Level</a:t>
            </a:r>
            <a:endParaRPr b="0" lang="en-US" sz="2200" spc="-1" strike="noStrike">
              <a:solidFill>
                <a:srgbClr val="292d38"/>
              </a:solidFill>
              <a:latin typeface="Open Sans"/>
            </a:endParaRPr>
          </a:p>
          <a:p>
            <a:pPr lvl="6" marL="1603440" indent="-177840">
              <a:lnSpc>
                <a:spcPct val="90000"/>
              </a:lnSpc>
              <a:spcBef>
                <a:spcPts val="774"/>
              </a:spcBef>
              <a:buClr>
                <a:srgbClr val="000000"/>
              </a:buClr>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2200" spc="-1" strike="noStrike">
                <a:solidFill>
                  <a:srgbClr val="292d38"/>
                </a:solidFill>
                <a:latin typeface="Open Sans"/>
              </a:rPr>
              <a:t>Seventh Outline Level</a:t>
            </a:r>
            <a:endParaRPr b="0" lang="en-US" sz="2200" spc="-1" strike="noStrike">
              <a:solidFill>
                <a:srgbClr val="292d38"/>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757520" y="3058920"/>
            <a:ext cx="5805360" cy="603000"/>
          </a:xfrm>
          <a:prstGeom prst="rect">
            <a:avLst/>
          </a:prstGeom>
          <a:noFill/>
          <a:ln w="0">
            <a:noFill/>
          </a:ln>
        </p:spPr>
        <p:txBody>
          <a:bodyPr lIns="71280" rIns="71280" tIns="35640" bIns="35640" anchor="b">
            <a:noAutofit/>
          </a:bodyPr>
          <a:p>
            <a:pPr indent="0" algn="ctr">
              <a:lnSpc>
                <a:spcPct val="90000"/>
              </a:lnSpc>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400" spc="-1" strike="noStrike">
                <a:solidFill>
                  <a:srgbClr val="42b38f"/>
                </a:solidFill>
                <a:latin typeface="Open Sans"/>
              </a:rPr>
              <a:t>WHITE PAPER WEBINAR</a:t>
            </a:r>
            <a:endParaRPr b="1" lang="en-US" sz="3400" spc="-1" strike="noStrike">
              <a:solidFill>
                <a:srgbClr val="292d38"/>
              </a:solidFill>
              <a:latin typeface="Open Sans"/>
            </a:endParaRPr>
          </a:p>
        </p:txBody>
      </p:sp>
      <p:sp>
        <p:nvSpPr>
          <p:cNvPr id="288" name="PlaceHolder 2"/>
          <p:cNvSpPr>
            <a:spLocks noGrp="1"/>
          </p:cNvSpPr>
          <p:nvPr>
            <p:ph type="subTitle"/>
          </p:nvPr>
        </p:nvSpPr>
        <p:spPr>
          <a:xfrm>
            <a:off x="2503440" y="3854520"/>
            <a:ext cx="4314960" cy="1163520"/>
          </a:xfrm>
          <a:prstGeom prst="rect">
            <a:avLst/>
          </a:prstGeom>
          <a:noFill/>
          <a:ln w="0">
            <a:noFill/>
          </a:ln>
        </p:spPr>
        <p:txBody>
          <a:bodyPr lIns="71280" rIns="71280" tIns="35640" bIns="35640" anchor="t">
            <a:noAutofit/>
          </a:bodyPr>
          <a:p>
            <a:pPr indent="0" algn="ctr">
              <a:lnSpc>
                <a:spcPct val="70000"/>
              </a:lnSpc>
              <a:spcBef>
                <a:spcPts val="774"/>
              </a:spcBef>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1800" spc="-1" strike="noStrike">
                <a:solidFill>
                  <a:srgbClr val="00983f"/>
                </a:solidFill>
                <a:latin typeface="Open Sans"/>
              </a:rPr>
              <a:t>BIOSUPPACK Project</a:t>
            </a:r>
            <a:endParaRPr b="0" lang="en-US" sz="1800" spc="-1" strike="noStrike">
              <a:solidFill>
                <a:srgbClr val="292d38"/>
              </a:solidFill>
              <a:latin typeface="Open Sans"/>
            </a:endParaRPr>
          </a:p>
          <a:p>
            <a:pPr indent="0" algn="ctr">
              <a:lnSpc>
                <a:spcPct val="70000"/>
              </a:lnSpc>
              <a:spcBef>
                <a:spcPts val="774"/>
              </a:spcBef>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0" lang="en-US" sz="1800" spc="-1" strike="noStrike">
              <a:solidFill>
                <a:srgbClr val="292d38"/>
              </a:solidFill>
              <a:latin typeface="Open Sans"/>
            </a:endParaRPr>
          </a:p>
          <a:p>
            <a:pPr indent="0" algn="ctr">
              <a:lnSpc>
                <a:spcPct val="70000"/>
              </a:lnSpc>
              <a:spcBef>
                <a:spcPts val="774"/>
              </a:spcBef>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1800" spc="-1" strike="noStrike">
                <a:solidFill>
                  <a:srgbClr val="79b831"/>
                </a:solidFill>
                <a:latin typeface="Open Sans"/>
              </a:rPr>
              <a:t>Rosa González –AIMPLAS</a:t>
            </a:r>
            <a:endParaRPr b="0" lang="en-US" sz="1800" spc="-1" strike="noStrike">
              <a:solidFill>
                <a:srgbClr val="292d38"/>
              </a:solidFill>
              <a:latin typeface="Open Sans"/>
            </a:endParaRPr>
          </a:p>
          <a:p>
            <a:pPr indent="0" algn="ctr">
              <a:lnSpc>
                <a:spcPct val="70000"/>
              </a:lnSpc>
              <a:spcBef>
                <a:spcPts val="774"/>
              </a:spcBef>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US" sz="1800" spc="-1" strike="noStrike">
                <a:solidFill>
                  <a:srgbClr val="00983f"/>
                </a:solidFill>
                <a:latin typeface="Open Sans"/>
              </a:rPr>
              <a:t>1</a:t>
            </a:r>
            <a:r>
              <a:rPr b="0" lang="en-US" sz="1800" spc="-1" strike="noStrike" baseline="30000">
                <a:solidFill>
                  <a:srgbClr val="00983f"/>
                </a:solidFill>
                <a:latin typeface="Open Sans"/>
              </a:rPr>
              <a:t>st</a:t>
            </a:r>
            <a:r>
              <a:rPr b="0" lang="en-US" sz="1800" spc="-1" strike="noStrike">
                <a:solidFill>
                  <a:srgbClr val="00983f"/>
                </a:solidFill>
                <a:latin typeface="Open Sans"/>
              </a:rPr>
              <a:t> October 2024</a:t>
            </a:r>
            <a:endParaRPr b="0" lang="en-US" sz="1800" spc="-1" strike="noStrike">
              <a:solidFill>
                <a:srgbClr val="292d38"/>
              </a:solidFill>
              <a:latin typeface="Open Sans"/>
            </a:endParaRPr>
          </a:p>
        </p:txBody>
      </p:sp>
      <p:pic>
        <p:nvPicPr>
          <p:cNvPr id="289" name="Picture 2" descr=""/>
          <p:cNvPicPr/>
          <p:nvPr/>
        </p:nvPicPr>
        <p:blipFill>
          <a:blip r:embed="rId1"/>
          <a:stretch/>
        </p:blipFill>
        <p:spPr>
          <a:xfrm>
            <a:off x="3938760" y="122400"/>
            <a:ext cx="995040" cy="1141200"/>
          </a:xfrm>
          <a:prstGeom prst="rect">
            <a:avLst/>
          </a:prstGeom>
          <a:ln w="0">
            <a:noFill/>
          </a:ln>
        </p:spPr>
      </p:pic>
      <p:sp>
        <p:nvSpPr>
          <p:cNvPr id="290" name="Título 1"/>
          <p:cNvSpPr/>
          <p:nvPr/>
        </p:nvSpPr>
        <p:spPr>
          <a:xfrm>
            <a:off x="2151000" y="1162080"/>
            <a:ext cx="4842000" cy="13939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9e80"/>
                </a:solidFill>
                <a:latin typeface="Calibri Light"/>
                <a:ea typeface="Segoe UI Black"/>
              </a:rPr>
              <a:t>Demonstrative process for the production and enzymatic recycling of environmentally safe, superior and versatile PHA-based rigid packaging solutions by plasma integration in the value chain.</a:t>
            </a:r>
            <a:br>
              <a:rPr sz="1200"/>
            </a:b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129e80"/>
                </a:solidFill>
                <a:latin typeface="Calibri Light"/>
                <a:ea typeface="Segoe UI Black"/>
              </a:rPr>
              <a:t>H2020-BBI-JTI-2020</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129e80"/>
                </a:solidFill>
                <a:latin typeface="Calibri Light"/>
                <a:ea typeface="Segoe UI Black"/>
              </a:rPr>
              <a:t>GA 101023685</a:t>
            </a:r>
            <a:endParaRPr b="0" lang="en-US" sz="1200" spc="-1" strike="noStrike">
              <a:solidFill>
                <a:srgbClr val="000000"/>
              </a:solidFill>
              <a:latin typeface="Arial"/>
            </a:endParaRPr>
          </a:p>
        </p:txBody>
      </p:sp>
      <p:pic>
        <p:nvPicPr>
          <p:cNvPr id="291" name="Picture 3" descr=""/>
          <p:cNvPicPr/>
          <p:nvPr/>
        </p:nvPicPr>
        <p:blipFill>
          <a:blip r:embed="rId2"/>
          <a:stretch/>
        </p:blipFill>
        <p:spPr>
          <a:xfrm>
            <a:off x="237960" y="4665600"/>
            <a:ext cx="2583000" cy="104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50560" y="97920"/>
            <a:ext cx="6607080" cy="358920"/>
          </a:xfrm>
          <a:prstGeom prst="rect">
            <a:avLst/>
          </a:prstGeom>
          <a:noFill/>
          <a:ln w="0">
            <a:noFill/>
          </a:ln>
        </p:spPr>
        <p:txBody>
          <a:bodyPr anchor="ctr">
            <a:noAutofit/>
          </a:bodyPr>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95959"/>
                </a:solidFill>
                <a:latin typeface="Calibri"/>
              </a:rPr>
              <a:t>1. BIOSUPPACK PROJECT</a:t>
            </a:r>
            <a:endParaRPr b="1" lang="en-US" sz="1800" spc="-1" strike="noStrike">
              <a:solidFill>
                <a:srgbClr val="595959"/>
              </a:solidFill>
              <a:latin typeface="Calibri"/>
            </a:endParaRPr>
          </a:p>
        </p:txBody>
      </p:sp>
      <p:sp>
        <p:nvSpPr>
          <p:cNvPr id="293" name="Segnaposto numero diapositiva 14"/>
          <p:cNvSpPr/>
          <p:nvPr/>
        </p:nvSpPr>
        <p:spPr>
          <a:xfrm>
            <a:off x="658332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35C6-99CB-4FDA-BF33-75EB3F9D1251}"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294" name="Segnaposto piè di pagina 3"/>
          <p:cNvSpPr/>
          <p:nvPr/>
        </p:nvSpPr>
        <p:spPr>
          <a:xfrm>
            <a:off x="3154320" y="5454720"/>
            <a:ext cx="3429000" cy="23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White Paper Webinar – BIOSUPPACK project</a:t>
            </a:r>
            <a:endParaRPr b="0" lang="en-US" sz="1200" spc="-1" strike="noStrike">
              <a:solidFill>
                <a:srgbClr val="000000"/>
              </a:solidFill>
              <a:latin typeface="Arial"/>
            </a:endParaRPr>
          </a:p>
        </p:txBody>
      </p:sp>
      <p:sp>
        <p:nvSpPr>
          <p:cNvPr id="295" name="CuadroTexto 3"/>
          <p:cNvSpPr/>
          <p:nvPr/>
        </p:nvSpPr>
        <p:spPr>
          <a:xfrm>
            <a:off x="184320" y="887400"/>
            <a:ext cx="32684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liver </a:t>
            </a:r>
            <a:r>
              <a:rPr b="1" i="1" lang="en-US" sz="1400" spc="-1" strike="noStrike">
                <a:solidFill>
                  <a:srgbClr val="000000"/>
                </a:solidFill>
                <a:latin typeface="Arial"/>
              </a:rPr>
              <a:t>novel, cost-competitive and versatile bio-based packaging </a:t>
            </a:r>
            <a:r>
              <a:rPr b="0" lang="en-US" sz="1400" spc="-1" strike="noStrike">
                <a:solidFill>
                  <a:srgbClr val="000000"/>
                </a:solidFill>
                <a:latin typeface="Arial"/>
              </a:rPr>
              <a:t>solutions based on </a:t>
            </a:r>
            <a:r>
              <a:rPr b="1" i="1" lang="en-US" sz="1400" spc="-1" strike="noStrike">
                <a:solidFill>
                  <a:srgbClr val="000000"/>
                </a:solidFill>
                <a:latin typeface="Arial"/>
              </a:rPr>
              <a:t>PHA</a:t>
            </a:r>
            <a:r>
              <a:rPr b="0" lang="en-US" sz="1400" spc="-1" strike="noStrike">
                <a:solidFill>
                  <a:srgbClr val="000000"/>
                </a:solidFill>
                <a:latin typeface="Arial"/>
              </a:rPr>
              <a:t>, that demonstrate </a:t>
            </a:r>
            <a:r>
              <a:rPr b="1" i="1" lang="en-US" sz="1400" spc="-1" strike="noStrike">
                <a:solidFill>
                  <a:srgbClr val="000000"/>
                </a:solidFill>
                <a:latin typeface="Arial"/>
              </a:rPr>
              <a:t>high-performance</a:t>
            </a:r>
            <a:r>
              <a:rPr b="0" lang="en-US" sz="1400" spc="-1" strike="noStrike">
                <a:solidFill>
                  <a:srgbClr val="000000"/>
                </a:solidFill>
                <a:latin typeface="Arial"/>
              </a:rPr>
              <a:t> for the packaging of </a:t>
            </a:r>
            <a:r>
              <a:rPr b="1" i="1" lang="en-US" sz="1400" spc="-1" strike="noStrike">
                <a:solidFill>
                  <a:srgbClr val="000000"/>
                </a:solidFill>
                <a:latin typeface="Arial"/>
              </a:rPr>
              <a:t>food, cosmetics, homecare and beverage products</a:t>
            </a:r>
            <a:r>
              <a:rPr b="0" lang="en-US" sz="1400" spc="-1" strike="noStrike">
                <a:solidFill>
                  <a:srgbClr val="000000"/>
                </a:solidFill>
                <a:latin typeface="Arial"/>
              </a:rPr>
              <a:t> as well as </a:t>
            </a:r>
            <a:r>
              <a:rPr b="1" i="1" lang="en-US" sz="1400" spc="-1" strike="noStrike">
                <a:solidFill>
                  <a:srgbClr val="000000"/>
                </a:solidFill>
                <a:latin typeface="Arial"/>
              </a:rPr>
              <a:t>no environmental damage </a:t>
            </a:r>
            <a:r>
              <a:rPr b="0" lang="en-US" sz="1400" spc="-1" strike="noStrike">
                <a:solidFill>
                  <a:srgbClr val="000000"/>
                </a:solidFill>
                <a:latin typeface="Arial"/>
              </a:rPr>
              <a:t>during and after their use.</a:t>
            </a:r>
            <a:endParaRPr b="0" lang="en-US" sz="1400" spc="-1" strike="noStrike">
              <a:solidFill>
                <a:srgbClr val="000000"/>
              </a:solidFill>
              <a:latin typeface="Arial"/>
            </a:endParaRPr>
          </a:p>
        </p:txBody>
      </p:sp>
      <p:sp>
        <p:nvSpPr>
          <p:cNvPr id="296" name="CuadroTexto 4"/>
          <p:cNvSpPr/>
          <p:nvPr/>
        </p:nvSpPr>
        <p:spPr>
          <a:xfrm>
            <a:off x="184320" y="2914560"/>
            <a:ext cx="8888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ying with the </a:t>
            </a:r>
            <a:r>
              <a:rPr b="1" i="1" lang="en-US" sz="1400" spc="-1" strike="noStrike">
                <a:solidFill>
                  <a:srgbClr val="000000"/>
                </a:solidFill>
                <a:latin typeface="Arial"/>
              </a:rPr>
              <a:t>industry needs </a:t>
            </a:r>
            <a:r>
              <a:rPr b="0" lang="en-US" sz="1400" spc="-1" strike="noStrike">
                <a:solidFill>
                  <a:srgbClr val="000000"/>
                </a:solidFill>
                <a:latin typeface="Arial"/>
              </a:rPr>
              <a:t>(cost/performance competitive vs. fossil-based non-biodegradable counterparts and legislative compliance), as well as with </a:t>
            </a:r>
            <a:r>
              <a:rPr b="1" i="1" lang="en-US" sz="1400" spc="-1" strike="noStrike">
                <a:solidFill>
                  <a:srgbClr val="000000"/>
                </a:solidFill>
                <a:latin typeface="Arial"/>
              </a:rPr>
              <a:t>consumers´ awarenes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SupPack will have a </a:t>
            </a:r>
            <a:r>
              <a:rPr b="1" i="1" lang="en-US" sz="1400" spc="-1" strike="noStrike">
                <a:solidFill>
                  <a:srgbClr val="000000"/>
                </a:solidFill>
                <a:latin typeface="Arial"/>
              </a:rPr>
              <a:t>great impact </a:t>
            </a:r>
            <a:r>
              <a:rPr b="0" lang="en-US" sz="1400" spc="-1" strike="noStrike">
                <a:solidFill>
                  <a:srgbClr val="000000"/>
                </a:solidFill>
                <a:latin typeface="Arial"/>
              </a:rPr>
              <a:t>on EU bioplastics &amp; end users’ sectors, the biorefineries and biotechnology industries and on the society.</a:t>
            </a:r>
            <a:endParaRPr b="0" lang="en-US" sz="1400" spc="-1" strike="noStrike">
              <a:solidFill>
                <a:srgbClr val="000000"/>
              </a:solidFill>
              <a:latin typeface="Arial"/>
            </a:endParaRPr>
          </a:p>
        </p:txBody>
      </p:sp>
      <p:pic>
        <p:nvPicPr>
          <p:cNvPr id="297" name="Imagen 5" descr=""/>
          <p:cNvPicPr/>
          <p:nvPr/>
        </p:nvPicPr>
        <p:blipFill>
          <a:blip r:embed="rId1"/>
          <a:stretch/>
        </p:blipFill>
        <p:spPr>
          <a:xfrm>
            <a:off x="3338640" y="903240"/>
            <a:ext cx="5621040" cy="1728720"/>
          </a:xfrm>
          <a:prstGeom prst="rect">
            <a:avLst/>
          </a:prstGeom>
          <a:ln w="0">
            <a:noFill/>
          </a:ln>
        </p:spPr>
      </p:pic>
      <p:grpSp>
        <p:nvGrpSpPr>
          <p:cNvPr id="298" name="Grupo 6"/>
          <p:cNvGrpSpPr/>
          <p:nvPr/>
        </p:nvGrpSpPr>
        <p:grpSpPr>
          <a:xfrm>
            <a:off x="250920" y="4345200"/>
            <a:ext cx="8466120" cy="780840"/>
            <a:chOff x="250920" y="4345200"/>
            <a:chExt cx="8466120" cy="780840"/>
          </a:xfrm>
        </p:grpSpPr>
        <p:sp>
          <p:nvSpPr>
            <p:cNvPr id="299" name="CuadroTexto 7"/>
            <p:cNvSpPr/>
            <p:nvPr/>
          </p:nvSpPr>
          <p:spPr>
            <a:xfrm>
              <a:off x="250920" y="4472640"/>
              <a:ext cx="5618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ew biobased packaging solutions from BS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zymatic recycling of future packaging waste</a:t>
              </a:r>
              <a:endParaRPr b="0" lang="en-US" sz="1400" spc="-1" strike="noStrike">
                <a:solidFill>
                  <a:srgbClr val="000000"/>
                </a:solidFill>
                <a:latin typeface="Arial"/>
              </a:endParaRPr>
            </a:p>
          </p:txBody>
        </p:sp>
        <p:sp>
          <p:nvSpPr>
            <p:cNvPr id="300" name="CuadroTexto 8"/>
            <p:cNvSpPr/>
            <p:nvPr/>
          </p:nvSpPr>
          <p:spPr>
            <a:xfrm>
              <a:off x="5135400" y="4577040"/>
              <a:ext cx="3581640" cy="307080"/>
            </a:xfrm>
            <a:prstGeom prst="rect">
              <a:avLst/>
            </a:prstGeom>
            <a:solidFill>
              <a:srgbClr val="92d050">
                <a:alpha val="27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reation of a new value chain</a:t>
              </a:r>
              <a:endParaRPr b="0" lang="en-US" sz="1400" spc="-1" strike="noStrike">
                <a:solidFill>
                  <a:srgbClr val="000000"/>
                </a:solidFill>
                <a:latin typeface="Arial"/>
              </a:endParaRPr>
            </a:p>
          </p:txBody>
        </p:sp>
        <p:pic>
          <p:nvPicPr>
            <p:cNvPr id="301" name="Imagen 9" descr=""/>
            <p:cNvPicPr/>
            <p:nvPr/>
          </p:nvPicPr>
          <p:blipFill>
            <a:blip r:embed="rId2"/>
            <a:stretch/>
          </p:blipFill>
          <p:spPr>
            <a:xfrm rot="2701800">
              <a:off x="4233240" y="4457880"/>
              <a:ext cx="549360" cy="5547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97920"/>
            <a:ext cx="6607080" cy="358920"/>
          </a:xfrm>
          <a:prstGeom prst="rect">
            <a:avLst/>
          </a:prstGeom>
          <a:noFill/>
          <a:ln w="0">
            <a:noFill/>
          </a:ln>
        </p:spPr>
        <p:txBody>
          <a:bodyPr anchor="ctr">
            <a:noAutofit/>
          </a:bodyPr>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95959"/>
                </a:solidFill>
                <a:latin typeface="Calibri"/>
              </a:rPr>
              <a:t>1. BIOSUPPACK PROJECT</a:t>
            </a:r>
            <a:endParaRPr b="1" lang="en-US" sz="1800" spc="-1" strike="noStrike">
              <a:solidFill>
                <a:srgbClr val="595959"/>
              </a:solidFill>
              <a:latin typeface="Calibri"/>
            </a:endParaRPr>
          </a:p>
        </p:txBody>
      </p:sp>
      <p:sp>
        <p:nvSpPr>
          <p:cNvPr id="303" name="Segnaposto numero diapositiva 14"/>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C63A-313A-4DC9-B3AF-9ADC3EE47D59}"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304" name="Segnaposto piè di pagina 3"/>
          <p:cNvSpPr/>
          <p:nvPr/>
        </p:nvSpPr>
        <p:spPr>
          <a:xfrm>
            <a:off x="3313080" y="5446800"/>
            <a:ext cx="342900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White Paper Webinar – BIOSUPPACK project</a:t>
            </a:r>
            <a:endParaRPr b="0" lang="en-US" sz="1200" spc="-1" strike="noStrike">
              <a:solidFill>
                <a:srgbClr val="000000"/>
              </a:solidFill>
              <a:latin typeface="Arial"/>
            </a:endParaRPr>
          </a:p>
        </p:txBody>
      </p:sp>
      <p:pic>
        <p:nvPicPr>
          <p:cNvPr id="305" name="Imagen 2" descr=""/>
          <p:cNvPicPr/>
          <p:nvPr/>
        </p:nvPicPr>
        <p:blipFill>
          <a:blip r:embed="rId1"/>
          <a:stretch/>
        </p:blipFill>
        <p:spPr>
          <a:xfrm>
            <a:off x="141120" y="957240"/>
            <a:ext cx="886176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50560" y="97920"/>
            <a:ext cx="6607080" cy="358920"/>
          </a:xfrm>
          <a:prstGeom prst="rect">
            <a:avLst/>
          </a:prstGeom>
          <a:noFill/>
          <a:ln w="0">
            <a:noFill/>
          </a:ln>
        </p:spPr>
        <p:txBody>
          <a:bodyPr anchor="ctr">
            <a:noAutofit/>
          </a:bodyPr>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95959"/>
                </a:solidFill>
                <a:latin typeface="Calibri"/>
              </a:rPr>
              <a:t>2. BIOSUPPACK CHALLENGES</a:t>
            </a:r>
            <a:endParaRPr b="1" lang="en-US" sz="1800" spc="-1" strike="noStrike">
              <a:solidFill>
                <a:srgbClr val="595959"/>
              </a:solidFill>
              <a:latin typeface="Calibri"/>
            </a:endParaRPr>
          </a:p>
        </p:txBody>
      </p:sp>
      <p:sp>
        <p:nvSpPr>
          <p:cNvPr id="307" name="Segnaposto numero diapositiva 14"/>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C022-E48C-46CB-B4FF-3E8F6C0919EF}"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308" name="Segnaposto piè di pagina 3"/>
          <p:cNvSpPr/>
          <p:nvPr/>
        </p:nvSpPr>
        <p:spPr>
          <a:xfrm>
            <a:off x="3054240" y="5467320"/>
            <a:ext cx="3429000" cy="2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White Paper Webinar – BIOSUPPACK project</a:t>
            </a:r>
            <a:endParaRPr b="0" lang="en-US" sz="1200" spc="-1" strike="noStrike">
              <a:solidFill>
                <a:srgbClr val="000000"/>
              </a:solidFill>
              <a:latin typeface="Arial"/>
            </a:endParaRPr>
          </a:p>
        </p:txBody>
      </p:sp>
      <p:sp>
        <p:nvSpPr>
          <p:cNvPr id="309" name="CuadroTexto 4"/>
          <p:cNvSpPr/>
          <p:nvPr/>
        </p:nvSpPr>
        <p:spPr>
          <a:xfrm>
            <a:off x="4362480" y="1411200"/>
            <a:ext cx="57276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ew Spent Grains (BS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bundant by-product from the brewery industr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at low or no cos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in large quantities around Europ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use as a feedstock: </a:t>
            </a:r>
            <a:endParaRPr b="0" lang="en-US" sz="1200" spc="-1" strike="noStrike">
              <a:solidFill>
                <a:srgbClr val="000000"/>
              </a:solidFill>
              <a:latin typeface="Arial"/>
            </a:endParaRPr>
          </a:p>
          <a:p>
            <a:pPr lvl="1" marL="64152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imal feed (70%), bioethanol (10%), </a:t>
            </a:r>
            <a:r>
              <a:rPr b="0" i="1" lang="en-US" sz="1200" spc="-1" strike="noStrike" u="sng">
                <a:solidFill>
                  <a:srgbClr val="000000"/>
                </a:solidFill>
                <a:uFillTx/>
                <a:latin typeface="Arial"/>
                <a:ea typeface="Arial"/>
              </a:rPr>
              <a:t>landfilled (20%)</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sing candidate as a PHA feedstock</a:t>
            </a:r>
            <a:endParaRPr b="0" lang="en-US" sz="1200" spc="-1" strike="noStrike">
              <a:solidFill>
                <a:srgbClr val="000000"/>
              </a:solidFill>
              <a:latin typeface="Arial"/>
            </a:endParaRPr>
          </a:p>
        </p:txBody>
      </p:sp>
      <p:sp>
        <p:nvSpPr>
          <p:cNvPr id="310" name="CuadroTexto 7"/>
          <p:cNvSpPr/>
          <p:nvPr/>
        </p:nvSpPr>
        <p:spPr>
          <a:xfrm>
            <a:off x="250920" y="797040"/>
            <a:ext cx="8781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Use of spent organic materials: </a:t>
            </a:r>
            <a:r>
              <a:rPr b="0" lang="en-US" sz="1400" spc="-1" strike="noStrike">
                <a:solidFill>
                  <a:srgbClr val="000000"/>
                </a:solidFill>
                <a:latin typeface="Arial"/>
              </a:rPr>
              <a:t>to reach an industrial level of </a:t>
            </a:r>
            <a:r>
              <a:rPr b="1" i="1" lang="en-US" sz="1400" spc="-1" strike="noStrike">
                <a:solidFill>
                  <a:srgbClr val="000000"/>
                </a:solidFill>
                <a:latin typeface="Arial"/>
              </a:rPr>
              <a:t>market potential </a:t>
            </a:r>
            <a:r>
              <a:rPr b="0" lang="en-US" sz="1400" spc="-1" strike="noStrike">
                <a:solidFill>
                  <a:srgbClr val="000000"/>
                </a:solidFill>
                <a:latin typeface="Arial"/>
              </a:rPr>
              <a:t>related to a value hierarchy</a:t>
            </a:r>
            <a:endParaRPr b="0" lang="en-US" sz="1400" spc="-1" strike="noStrike">
              <a:solidFill>
                <a:srgbClr val="000000"/>
              </a:solidFill>
              <a:latin typeface="Arial"/>
            </a:endParaRPr>
          </a:p>
        </p:txBody>
      </p:sp>
      <p:sp>
        <p:nvSpPr>
          <p:cNvPr id="311" name="CuadroTexto 8"/>
          <p:cNvSpPr/>
          <p:nvPr/>
        </p:nvSpPr>
        <p:spPr>
          <a:xfrm>
            <a:off x="328680" y="3608280"/>
            <a:ext cx="412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b050"/>
                </a:solidFill>
                <a:latin typeface="Arial"/>
              </a:rPr>
              <a:t>Biosuppack influences the whole value chain but also creates new ones.</a:t>
            </a:r>
            <a:endParaRPr b="0" lang="en-US" sz="1400" spc="-1" strike="noStrike">
              <a:solidFill>
                <a:srgbClr val="000000"/>
              </a:solidFill>
              <a:latin typeface="Arial"/>
            </a:endParaRPr>
          </a:p>
        </p:txBody>
      </p:sp>
      <p:pic>
        <p:nvPicPr>
          <p:cNvPr id="312" name="Imagen 9" descr=""/>
          <p:cNvPicPr/>
          <p:nvPr/>
        </p:nvPicPr>
        <p:blipFill>
          <a:blip r:embed="rId1"/>
          <a:stretch/>
        </p:blipFill>
        <p:spPr>
          <a:xfrm>
            <a:off x="4389480" y="3105000"/>
            <a:ext cx="4327560" cy="2251080"/>
          </a:xfrm>
          <a:prstGeom prst="rect">
            <a:avLst/>
          </a:prstGeom>
          <a:ln w="0">
            <a:noFill/>
          </a:ln>
        </p:spPr>
      </p:pic>
      <p:grpSp>
        <p:nvGrpSpPr>
          <p:cNvPr id="313" name="Grupo 11"/>
          <p:cNvGrpSpPr/>
          <p:nvPr/>
        </p:nvGrpSpPr>
        <p:grpSpPr>
          <a:xfrm>
            <a:off x="1114560" y="1306440"/>
            <a:ext cx="2936880" cy="1892520"/>
            <a:chOff x="1114560" y="1306440"/>
            <a:chExt cx="2936880" cy="1892520"/>
          </a:xfrm>
        </p:grpSpPr>
        <p:pic>
          <p:nvPicPr>
            <p:cNvPr id="314" name="Imagen 5" descr=""/>
            <p:cNvPicPr/>
            <p:nvPr/>
          </p:nvPicPr>
          <p:blipFill>
            <a:blip r:embed="rId2"/>
            <a:stretch/>
          </p:blipFill>
          <p:spPr>
            <a:xfrm>
              <a:off x="1114560" y="1306440"/>
              <a:ext cx="2936880" cy="1892520"/>
            </a:xfrm>
            <a:prstGeom prst="rect">
              <a:avLst/>
            </a:prstGeom>
            <a:ln w="0">
              <a:noFill/>
            </a:ln>
          </p:spPr>
        </p:pic>
        <p:sp>
          <p:nvSpPr>
            <p:cNvPr id="315" name="Elipse 10"/>
            <p:cNvSpPr/>
            <p:nvPr/>
          </p:nvSpPr>
          <p:spPr>
            <a:xfrm>
              <a:off x="2949840" y="1904760"/>
              <a:ext cx="1101600" cy="255600"/>
            </a:xfrm>
            <a:prstGeom prst="ellipse">
              <a:avLst/>
            </a:prstGeom>
            <a:noFill/>
            <a:ln w="25560">
              <a:solidFill>
                <a:srgbClr val="1c33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1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50560" y="97920"/>
            <a:ext cx="6607080" cy="358920"/>
          </a:xfrm>
          <a:prstGeom prst="rect">
            <a:avLst/>
          </a:prstGeom>
          <a:noFill/>
          <a:ln w="0">
            <a:noFill/>
          </a:ln>
        </p:spPr>
        <p:txBody>
          <a:bodyPr anchor="ctr">
            <a:noAutofit/>
          </a:bodyPr>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95959"/>
                </a:solidFill>
                <a:latin typeface="Calibri"/>
              </a:rPr>
              <a:t>2. BIOSUPPACK CHALLENGES</a:t>
            </a:r>
            <a:endParaRPr b="1" lang="en-US" sz="1800" spc="-1" strike="noStrike">
              <a:solidFill>
                <a:srgbClr val="595959"/>
              </a:solidFill>
              <a:latin typeface="Calibri"/>
            </a:endParaRPr>
          </a:p>
        </p:txBody>
      </p:sp>
      <p:sp>
        <p:nvSpPr>
          <p:cNvPr id="317" name="Segnaposto numero diapositiva 14"/>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36B3-7CB8-4B99-BD4C-4E625769FC9C}"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318" name="Segnaposto piè di pagina 3"/>
          <p:cNvSpPr/>
          <p:nvPr/>
        </p:nvSpPr>
        <p:spPr>
          <a:xfrm>
            <a:off x="3054240" y="5467320"/>
            <a:ext cx="3429000" cy="2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White Paper Webinar – BIOSUPPACK project</a:t>
            </a:r>
            <a:endParaRPr b="0" lang="en-US" sz="1200" spc="-1" strike="noStrike">
              <a:solidFill>
                <a:srgbClr val="000000"/>
              </a:solidFill>
              <a:latin typeface="Arial"/>
            </a:endParaRPr>
          </a:p>
        </p:txBody>
      </p:sp>
      <p:sp>
        <p:nvSpPr>
          <p:cNvPr id="319" name="CuadroTexto 7"/>
          <p:cNvSpPr/>
          <p:nvPr/>
        </p:nvSpPr>
        <p:spPr>
          <a:xfrm>
            <a:off x="406440" y="782640"/>
            <a:ext cx="8324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Technical/Economic challenges related to the project inno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 efficiency, high-performing biobased produ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Social acceptance of new biobased produ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Logistics to ensure circular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stock collection and availability, sorting efficiency for recycling.</a:t>
            </a:r>
            <a:endParaRPr b="0" lang="en-US" sz="1400" spc="-1" strike="noStrike">
              <a:solidFill>
                <a:srgbClr val="000000"/>
              </a:solidFill>
              <a:latin typeface="Arial"/>
            </a:endParaRPr>
          </a:p>
        </p:txBody>
      </p:sp>
      <p:sp>
        <p:nvSpPr>
          <p:cNvPr id="320" name="CuadroTexto 8"/>
          <p:cNvSpPr/>
          <p:nvPr/>
        </p:nvSpPr>
        <p:spPr>
          <a:xfrm>
            <a:off x="406440" y="2533680"/>
            <a:ext cx="828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b050"/>
                </a:solidFill>
                <a:latin typeface="Arial"/>
              </a:rPr>
              <a:t>Success for a real contribution to current Regulations/Policies - Sustainability</a:t>
            </a:r>
            <a:endParaRPr b="0" lang="en-US" sz="1400" spc="-1" strike="noStrike">
              <a:solidFill>
                <a:srgbClr val="000000"/>
              </a:solidFill>
              <a:latin typeface="Arial"/>
            </a:endParaRPr>
          </a:p>
        </p:txBody>
      </p:sp>
      <p:pic>
        <p:nvPicPr>
          <p:cNvPr id="321" name="Imagen 2" descr=""/>
          <p:cNvPicPr/>
          <p:nvPr/>
        </p:nvPicPr>
        <p:blipFill>
          <a:blip r:embed="rId1"/>
          <a:stretch/>
        </p:blipFill>
        <p:spPr>
          <a:xfrm>
            <a:off x="2890800" y="3013200"/>
            <a:ext cx="2208240" cy="1110960"/>
          </a:xfrm>
          <a:prstGeom prst="rect">
            <a:avLst/>
          </a:prstGeom>
          <a:ln w="0">
            <a:noFill/>
          </a:ln>
        </p:spPr>
      </p:pic>
      <p:pic>
        <p:nvPicPr>
          <p:cNvPr id="322" name="Imagen 3" descr=""/>
          <p:cNvPicPr/>
          <p:nvPr/>
        </p:nvPicPr>
        <p:blipFill>
          <a:blip r:embed="rId2"/>
          <a:stretch/>
        </p:blipFill>
        <p:spPr>
          <a:xfrm>
            <a:off x="6723000" y="2928960"/>
            <a:ext cx="2289240" cy="1608120"/>
          </a:xfrm>
          <a:prstGeom prst="rect">
            <a:avLst/>
          </a:prstGeom>
          <a:ln w="0">
            <a:noFill/>
          </a:ln>
        </p:spPr>
      </p:pic>
      <p:pic>
        <p:nvPicPr>
          <p:cNvPr id="323" name="Imagen 6" descr=""/>
          <p:cNvPicPr/>
          <p:nvPr/>
        </p:nvPicPr>
        <p:blipFill>
          <a:blip r:embed="rId3"/>
          <a:stretch/>
        </p:blipFill>
        <p:spPr>
          <a:xfrm>
            <a:off x="527040" y="3014640"/>
            <a:ext cx="1998720" cy="1197000"/>
          </a:xfrm>
          <a:prstGeom prst="rect">
            <a:avLst/>
          </a:prstGeom>
          <a:ln w="0">
            <a:noFill/>
          </a:ln>
        </p:spPr>
      </p:pic>
      <p:pic>
        <p:nvPicPr>
          <p:cNvPr id="324" name="Imagen 12" descr=""/>
          <p:cNvPicPr/>
          <p:nvPr/>
        </p:nvPicPr>
        <p:blipFill>
          <a:blip r:embed="rId4"/>
          <a:stretch/>
        </p:blipFill>
        <p:spPr>
          <a:xfrm>
            <a:off x="5099040" y="3798720"/>
            <a:ext cx="1579680" cy="1582920"/>
          </a:xfrm>
          <a:prstGeom prst="rect">
            <a:avLst/>
          </a:prstGeom>
          <a:ln w="0">
            <a:noFill/>
          </a:ln>
        </p:spPr>
      </p:pic>
      <p:pic>
        <p:nvPicPr>
          <p:cNvPr id="325" name="Imagen 13" descr=""/>
          <p:cNvPicPr/>
          <p:nvPr/>
        </p:nvPicPr>
        <p:blipFill>
          <a:blip r:embed="rId5"/>
          <a:stretch/>
        </p:blipFill>
        <p:spPr>
          <a:xfrm>
            <a:off x="406440" y="4549680"/>
            <a:ext cx="2119320" cy="338400"/>
          </a:xfrm>
          <a:prstGeom prst="rect">
            <a:avLst/>
          </a:prstGeom>
          <a:ln w="0">
            <a:noFill/>
          </a:ln>
        </p:spPr>
      </p:pic>
      <p:pic>
        <p:nvPicPr>
          <p:cNvPr id="326" name="Imagen 14" descr=""/>
          <p:cNvPicPr/>
          <p:nvPr/>
        </p:nvPicPr>
        <p:blipFill>
          <a:blip r:embed="rId6"/>
          <a:stretch/>
        </p:blipFill>
        <p:spPr>
          <a:xfrm>
            <a:off x="2592360" y="4395960"/>
            <a:ext cx="1054080" cy="984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97920"/>
            <a:ext cx="6607080" cy="358920"/>
          </a:xfrm>
          <a:prstGeom prst="rect">
            <a:avLst/>
          </a:prstGeom>
          <a:noFill/>
          <a:ln w="0">
            <a:noFill/>
          </a:ln>
        </p:spPr>
        <p:txBody>
          <a:bodyPr anchor="ctr">
            <a:noAutofit/>
          </a:bodyPr>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95959"/>
                </a:solidFill>
                <a:latin typeface="Calibri"/>
              </a:rPr>
              <a:t>3. FUTURE RECOMMENDATIONS</a:t>
            </a:r>
            <a:endParaRPr b="1" lang="en-US" sz="1800" spc="-1" strike="noStrike">
              <a:solidFill>
                <a:srgbClr val="595959"/>
              </a:solidFill>
              <a:latin typeface="Calibri"/>
            </a:endParaRPr>
          </a:p>
        </p:txBody>
      </p:sp>
      <p:sp>
        <p:nvSpPr>
          <p:cNvPr id="328" name="Segnaposto numero diapositiva 14"/>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6F11-48EE-4D95-BF47-0E6B678CA0B1}"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329" name="Segnaposto piè di pagina 3"/>
          <p:cNvSpPr/>
          <p:nvPr/>
        </p:nvSpPr>
        <p:spPr>
          <a:xfrm>
            <a:off x="3054240" y="5467320"/>
            <a:ext cx="3429000" cy="2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White Paper Webinar – BIOSUPPACK project</a:t>
            </a:r>
            <a:endParaRPr b="0" lang="en-US" sz="1200" spc="-1" strike="noStrike">
              <a:solidFill>
                <a:srgbClr val="000000"/>
              </a:solidFill>
              <a:latin typeface="Arial"/>
            </a:endParaRPr>
          </a:p>
        </p:txBody>
      </p:sp>
      <p:sp>
        <p:nvSpPr>
          <p:cNvPr id="330" name="CuadroTexto 7"/>
          <p:cNvSpPr/>
          <p:nvPr/>
        </p:nvSpPr>
        <p:spPr>
          <a:xfrm>
            <a:off x="525600" y="1238400"/>
            <a:ext cx="832464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Investment in infrastructure for introduction and implementation of project inno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stock pre-treatment, biotechnology processes efficiency, sorting of novel waste streams, enzymatic recycl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Support for optimization of logistic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Support for scaling-up of novel technolog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Work on uncertainties about biobased materials performance, price and legislative frame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Imagen 831007621" descr="Un dibujo animado con letras&#10;&#10;Descripción generada automáticamente con confianza media"/>
          <p:cNvPicPr/>
          <p:nvPr/>
        </p:nvPicPr>
        <p:blipFill>
          <a:blip r:embed="rId1"/>
          <a:stretch/>
        </p:blipFill>
        <p:spPr>
          <a:xfrm>
            <a:off x="5891040" y="3867120"/>
            <a:ext cx="865440" cy="43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16:57:11Z</dcterms:created>
  <dc:creator>ENCO</dc:creator>
  <dc:description/>
  <dc:language>en-US</dc:language>
  <cp:lastModifiedBy>Rosa Matilde González Leyba AIMPLAS</cp:lastModifiedBy>
  <dcterms:modified xsi:type="dcterms:W3CDTF">2024-09-30T17:05:30Z</dcterms:modified>
  <cp:revision>362</cp:revision>
  <dc:subject/>
  <dc:title>BIOSUPPACK pp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