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F79A-1C97-44D1-AF3A-637FFE0DC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5178960"/>
            <a:ext cx="60008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4C2B-D1A5-4A2C-8B39-79FE9188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31960" y="167652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517896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31960" y="517896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3427-AC61-4441-8B5C-D7001D675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19321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85800" y="1676520"/>
            <a:ext cx="19321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15120" y="1676520"/>
            <a:ext cx="19321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5178960"/>
            <a:ext cx="19321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485800" y="5178960"/>
            <a:ext cx="19321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515120" y="5178960"/>
            <a:ext cx="19321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1724-AF26-4FF7-8AB6-16B5720A8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5658-9B44-4320-B3B4-31CE28E1A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5162-14AB-493A-9F72-C2249D41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E986-3BB9-400A-8C15-6FF8577B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9282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1960" y="1676520"/>
            <a:ext cx="29282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0D3FB-9CE6-42A2-AF50-DB3C3AFB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F94C-1390-4D40-AF35-A88815AA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380520"/>
            <a:ext cx="6000840" cy="41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0FEE-8241-4226-BC88-E004BFEF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31960" y="1676520"/>
            <a:ext cx="29282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517896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3AAF-45A1-4BB6-9AF8-54ADB1E3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D46D-6DD7-4F4A-84EC-37F36A05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9282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31960" y="167652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531960" y="517896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057E-F70C-4254-A9A8-C2EEB3B1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31960" y="167652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5178960"/>
            <a:ext cx="60008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301B-6372-46F8-BDF7-21611717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5178960"/>
            <a:ext cx="60008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8CE5-C691-49F0-9D43-8832128D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31960" y="167652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517896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531960" y="517896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BCEA-F72E-434B-9F5E-75B57DA4B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19321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485800" y="1676520"/>
            <a:ext cx="19321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15120" y="1676520"/>
            <a:ext cx="19321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5178960"/>
            <a:ext cx="19321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485800" y="5178960"/>
            <a:ext cx="19321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515120" y="5178960"/>
            <a:ext cx="19321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0717-B462-427A-A21E-3F80C4B7A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A6A9-72A9-466E-9357-DEE375A3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9282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31960" y="1676520"/>
            <a:ext cx="29282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5F8A-0B48-4EB4-BF85-AC2B73FF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7F4A-C450-4DC4-85B3-041CB1B9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380520"/>
            <a:ext cx="6000840" cy="41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9643-0A60-4732-B2CA-8A0813F0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31960" y="1676520"/>
            <a:ext cx="29282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517896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752E-DCEF-4F15-9759-82F6AD7C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9282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31960" y="167652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31960" y="517896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20E9-4A4A-4207-B036-A36C42B9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31960" y="167652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5178960"/>
            <a:ext cx="60008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751D-7CBB-4BC2-B004-99410016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371600"/>
            <a:ext cx="5969160" cy="1461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8458200"/>
            <a:ext cx="594360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8534520"/>
            <a:ext cx="14860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343240" y="8534520"/>
            <a:ext cx="217152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914720" y="8610120"/>
            <a:ext cx="148572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F2CF-C11E-4262-86EB-222CCB66C8E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4440" y="132084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AD81-C352-4E79-A0D3-62B51DFF370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4440" y="3192480"/>
            <a:ext cx="5829120" cy="1461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14440" y="132084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-Shell with Functi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37720" y="4571640"/>
            <a:ext cx="5505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lindo da Sil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rlindo.daSilva@nasa.g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ovember 200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32448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hell 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echo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verbo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verbos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ch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variables and the rela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-v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-x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command line options can be  used  to  help  trace  the actions  of  the 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nce the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command does not recognize lines of the 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will need to explicit set the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ch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verbos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shell variables to obtain the desired echoing of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cs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commands as they are execu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5105520"/>
            <a:ext cx="5029200" cy="3682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#!/bin/csh -f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served variabl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following variables are used internally and should be considered as reserv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ARG___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ARGV___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ARGC___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FILE___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NAME___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RC___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tyle Gu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000840" cy="67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cause the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command works on the same name space as the calling script, care should be taken to avoid clobbering shell variab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 particular, the implementation of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named argument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creates variables with the same name as the arguments, for examp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create variable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$name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ich will be set to “World” after this function invoc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5257800"/>
            <a:ext cx="5029200" cy="19288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#!/bin/c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Use Functions.c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Sub hello ( name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echo "Hello, $name!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\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Call hello Wor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tyle Guide, cont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avoid this side effect, add underscore to the end of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input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variab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ariable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$name_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still be created but if one reserves this name convention for argument variables no conflict will aris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3124080"/>
            <a:ext cx="5029200" cy="19288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#!/bin/c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Use Functions.c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Sub hello ( name_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echo "Hello, $name_!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\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Call hello Wor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tyle Guide, cont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rguments are passed by value, in the sense that a function argument variable is never modifi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ever, one can pass a variable name and have the script set this variable with the desired resul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s a convention we prefix the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outpu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rgument expected to contain a variable name with an underscor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4724280"/>
            <a:ext cx="5029200" cy="22219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ff"/>
                </a:solidFill>
                <a:latin typeface="Courier New"/>
              </a:rPr>
              <a:t>#!/bin/c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ff"/>
                </a:solidFill>
                <a:latin typeface="Courier New"/>
              </a:rPr>
              <a:t>Use Functions.c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ff"/>
                </a:solidFill>
                <a:latin typeface="Courier New"/>
              </a:rPr>
              <a:t>Sub add ( first_, second_, _result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cc00ff"/>
                </a:solidFill>
                <a:latin typeface="Courier New"/>
              </a:rPr>
              <a:t>@ result_ = $first_ + $second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cc00ff"/>
                </a:solidFill>
                <a:latin typeface="Courier New"/>
              </a:rPr>
              <a:t>set $_result = $result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ff"/>
                </a:solidFill>
                <a:latin typeface="Courier New"/>
              </a:rPr>
              <a:t>\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cc00ff"/>
                </a:solidFill>
                <a:latin typeface="Courier New"/>
              </a:rPr>
              <a:t>Call add(3,5,resul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cc00ff"/>
                </a:solidFill>
                <a:latin typeface="Courier New"/>
              </a:rPr>
              <a:t>echo “Result is $resul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long with the main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sourceabl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fil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Functions.cs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ou will find a some example/test co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utFunctions.csm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module file with function defini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utFunctions.cs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dri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next slides reproduce some of these examp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ample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6000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mple function passing unnamed arguments; there is no automatic exiting since </a:t>
            </a:r>
            <a:r>
              <a:rPr b="1" i="1" lang="en-US" sz="2600" spc="-1" strike="noStrike">
                <a:solidFill>
                  <a:srgbClr val="000000"/>
                </a:solidFill>
                <a:latin typeface="Verdana"/>
              </a:rPr>
              <a:t>Verify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is not set by defaul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343400"/>
            <a:ext cx="5924520" cy="20574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Call Hello 'World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if ( $status ) \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echo "Function &lt;Hello&gt; returned $status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llo, Worl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ot unamed argument 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ion &lt;Hello&gt; returned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functions" descr=""/>
          <p:cNvPicPr/>
          <p:nvPr/>
        </p:nvPicPr>
        <p:blipFill>
          <a:blip r:embed="rId2"/>
          <a:srcRect l="0" t="0" r="43222" b="76269"/>
          <a:stretch/>
        </p:blipFill>
        <p:spPr>
          <a:xfrm>
            <a:off x="1219320" y="6934320"/>
            <a:ext cx="42670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ample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6000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gular </a:t>
            </a:r>
            <a:r>
              <a:rPr b="1" lang="en-US" sz="3000" spc="-1" strike="noStrike">
                <a:solidFill>
                  <a:srgbClr val="0066ff"/>
                </a:solidFill>
                <a:latin typeface="Courier New"/>
              </a:rPr>
              <a:t>Call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; arguments must be simple words, no str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3429000"/>
            <a:ext cx="5924520" cy="29718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set first = "arlindo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set times =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Call Say ( $first, maryland, 301-592-0303, dasilva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echo "Variable times now has value $times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guments in reversed order: dasilva 301-592-0303 maryland arli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riable times now has value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functions" descr=""/>
          <p:cNvPicPr/>
          <p:nvPr/>
        </p:nvPicPr>
        <p:blipFill>
          <a:blip r:embed="rId2"/>
          <a:srcRect l="0" t="23736" r="1254" b="52532"/>
          <a:stretch/>
        </p:blipFill>
        <p:spPr>
          <a:xfrm>
            <a:off x="228600" y="6858000"/>
            <a:ext cx="63244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ample 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6000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aked </a:t>
            </a:r>
            <a:r>
              <a:rPr b="1" lang="en-US" sz="3000" spc="-1" strike="noStrike">
                <a:solidFill>
                  <a:srgbClr val="0066ff"/>
                </a:solidFill>
                <a:latin typeface="Courier New"/>
              </a:rPr>
              <a:t>Call_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; arguments can be strings, global variable </a:t>
            </a:r>
            <a:r>
              <a:rPr b="0" i="1" lang="en-US" sz="3000" spc="-1" strike="noStrike">
                <a:solidFill>
                  <a:srgbClr val="0066ff"/>
                </a:solidFill>
                <a:latin typeface="Verdana"/>
              </a:rPr>
              <a:t>something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res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3429000"/>
            <a:ext cx="5924520" cy="29718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set something = "set in &lt;main&gt;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Call_ Entry 'Arlindo Moraes da Silva'  \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'212 Whitmoor Terrace' '29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echo "Variable 'something' $something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ll name: Arlindo Moraes da Sil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: 212 Whitmoor Terr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ge: 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riable 'something' set by function &lt;Examp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functions" descr=""/>
          <p:cNvPicPr/>
          <p:nvPr/>
        </p:nvPicPr>
        <p:blipFill>
          <a:blip r:embed="rId2"/>
          <a:srcRect l="0" t="48323" r="1254" b="23810"/>
          <a:stretch/>
        </p:blipFill>
        <p:spPr>
          <a:xfrm>
            <a:off x="380880" y="7086600"/>
            <a:ext cx="63248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ample 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6000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Courier New"/>
              </a:rPr>
              <a:t>Ru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function as script; global variable </a:t>
            </a:r>
            <a:r>
              <a:rPr b="0" i="1" lang="en-US" sz="3000" spc="-1" strike="noStrike">
                <a:solidFill>
                  <a:srgbClr val="0066ff"/>
                </a:solidFill>
                <a:latin typeface="Verdana"/>
              </a:rPr>
              <a:t>something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s not reset in this ca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3429000"/>
            <a:ext cx="5924520" cy="29718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set something = "set in &lt;main&gt;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Run Entry 'Arlindo Moraes da Silva'  \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'212 Whitmoor Terrace' '29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echo "Variable 'something' $something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ll name: Arlindo Moraes da Sil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: 212 Whitmoor Terr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ge: 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riable 'something' set by function &lt;mai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functions" descr=""/>
          <p:cNvPicPr/>
          <p:nvPr/>
        </p:nvPicPr>
        <p:blipFill>
          <a:blip r:embed="rId2"/>
          <a:srcRect l="0" t="48323" r="1254" b="23810"/>
          <a:stretch/>
        </p:blipFill>
        <p:spPr>
          <a:xfrm>
            <a:off x="380880" y="7086600"/>
            <a:ext cx="63248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asic Functional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lementatio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vailable Keywor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yle Gui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ssing arguments by refer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ample 5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6000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assing arguments by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refere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3429000"/>
            <a:ext cx="5924520" cy="16765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Call Add ( 3, 5, result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echo "Result is $result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sult is 8</a:t>
            </a: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functions" descr=""/>
          <p:cNvPicPr/>
          <p:nvPr/>
        </p:nvPicPr>
        <p:blipFill>
          <a:blip r:embed="rId2"/>
          <a:srcRect l="0" t="76194" r="1254" b="-2419"/>
          <a:stretch/>
        </p:blipFill>
        <p:spPr>
          <a:xfrm>
            <a:off x="380880" y="5867280"/>
            <a:ext cx="63248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ample 6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6000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mulating error condition with 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Verify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3429000"/>
            <a:ext cx="5924520" cy="19810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set Verif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Call Alo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: function &lt;Aloha&gt; not def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: aborting &lt;Aloha&gt; with rc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simple mechanism has been presented for introducing user defined functions in the C-She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though encapsulation is now possible, there are still serious limitations in the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cs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hat makes it not recommended for medium to high complexity scrip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erl, python or even bash/ksh are much better cho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ever, the encapsulation afforded here can be the first step towards conversion of a large script to another langu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14440" y="132084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unctions.csh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085400" y="4571640"/>
            <a:ext cx="5257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urce code on 11/28/2006 follows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unction.csh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Short-hand to make fortran/perl programmers happ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Syntax:  Use module_na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Example: Use utFunc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Module files are required to have extension ".csm"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but the extension is not required in the module na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</a:rPr>
              <a:t>alias U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'set FILE___ = "\!*"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"$FILE___:e" != "csm" ) set FILE___ = $FILE___.csm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ARG___ = `which $FILE___`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RC___ = $status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$RC___ ) then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cho "error: cannot find module $FILE___"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ource $ARG___[1]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RC___ = $status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if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$?Verify &amp;&amp; $RC___ ) then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cho "error: aborting &lt;Use&gt; with rc = $RC___"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it $RC___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if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tatus = $RC___'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unction.csh, cont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Sub declaration: un-quoted here documents save to tmp fi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</a:rPr>
              <a:t>alias Sub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'set ARGV___ = (`echo "\!*"|sed -e "s/(//g" -e "s/)//g" -e "s/,/ /g"`)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AME___=$ARGV___[1]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hift ARGV___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cho "# Auto-generated by Functions.csh" &gt; $TMPDIR/.cshFunctions.$$.$NAME___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mod +x $TMPDIR/.cshFunctions.$$.$NAME___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cho "shift" &gt;&gt; $TMPDIR/.cshFunctions.$$.$NAME___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ARGC___ = 1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ARG___ ( $ARGV___ )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cho "set $ARG___ =" \"{\$}argv\[$ARGC___\]\" &gt;&gt; $TMPDIR/.cshFunctions.$$.$NAME___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@ ARGC___++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t &lt;&lt;\end&gt;&gt;$TMPDIR/.cshFunctions.$$.$NAME___'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unction.csh, cont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# Function call of the form: Call function ( arg1, arg2, ... 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</a:rPr>
              <a:t>alias Ca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'set ARGV___ = (`echo "\!*"|sed -e "s/(//g" -e "s/)//g" -e "s/,/ /g"`)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AME___=$ARGV___[1]; set FILE___ = "$TMPDIR/.cshFunctions.$$.$NAME___"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$?Trace ) echo "---------------&gt; Entering &lt;$NAME___&gt;"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-e $FILE___ ) then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ource $FILE___ $ARGV___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RC___ = $status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cho "error: function &lt;$NAME___&gt; not defined"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RC___ = 1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if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$?Verify &amp;&amp; $RC___ ) then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cho "error: aborting &lt;$NAME___&gt; with rc = $RC___"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bin/rm -rf $TMPDIR/.cshFunctions.$$.*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it $RC___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if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tatus = $RC___'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unction.csh, cont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Naked function call: Call_ function  arg1 arg2  ... argn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</a:rPr>
              <a:t>alias Call_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'set ARGV___ = ( \!* ); set NAME___ = "$ARGV___[1]"; set FILE___ = "$TMPDIR/.cshFunctions.$$.$NAME___"; if ( -e $FILE___ ) source $FILE___ \!*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RC___ = $status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$?Trace ) echo "---------------&gt; Entering &lt;$NAME___&gt;"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! -e $FILE___ ) then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cho "error: function &lt;$NAME___&gt; not defined"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RC___ = 1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if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$?Verify &amp;&amp; $RC___ ) then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cho "error: aborting &lt;$NAME___&gt; with rc = $RC___"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bin/rm -rf $TMPDIR/.cshFunctions.$$.*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it $RC___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if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tatus = $RC___'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unction.csh, cont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Run: Like Call_ but run function as a separate shell scrip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This is useful to preserve your name spa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alias Ru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'set ARGV___ = ( \!* ); set NAME___ = "$ARGV___[1]"; set FILE___ = "$TMPDIR/.cshFunctions.$$.$NAME___"; if ( -e $FILE___ ) $FILE___ \!*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t RC___ = $status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( $?Trace ) echo "---------------&gt; Entering &lt;$NAME___&gt;"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( ! -e $FILE___ ) then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cho "error: function &lt;$NAME___&gt; not defined"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t RC___ = 1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if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( $?Verify &amp;&amp; $RC___ ) then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cho "error: aborting &lt;$NAME___&gt; with rc = $RC___"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bin/rm -rf $TMPDIR/.cshFunctions.$$.*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xit $RC___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if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t status = $RC___'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Verify status, sort of like GEOS-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--------------------------------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alias Verify_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'if ( $status ) exit $status'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Delete temp files: Clean [all]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----------------------------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alias Clea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'if ( "\!*" == "all" ) then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bin/rm -rf $TMPDIR/.cshFunctions.*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bin/rm -rf $TMPDIR/.cshFunctions.$$.*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if'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tiv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dern Unix shells such as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as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ks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permit definition of user defined functions at the top of the file,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e.g.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oth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csh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tcs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lack this feature which makes any kind of encapsulation very difficul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ever, one can simulate this functionality within the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cs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y a combination of the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lia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source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3276720"/>
            <a:ext cx="5029200" cy="20372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#!/bin/b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hello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echo "Hello, $1!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hello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asic Functiona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sourceabl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file </a:t>
            </a:r>
            <a:r>
              <a:rPr b="1" lang="en-US" sz="3000" spc="-1" strike="noStrike">
                <a:solidFill>
                  <a:srgbClr val="0066ff"/>
                </a:solidFill>
                <a:latin typeface="Courier New"/>
              </a:rPr>
              <a:t>Functions.csh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defines the relevant aliases and must be included at the top of the user co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s in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bash/ksh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functions are defined at the top of the file with the keywords </a:t>
            </a:r>
            <a:r>
              <a:rPr b="1" lang="en-US" sz="3000" spc="-1" strike="noStrike">
                <a:solidFill>
                  <a:srgbClr val="0066ff"/>
                </a:solidFill>
                <a:latin typeface="Courier New"/>
              </a:rPr>
              <a:t>Sub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3000" spc="-1" strike="noStrike">
                <a:solidFill>
                  <a:srgbClr val="0066ff"/>
                </a:solidFill>
                <a:latin typeface="Courier New"/>
              </a:rPr>
              <a:t>/end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5943600"/>
            <a:ext cx="5029200" cy="2454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#!/bin/c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Use Functions.c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Sub 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echo "Hello, $1!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\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Call hello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ation Overvie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 each function, all code between </a:t>
            </a: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Sub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\en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re written to a temporary script file with the function name as part of the file na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nctions are invoked with the keyword </a:t>
            </a: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Cal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which in turn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source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his temporary file passing the specified paramet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addition to the usual </a:t>
            </a:r>
            <a:r>
              <a:rPr b="0" lang="en-US" sz="2200" spc="-1" strike="noStrike">
                <a:solidFill>
                  <a:srgbClr val="0066ff"/>
                </a:solidFill>
                <a:latin typeface="Verdana"/>
              </a:rPr>
              <a:t>$1, $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 … arguments one can also define named argum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nctions can also be </a:t>
            </a:r>
            <a:r>
              <a:rPr b="1" lang="en-US" sz="2200" spc="-1" strike="noStrike">
                <a:solidFill>
                  <a:srgbClr val="0066ff"/>
                </a:solidFill>
                <a:latin typeface="Courier New"/>
              </a:rPr>
              <a:t>Ru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in which case the corresponding script is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xecut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nstead of being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sourc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ful to avoid clobbering local variabl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le Keyword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Us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s the first occurrence of file “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module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sm” on your pat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ule files usually contain function defini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ule files must have extension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.cs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Sub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rg1, arg2,…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a new function named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named argument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arg1, arg2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., are option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ne call always use </a:t>
            </a:r>
            <a:r>
              <a:rPr b="0" lang="en-US" sz="2100" spc="-1" strike="noStrike">
                <a:solidFill>
                  <a:srgbClr val="0066ff"/>
                </a:solidFill>
                <a:latin typeface="Verdana"/>
              </a:rPr>
              <a:t>$1, $2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hen present, code fragment is automatically generated with the assignment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Courier New"/>
              </a:rPr>
              <a:t>Set arg1 = $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Courier New"/>
              </a:rPr>
              <a:t>Set arg2 = $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tice that when using </a:t>
            </a:r>
            <a:r>
              <a:rPr b="1" lang="en-US" sz="2100" spc="-1" strike="noStrike">
                <a:solidFill>
                  <a:srgbClr val="0066ff"/>
                </a:solidFill>
                <a:latin typeface="Courier New"/>
              </a:rPr>
              <a:t>Call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there is only one name spa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eywords, cont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Cal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name ( arg1, arg2, …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okes a function by sourcing the corresponding temporary script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renthesis and commas are optional and stripped out when pres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urrent implementation is dumb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arguments must be simple words with no spac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ll arguments are passed by value, but one can simulate references by passing the name of a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csh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variabl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Call_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name arg1 arg2 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ike </a:t>
            </a:r>
            <a:r>
              <a:rPr b="1" lang="en-US" sz="2200" spc="-1" strike="noStrike">
                <a:solidFill>
                  <a:srgbClr val="0066ff"/>
                </a:solidFill>
                <a:latin typeface="Courier New"/>
              </a:rPr>
              <a:t>Cal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ut without parenthesis and comm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rguments can be str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eywords, cont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Ru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name arg1 arg2 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ike </a:t>
            </a:r>
            <a:r>
              <a:rPr b="1" lang="en-US" sz="2200" spc="-1" strike="noStrike">
                <a:solidFill>
                  <a:srgbClr val="0066ff"/>
                </a:solidFill>
                <a:latin typeface="Courier New"/>
              </a:rPr>
              <a:t>Call_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ut in this case the temporary script file is run as an external scrip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re is no good way to return variables in this c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nce the script runs on its own name space, there is not danger of clobbering shell variab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Cl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eans up temporary script fi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n be used to erase the internal “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function table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is a good idea to execute this alias at the end of your main scrip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alias is automatically run when the shell variabl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erif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set and the function returns a non-zero statu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rror trapp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Courier New"/>
              </a:rPr>
              <a:t>Verif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 this variable for automatic error handl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 function is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calle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u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and returns a non-zero error code, your calling script will exit with the same error code when this variable is se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ias </a:t>
            </a:r>
            <a:r>
              <a:rPr b="1" lang="en-US" sz="2300" spc="-1" strike="noStrike">
                <a:solidFill>
                  <a:srgbClr val="0066ff"/>
                </a:solidFill>
                <a:latin typeface="Courier New"/>
              </a:rPr>
              <a:t>Clear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will be executed prior to an abnormal exit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go back to the default behavior by unsetting </a:t>
            </a: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Verif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01:51:16Z</dcterms:created>
  <dc:creator>mc</dc:creator>
  <dc:description/>
  <dc:language>en-US</dc:language>
  <cp:lastModifiedBy>dasilva</cp:lastModifiedBy>
  <dcterms:modified xsi:type="dcterms:W3CDTF">2006-11-28T19:41:44Z</dcterms:modified>
  <cp:revision>86</cp:revision>
  <dc:subject/>
  <dc:title>Working group 2: Modeling and data assimilation Interim report</dc:title>
</cp:coreProperties>
</file>