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02F-A414-401C-A105-06D2CAA0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748-C0F8-40C4-9C5B-14453C6F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DDF-CB17-4C96-9070-8A5A0ECC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8E4-E3F6-466F-8167-006E17CA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F8A2-DB8C-4E7D-9AF4-D1561FA1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4FB-2E5A-412D-AA59-764A958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08F-2DAC-425C-B908-F431E8F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F10-BB63-4FE9-ADA4-004F7E13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B85-3BA4-49CB-BA55-C5BEE1E6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64A-6C27-49B3-B79D-464D940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4E6D-7504-402F-A52A-FAB589A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A8F-5D20-44F1-A5A6-E4ADBAEB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76C-6840-4A8F-BD00-874135A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848-4055-4F34-9655-EB88ADF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BD7-8610-400A-B5AC-6249D88D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95F-3C62-4717-8C0B-9D687018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05D-DD7F-4576-88B2-53315F33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0BF-3C2B-46AE-9304-3C61240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0A8-10F1-4940-A358-3C5A294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6A2-08BC-4714-8960-931965A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2AA-E9E1-438A-B23D-6033B1D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0A0-CE2F-4D5C-9E41-65646C6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EF9-65C9-4B85-9368-20A589D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F87-C85C-49DB-A058-5C4482A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596916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4582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8534520"/>
            <a:ext cx="148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34520"/>
            <a:ext cx="21715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4857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C73-3234-4596-9783-5AD17909D3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807-AD45-4CF8-B3D3-8DDE6CDE0C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3192480"/>
            <a:ext cx="582912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-Shell with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4571640"/>
            <a:ext cx="550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lindo da Sil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lindo.daSilva@nasa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3244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ll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bo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ariables and the rela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line options can be  used  to  help  trace  the actions  of  the 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does not recognize lines of the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will need to explicit set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hell variables to obtain the desired echoing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s as they are execu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502920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 -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erved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variables are used internally and should be considered as reser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V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IL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NAM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0084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works on the same name space as the calling script, care should be taken to avoid clobbering shell variab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particular, the implementation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d argumen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reates variables with the same name as the arguments, for exam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create variabl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$nam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will be set to “World” after this function invo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25780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avoid this side effect, add underscore to the end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name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still be created but if one reserves this name convention for argument variables no conflict will ar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12408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_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_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guments are passed by value, in the sense that a function argument variable is never mod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pass a variable name and have the script set this variable with the desired resu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onvention we prefix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gument expected to contain a variable name with an unders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724280"/>
            <a:ext cx="5029200" cy="2221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ub add ( first_, second_, _resul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@ result_ = $first_ + $second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et $_result = $result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Call add(3,5,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echo “Result is $resul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ong with the ma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ill find a some example/tes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odule file with function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dr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xt slides reproduce some of these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ple function passing unnamed arguments; there is no automatic exiting since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not set by defa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343400"/>
            <a:ext cx="592452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Hello 'World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if ( $status )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echo "Function &lt;Hello&gt; returned $statu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 unamed argument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&lt;Hello&gt; returned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functions" descr=""/>
          <p:cNvPicPr/>
          <p:nvPr/>
        </p:nvPicPr>
        <p:blipFill>
          <a:blip r:embed="rId2"/>
          <a:srcRect l="0" t="0" r="43222" b="76269"/>
          <a:stretch/>
        </p:blipFill>
        <p:spPr>
          <a:xfrm>
            <a:off x="1219320" y="693432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r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must be simple words, no str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first = "arlind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times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Say ( $first, maryland, 301-592-0303, dasilva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times now has value $tim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uments in reversed order: dasilva 301-592-0303 maryland arli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times now has valu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unctions" descr=""/>
          <p:cNvPicPr/>
          <p:nvPr/>
        </p:nvPicPr>
        <p:blipFill>
          <a:blip r:embed="rId2"/>
          <a:srcRect l="0" t="23736" r="1254" b="52532"/>
          <a:stretch/>
        </p:blipFill>
        <p:spPr>
          <a:xfrm>
            <a:off x="228600" y="6858000"/>
            <a:ext cx="632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ke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can be strings,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_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Examp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 as script;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reset in this c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Run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mai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ssing arguments by re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ssing arguments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429000"/>
            <a:ext cx="5924520" cy="1676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dd ( 3, 5, resul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Result is $resul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is 8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unctions" descr=""/>
          <p:cNvPicPr/>
          <p:nvPr/>
        </p:nvPicPr>
        <p:blipFill>
          <a:blip r:embed="rId2"/>
          <a:srcRect l="0" t="76194" r="1254" b="-2419"/>
          <a:stretch/>
        </p:blipFill>
        <p:spPr>
          <a:xfrm>
            <a:off x="380880" y="5867280"/>
            <a:ext cx="6324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ting error condition with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429000"/>
            <a:ext cx="592452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Ver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lo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function &lt;Aloha&gt;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aborting &lt;Aloha&gt; with rc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imple mechanism has been presented for introducing user defined functions in the C-Sh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hough encapsulation is now possible, there are still serious limitations 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at makes it not recommended for medium to high complexity scrip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, python or even bash/ksh are much better cho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encapsulation afforded here can be the first step towards conversion of a large script to another langu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nctions.cs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code on 11/28/2006 follow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hort-hand to make fortran/perl programmers hap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yntax:  Use module_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Example: Use utFu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dule files are required to have extension ".csm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but the extension is not required in the module n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FILE___ = "\!*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"$FILE___:e" != "csm" ) set FILE___ = $FILE___.csm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___ = `which $FILE___`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cannot find module $FIL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ARG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Use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ub declaration: un-quoted here documents save to tmp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ift 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# Auto-generated by Functions.csh" 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mod +x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hift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ARG___ ( $ARGV___ 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et $ARG___ =" \"{\$}argv\[$ARGC___\]\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@ ARGC___++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 &lt;&lt;\end&gt;&gt;$TMPDIR/.cshFunctions.$$.$NAME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# Function call of the form: Call function ( arg1, arg2, ... 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; set FILE___ = "$TMPDIR/.cshFunctions.$$.$NAM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FILE___ $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Naked function call: Call_ function  arg1 arg2  ... arg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_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source $FILE___ \!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un: Like Call_ but run function as a separate shell scri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This is useful to preserve your name spa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Ru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$FILE___ \!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Verify status, sort of like GEOS-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Verify_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'if ( $status ) exit $status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lete temp files: Clean [all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Clea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if ( "\!*" == "all"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rn Unix shells 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a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mit definition of user defined functions at the top of the fil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.g.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ack this feature which makes any kind of encapsulation very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simulate this functionality with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y a combination of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l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276720"/>
            <a:ext cx="5029200" cy="2037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fines the relevant aliases and must be included at the top of the user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ash/k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s are defined at the top of the file with the keywords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/e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943600"/>
            <a:ext cx="5029200" cy="2454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Sub 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function, all code between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\e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written to a temporary script file with the function name as part of the file n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ctions are invoked with the keywor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hich in tur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s temporary file passing the specified param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 to the usual </a:t>
            </a:r>
            <a:r>
              <a:rPr b="0" lang="en-US" sz="22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… arguments one can also define named arg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ctions can also b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case the corresponding scrip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stead of be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urc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ful to avoid clobbering local vari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s the first occurrence of file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dul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sm” on your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usually contain function defin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must have extensi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.c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g1, arg2,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a new function nam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amed argum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rg1, arg2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, are op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e call always use </a:t>
            </a:r>
            <a:r>
              <a:rPr b="0" lang="en-US" sz="21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present, code fragment is automatically generated with the assign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1 = $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2 = $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ice that when using 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here is only one name sp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( arg1, arg2, 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kes a function by sourcing the corresponding temporary script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 and commas are optional and stripped out when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rrent implementation is dum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arguments must be simple words with no spa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arguments are passed by value, but one can simulate references by passing the name of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without parenthesis and com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guments can b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in this case the temporary script file is run as an external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good way to return variables in this c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the script runs on its own name space, there is not danger of clobbering shell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ans up temporary script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used to erase the internal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unction tabl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 good idea to execute this alias at the end of your main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alias is automatically run when the shell variabl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set and the function returns a non-zero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ror trap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this variable for automatic error hand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func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all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nd returns a non-zero error code, your calling script will exit with the same error code when this variable is 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ias </a:t>
            </a:r>
            <a:r>
              <a:rPr b="1" lang="en-US" sz="2300" spc="-1" strike="noStrike">
                <a:solidFill>
                  <a:srgbClr val="0066ff"/>
                </a:solidFill>
                <a:latin typeface="Courier New"/>
              </a:rPr>
              <a:t>Clea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ill be executed prior to an abnormal ex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go back to the default behavior by unsetting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51:16Z</dcterms:created>
  <dc:creator>mc</dc:creator>
  <dc:description/>
  <dc:language>en-US</dc:language>
  <cp:lastModifiedBy>dasilva</cp:lastModifiedBy>
  <dcterms:modified xsi:type="dcterms:W3CDTF">2006-11-28T19:41:44Z</dcterms:modified>
  <cp:revision>86</cp:revision>
  <dc:subject/>
  <dc:title>Working group 2: Modeling and data assimilation Interim report</dc:title>
</cp:coreProperties>
</file>