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16B9E-A25A-4A34-AFEC-07F020278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FE425-3175-4F14-9062-C2F431AAE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09227-BD71-4790-8A6A-B6D538115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0D080-F364-4565-ABEC-455861C09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914BA-F639-4F13-9261-2E93A43F2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74491-7B57-45AD-96DA-3981A67A0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DCF91-20AF-43FF-8AD1-CD5D480E1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63FCE-6252-4681-A996-DACE3E9EB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86984-B06B-420F-A037-BB3F2FD0E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24323-D62B-4FBE-992E-4D14EDA5B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8BC63-9D51-4D44-B301-EB0C644E1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7425A-79E6-4A8A-A0AE-CDA03B073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A02DA-A599-43C7-A757-0F2EE0359D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sbml.sourceforge.net/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jsbml.sourceforge.net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SBML Java™ libr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5" descr="jsbml-logo-large"/>
          <p:cNvPicPr/>
          <p:nvPr/>
        </p:nvPicPr>
        <p:blipFill>
          <a:blip r:embed="rId1"/>
          <a:stretch/>
        </p:blipFill>
        <p:spPr>
          <a:xfrm>
            <a:off x="2678040" y="1989000"/>
            <a:ext cx="3954600" cy="14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Hist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ject started in September 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jsbml.sourceforge.net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urrent main developers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icolas Rodriguez</a:t>
            </a:r>
            <a:r>
              <a:rPr b="0" lang="en-GB" sz="16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as Dräger</a:t>
            </a:r>
            <a:r>
              <a:rPr b="0" lang="en-GB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baseline="30000">
                <a:solidFill>
                  <a:srgbClr val="000000"/>
                </a:solidFill>
                <a:latin typeface="Arial"/>
              </a:rPr>
              <a:t>1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uropean Bioinformatics Institute (EB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nter for Bioinformatics Tuebingen (ZBI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at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bstract Programming Interface as close as possible to the libSBML Java bindings AP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egration of the libSBML java tests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l core functions implemented, need some more work/test on Notes and Annot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dule to use libSBML to read/write the XML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veral project are already using i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blem to open invalid model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To download and build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onsolas"/>
              </a:rPr>
              <a:t>svn co </a:t>
            </a:r>
            <a:r>
              <a:rPr b="0" lang="en-US" sz="1700" spc="-1" strike="noStrike">
                <a:solidFill>
                  <a:srgbClr val="000000"/>
                </a:solidFill>
                <a:latin typeface="Consolas"/>
              </a:rPr>
              <a:t>https://jsbml.svn.sourceforge.net/svnroot/jsbml/trunk jsbml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onsolas"/>
              </a:rPr>
              <a:t>ant ja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yp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hierarch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5" descr="FullTypeHierarchy"/>
          <p:cNvPicPr/>
          <p:nvPr/>
        </p:nvPicPr>
        <p:blipFill>
          <a:blip r:embed="rId1"/>
          <a:stretch/>
        </p:blipFill>
        <p:spPr>
          <a:xfrm>
            <a:off x="12600" y="1500120"/>
            <a:ext cx="9131400" cy="449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539640" y="476280"/>
            <a:ext cx="8229600" cy="54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dd detailled type hierarc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6" descr="SBase_neu"/>
          <p:cNvPicPr/>
          <p:nvPr/>
        </p:nvPicPr>
        <p:blipFill>
          <a:blip r:embed="rId1"/>
          <a:stretch/>
        </p:blipFill>
        <p:spPr>
          <a:xfrm>
            <a:off x="0" y="69840"/>
            <a:ext cx="9144000" cy="6788160"/>
          </a:xfrm>
          <a:prstGeom prst="rect">
            <a:avLst/>
          </a:prstGeom>
          <a:ln w="0">
            <a:noFill/>
          </a:ln>
        </p:spPr>
      </p:pic>
      <p:sp>
        <p:nvSpPr>
          <p:cNvPr id="51" name="Textfeld 5"/>
          <p:cNvSpPr/>
          <p:nvPr/>
        </p:nvSpPr>
        <p:spPr>
          <a:xfrm>
            <a:off x="304920" y="181080"/>
            <a:ext cx="319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king a closer look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oad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sion 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sbml-0.8.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lete support for SBML level  2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rse notes, annotation into </a:t>
            </a: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XMLNod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math elements into </a:t>
            </a: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ASTNod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plement the functions converting </a:t>
            </a: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ASTNod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infix formul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more tests files, both tests from the libSBML java API and some new test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prove the documentatio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sion 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sbml-1.0.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lete support for SBML level 3 (and level 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plementation of the </a:t>
            </a: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getTypeCode()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thod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plementation of the </a:t>
            </a:r>
            <a:r>
              <a:rPr b="0" lang="en-US" sz="1400" spc="-1" strike="noStrike">
                <a:solidFill>
                  <a:srgbClr val="000000"/>
                </a:solidFill>
                <a:latin typeface="Consolas"/>
              </a:rPr>
              <a:t>toSBML()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thod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plement constructor and methods with namespac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plement a libsbml compatibility modu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ve a correct indentation when writing the SBM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hteck 6"/>
          <p:cNvSpPr/>
          <p:nvPr/>
        </p:nvSpPr>
        <p:spPr>
          <a:xfrm>
            <a:off x="428760" y="1500120"/>
            <a:ext cx="828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e will have a release before the end of the yea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probably end of October or during Novemb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55640" y="3068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Thanks</a:t>
            </a:r>
            <a:br>
              <a:rPr sz="4000"/>
            </a:b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jsbml.sourceforge.net/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7"/>
          <p:cNvSpPr/>
          <p:nvPr/>
        </p:nvSpPr>
        <p:spPr>
          <a:xfrm>
            <a:off x="428760" y="784080"/>
            <a:ext cx="3528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icolas Rodriguez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ine Dumousseau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dreas Dräger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emens Wrzodek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exander Dörr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rah M Keating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kiya Jouraku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3,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icolas Le Novèr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dreas Zell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chael Hucka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9"/>
          <p:cNvSpPr/>
          <p:nvPr/>
        </p:nvSpPr>
        <p:spPr>
          <a:xfrm>
            <a:off x="260280" y="5353200"/>
            <a:ext cx="84884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uropean Bioinformatics Institute (EBI), Hinxton, United Kingd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nter for Bioinformatics at the University of Tuebingen (ZBIT), German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eio University, Yokohama and 5National Institute of Agrobiological Sciences, Jap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ifornia Institute of Technology, Pasadena, California, United Sta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1T14:20:19Z</dcterms:created>
  <dc:creator>rodrigue</dc:creator>
  <dc:description/>
  <dc:language>en-US</dc:language>
  <cp:lastModifiedBy>draeger</cp:lastModifiedBy>
  <dcterms:modified xsi:type="dcterms:W3CDTF">2010-10-09T09:10:10Z</dcterms:modified>
  <cp:revision>24</cp:revision>
  <dc:subject/>
  <dc:title>JSBML</dc:title>
</cp:coreProperties>
</file>