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D27-812B-4FC1-AF1D-6154DA91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F197-5C2C-48AE-AD65-936F41B3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C833-59E5-42E7-AF8B-7F424CD6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2C3C-95D1-472E-ADA7-688DAF2C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E6B-B035-45AE-AA78-6C8DC45C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BC5A-14E3-493F-988E-8CECC396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B9C-A109-4940-9583-E67DAD2F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5EF-CCD5-4DEB-B2D1-B7DAA517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F84-8970-4B25-9217-3B4E3E49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3C2-BEEF-4E7B-91FD-AA61D904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CB8-F61D-4491-9E21-7F33AFDE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CA0-A4B7-4705-AA4F-29763AF1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48BC-C40F-4EF4-86A3-29C62DC4C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914400"/>
            <a:ext cx="6934320" cy="48769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9144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51814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45720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1814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15238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9144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27432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5720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3526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33526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27432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533520" y="914040"/>
            <a:ext cx="485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ex: 1 ... N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80920" y="4572000"/>
            <a:ext cx="485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888840"/>
            <a:ext cx="11430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85.8 N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80.3 N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74.7 N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69.2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8.3 N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.8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2.8 S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.3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69.2 S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74.7 S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0.3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5.8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36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ex: 1 ... N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6248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5222520" y="223488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530160" y="407160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530160" y="224280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5282640" y="407160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533520"/>
            <a:ext cx="60984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533520"/>
            <a:ext cx="6094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1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6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37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57200"/>
            <a:ext cx="1143000" cy="57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43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48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54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887400"/>
            <a:ext cx="53352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3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5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9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31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2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6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4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234006</cp:lastModifiedBy>
  <dcterms:modified xsi:type="dcterms:W3CDTF">2009-08-25T08:00:34Z</dcterms:modified>
  <cp:revision>22</cp:revision>
  <dc:subject/>
  <dc:title>PowerPoint Presentation</dc:title>
</cp:coreProperties>
</file>