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F41-12C0-44EB-9FC6-FCEB661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631-2F16-4F6E-836C-512BCB3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8DB-9E3D-49AE-AA3F-D5E4944C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F84-ACF4-4057-8CF5-FCC044E4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393-9C6B-4C73-B250-23A6FDE7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7C2-9CF3-41A4-9E7C-7E654A4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4AD-0715-422F-8F8F-C110F7F3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05C-ED81-4A36-97B9-755C68A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F93-5DE6-4725-8EF9-DB378C46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A4C-8EAE-43B3-AB59-BD3A362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F4D-BF83-4FD2-81D5-D38B8AB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09C-1126-4B83-8A20-EABFC15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1F56-73E6-47D2-8C05-6CE136D6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88884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5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6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7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7.1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7.1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1.5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1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7:58:31Z</dcterms:modified>
  <cp:revision>21</cp:revision>
  <dc:subject/>
  <dc:title>PowerPoint Presentation</dc:title>
</cp:coreProperties>
</file>